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png" ContentType="image/png"/>
  <Override PartName="/ppt/media/image11.png" ContentType="image/png"/>
  <Override PartName="/ppt/media/image9.jpeg" ContentType="image/jpeg"/>
  <Override PartName="/ppt/media/image1.jpeg" ContentType="image/jpeg"/>
  <Override PartName="/ppt/media/image7.png" ContentType="image/png"/>
  <Override PartName="/ppt/media/image15.wmf" ContentType="image/x-wmf"/>
  <Override PartName="/ppt/media/image22.jpeg" ContentType="image/jpeg"/>
  <Override PartName="/ppt/media/image12.wmf" ContentType="image/x-wmf"/>
  <Override PartName="/ppt/media/image28.png" ContentType="image/png"/>
  <Override PartName="/ppt/media/image8.jpeg" ContentType="image/jpeg"/>
  <Override PartName="/ppt/media/image13.wmf" ContentType="image/x-wmf"/>
  <Override PartName="/ppt/media/image27.png" ContentType="image/png"/>
  <Override PartName="/ppt/media/image33.jpeg" ContentType="image/jpeg"/>
  <Override PartName="/ppt/media/image31.jpeg" ContentType="image/jpeg"/>
  <Override PartName="/ppt/media/image4.jpeg" ContentType="image/jpeg"/>
  <Override PartName="/ppt/media/image19.jpeg" ContentType="image/jpeg"/>
  <Override PartName="/ppt/media/image25.png" ContentType="image/png"/>
  <Override PartName="/ppt/media/image6.png" ContentType="image/png"/>
  <Override PartName="/ppt/media/image5.jpeg" ContentType="image/jpeg"/>
  <Override PartName="/ppt/media/image30.png" ContentType="image/png"/>
  <Override PartName="/ppt/media/image3.jpeg" ContentType="image/jpeg"/>
  <Override PartName="/ppt/media/image2.jpeg" ContentType="image/jpeg"/>
  <Override PartName="/ppt/media/image10.jpeg" ContentType="image/jpeg"/>
  <Override PartName="/ppt/media/image14.png" ContentType="image/png"/>
  <Override PartName="/ppt/media/image16.png" ContentType="image/png"/>
  <Override PartName="/ppt/media/image17.jpeg" ContentType="image/jpeg"/>
  <Override PartName="/ppt/media/image26.png" ContentType="image/png"/>
  <Override PartName="/ppt/media/image18.jpeg" ContentType="image/jpeg"/>
  <Override PartName="/ppt/media/image20.jpeg" ContentType="image/jpeg"/>
  <Override PartName="/ppt/media/image21.jpeg" ContentType="image/jpeg"/>
  <Override PartName="/ppt/media/image29.png" ContentType="image/png"/>
  <Override PartName="/ppt/media/image3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8"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move the slide</a:t>
            </a:r>
            <a:endParaRPr b="0" lang="en-US" sz="3200" spc="-1" strike="noStrike">
              <a:solidFill>
                <a:srgbClr val="00007d"/>
              </a:solidFill>
              <a:latin typeface="Verdana"/>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2"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6148-6CE7-4470-8571-7B1A493370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6BF82-91AC-44D3-9A02-F1524D0CAF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C036C-8FD0-407F-9FEF-CD01AFAD4E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CC041-8273-4ECA-8442-2BBFD59EEF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AD88-0432-405A-A956-85E3BD82AC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97018-E4CF-41B3-A2D6-5F0D27669B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B6585E-1128-4D28-AEB4-CABB66F7D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17437-7533-48F6-9D46-9DC6AE7866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F2296DF-ACC0-4535-A107-D6CF7A11C0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768A8-9AAA-4B56-A56A-D0EC9EBF7A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134FB-289E-4389-9F78-6DFAB9BFE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3BB417E-BA0D-4B41-ABF4-6FEBCE72F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BE61-9767-4E8A-B9EF-F69C30F74D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1BFE9A7-795C-4F10-8A2F-EACAAFA0A6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129D3-DF3F-4E1A-A1F2-DB9F2A74F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AF53B-6C74-401F-BA84-95F48558D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09AB-A8D6-42DA-BACF-44A0CBB4DF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2" name="PlaceHolder 1"/>
          <p:cNvSpPr>
            <a:spLocks noGrp="1"/>
          </p:cNvSpPr>
          <p:nvPr>
            <p:ph type="sldImg"/>
          </p:nvPr>
        </p:nvSpPr>
        <p:spPr>
          <a:xfrm>
            <a:off x="114444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7A184C-F458-4354-9091-ACF795DBF5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63423C6-A737-4F3E-8649-723E5AD6BF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362909-AC43-4612-8CEE-915D3A058D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6E084-8F98-4825-9843-09E3AF2C84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1FFE22BE-06B5-4B6A-85E4-FE1B636B44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61609-DDC9-4283-8171-4C87AEB3E5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70441-ED08-4675-B076-CAA1A8C49F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20C1B-EBFA-492B-9054-0EBCBF8CD2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587DC2-E936-4344-AF89-FCA3F10DDFF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B79466-4CED-4757-9463-7DC90BEE90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1CE8178-2784-453C-8982-7AA91236A2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A609B8-D511-4FCE-8C51-A98E1B36BCB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8265DB-DD79-43DE-B6E2-C20AA1838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846D638-5755-48CE-8F65-A448D25E4E8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FD63573-6B61-4292-B0C3-54E9F734EB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7018433-1484-4499-A1D9-061E78897D2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8046A44-1D6D-472E-966C-DA7B1BC5C26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80D47C2-68D9-4014-B9AD-85FC59A973C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99CDEC-D0EE-49F4-99DA-3DA9FDEE0F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C5E119E-939F-493F-B029-74F5DF18C2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429240"/>
            <a:ext cx="2895480" cy="2764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рсонал – Тема 12</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924320" y="6404400"/>
            <a:ext cx="83844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9403-99D3-4517-BD45-9383B9FAFF0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00007d"/>
                </a:gs>
                <a:gs pos="100000">
                  <a:srgbClr val="ffffff"/>
                </a:gs>
              </a:gsLst>
              <a:lin ang="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15"/>
          <p:cNvGrpSpPr/>
          <p:nvPr/>
        </p:nvGrpSpPr>
        <p:grpSpPr>
          <a:xfrm>
            <a:off x="0" y="0"/>
            <a:ext cx="9144000" cy="6858000"/>
            <a:chOff x="0" y="0"/>
            <a:chExt cx="9144000" cy="6858000"/>
          </a:xfrm>
        </p:grpSpPr>
        <p:sp>
          <p:nvSpPr>
            <p:cNvPr id="51" name="Rectangle 16"/>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7"/>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Group 18"/>
            <p:cNvGrpSpPr/>
            <p:nvPr/>
          </p:nvGrpSpPr>
          <p:grpSpPr>
            <a:xfrm>
              <a:off x="0" y="1066680"/>
              <a:ext cx="2867040" cy="3157560"/>
              <a:chOff x="0" y="1066680"/>
              <a:chExt cx="2867040" cy="3157560"/>
            </a:xfrm>
          </p:grpSpPr>
          <p:sp>
            <p:nvSpPr>
              <p:cNvPr id="54" name="Rectangle 19"/>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0"/>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1"/>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22"/>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23"/>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24"/>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5"/>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26"/>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7"/>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8"/>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64" name="Picture 7" descr="2BSLATH"/>
          <p:cNvPicPr/>
          <p:nvPr/>
        </p:nvPicPr>
        <p:blipFill>
          <a:blip r:embed="rId2"/>
          <a:stretch/>
        </p:blipFill>
        <p:spPr>
          <a:xfrm>
            <a:off x="4800600" y="6232680"/>
            <a:ext cx="762120" cy="549000"/>
          </a:xfrm>
          <a:prstGeom prst="rect">
            <a:avLst/>
          </a:prstGeom>
          <a:ln w="0">
            <a:noFill/>
          </a:ln>
        </p:spPr>
      </p:pic>
      <p:pic>
        <p:nvPicPr>
          <p:cNvPr id="65" name="Picture 11" descr="HHS-Logo-blue"/>
          <p:cNvPicPr/>
          <p:nvPr/>
        </p:nvPicPr>
        <p:blipFill>
          <a:blip r:embed="rId3"/>
          <a:stretch/>
        </p:blipFill>
        <p:spPr>
          <a:xfrm>
            <a:off x="4114800" y="6172200"/>
            <a:ext cx="606600" cy="609480"/>
          </a:xfrm>
          <a:prstGeom prst="rect">
            <a:avLst/>
          </a:prstGeom>
          <a:ln w="0">
            <a:noFill/>
          </a:ln>
        </p:spPr>
      </p:pic>
      <p:pic>
        <p:nvPicPr>
          <p:cNvPr id="66" name="Picture 16" descr="WHO-EN-C-H"/>
          <p:cNvPicPr/>
          <p:nvPr/>
        </p:nvPicPr>
        <p:blipFill>
          <a:blip r:embed="rId4"/>
          <a:stretch/>
        </p:blipFill>
        <p:spPr>
          <a:xfrm>
            <a:off x="5715000" y="6221520"/>
            <a:ext cx="1828800" cy="560160"/>
          </a:xfrm>
          <a:prstGeom prst="rect">
            <a:avLst/>
          </a:prstGeom>
          <a:ln w="0">
            <a:noFill/>
          </a:ln>
        </p:spPr>
      </p:pic>
      <p:pic>
        <p:nvPicPr>
          <p:cNvPr id="67" name="Picture 21" descr="CLSI_WHO_Blue_CMYK1"/>
          <p:cNvPicPr/>
          <p:nvPr/>
        </p:nvPicPr>
        <p:blipFill>
          <a:blip r:embed="rId5"/>
          <a:stretch/>
        </p:blipFill>
        <p:spPr>
          <a:xfrm>
            <a:off x="7696080" y="6215040"/>
            <a:ext cx="1219320" cy="566640"/>
          </a:xfrm>
          <a:prstGeom prst="rect">
            <a:avLst/>
          </a:prstGeom>
          <a:ln w="0">
            <a:noFill/>
          </a:ln>
        </p:spPr>
      </p:pic>
      <p:sp>
        <p:nvSpPr>
          <p:cNvPr id="68"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lick to edit the title text format</a:t>
            </a:r>
            <a:endParaRPr b="0" lang="en-US" sz="3200" spc="-1" strike="noStrike">
              <a:solidFill>
                <a:srgbClr val="00007d"/>
              </a:solidFill>
              <a:latin typeface="Verdana"/>
            </a:endParaRPr>
          </a:p>
        </p:txBody>
      </p:sp>
      <p:sp>
        <p:nvSpPr>
          <p:cNvPr id="69"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4.png"/><Relationship Id="rId5" Type="http://schemas.openxmlformats.org/officeDocument/2006/relationships/image" Target="../media/image26.png"/><Relationship Id="rId6" Type="http://schemas.openxmlformats.org/officeDocument/2006/relationships/image" Target="../media/image27.png"/><Relationship Id="rId7" Type="http://schemas.openxmlformats.org/officeDocument/2006/relationships/image" Target="../media/image28.png"/><Relationship Id="rId8" Type="http://schemas.openxmlformats.org/officeDocument/2006/relationships/image" Target="../media/image29.png"/><Relationship Id="rId9" Type="http://schemas.openxmlformats.org/officeDocument/2006/relationships/image" Target="../media/image30.png"/><Relationship Id="rId10" Type="http://schemas.openxmlformats.org/officeDocument/2006/relationships/slideLayout" Target="../slideLayouts/slideLayout1.xml"/><Relationship Id="rId11"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0.png"/><Relationship Id="rId3" Type="http://schemas.openxmlformats.org/officeDocument/2006/relationships/image" Target="../media/image32.wmf"/><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3" name="Group 146"/>
          <p:cNvGrpSpPr/>
          <p:nvPr/>
        </p:nvGrpSpPr>
        <p:grpSpPr>
          <a:xfrm>
            <a:off x="0" y="0"/>
            <a:ext cx="9144000" cy="6858000"/>
            <a:chOff x="0" y="0"/>
            <a:chExt cx="9144000" cy="6858000"/>
          </a:xfrm>
        </p:grpSpPr>
        <p:sp>
          <p:nvSpPr>
            <p:cNvPr id="114" name="Rectangle 147"/>
            <p:cNvSpPr/>
            <p:nvPr/>
          </p:nvSpPr>
          <p:spPr>
            <a:xfrm>
              <a:off x="0" y="0"/>
              <a:ext cx="3505320" cy="6858000"/>
            </a:xfrm>
            <a:prstGeom prst="rect">
              <a:avLst/>
            </a:prstGeom>
            <a:gradFill rotWithShape="0">
              <a:gsLst>
                <a:gs pos="0">
                  <a:srgbClr val="cccce6"/>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Rectangle 148"/>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49"/>
            <p:cNvGrpSpPr/>
            <p:nvPr/>
          </p:nvGrpSpPr>
          <p:grpSpPr>
            <a:xfrm>
              <a:off x="0" y="1066680"/>
              <a:ext cx="2867040" cy="3157560"/>
              <a:chOff x="0" y="1066680"/>
              <a:chExt cx="2867040" cy="3157560"/>
            </a:xfrm>
          </p:grpSpPr>
          <p:sp>
            <p:nvSpPr>
              <p:cNvPr id="117" name="Rectangle 150"/>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151"/>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52"/>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53"/>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54"/>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55"/>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Rectangle 156"/>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Rectangle 157"/>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58"/>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159"/>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7" name="Text Box 160"/>
          <p:cNvSpPr/>
          <p:nvPr/>
        </p:nvSpPr>
        <p:spPr>
          <a:xfrm>
            <a:off x="2743200" y="2362320"/>
            <a:ext cx="5943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Verdana"/>
              </a:rPr>
              <a:t>Персонал</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53076-E2B6-4604-91B9-44BDB49B87C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51" name="Rectangle 3"/>
          <p:cNvSpPr/>
          <p:nvPr/>
        </p:nvSpPr>
        <p:spPr>
          <a:xfrm>
            <a:off x="380880" y="3429000"/>
            <a:ext cx="3429000" cy="64260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99"/>
                </a:solidFill>
                <a:latin typeface="Verdana"/>
              </a:rPr>
              <a:t>Инструктаж</a:t>
            </a:r>
            <a:endParaRPr b="0" lang="en-US" sz="3600" spc="-1" strike="noStrike">
              <a:solidFill>
                <a:srgbClr val="000000"/>
              </a:solidFill>
              <a:latin typeface="Arial"/>
            </a:endParaRPr>
          </a:p>
        </p:txBody>
      </p:sp>
      <p:sp>
        <p:nvSpPr>
          <p:cNvPr id="252" name="AutoShape 11"/>
          <p:cNvSpPr/>
          <p:nvPr/>
        </p:nvSpPr>
        <p:spPr>
          <a:xfrm rot="5400000">
            <a:off x="1218960" y="1676160"/>
            <a:ext cx="1676520" cy="1524240"/>
          </a:xfrm>
          <a:custGeom>
            <a:avLst/>
            <a:gdLst>
              <a:gd name="textAreaLeft" fmla="*/ 261720 w 1676520"/>
              <a:gd name="textAreaRight" fmla="*/ 1467000 w 1676520"/>
              <a:gd name="textAreaTop" fmla="*/ 380880 h 1524240"/>
              <a:gd name="textAreaBottom" fmla="*/ 1143360 h 15242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3" name="Text Box 3"/>
          <p:cNvSpPr/>
          <p:nvPr/>
        </p:nvSpPr>
        <p:spPr>
          <a:xfrm>
            <a:off x="3848040" y="4921200"/>
            <a:ext cx="35053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ценка компетенции</a:t>
            </a:r>
            <a:endParaRPr b="0" lang="en-US" sz="1600" spc="-1" strike="noStrike">
              <a:solidFill>
                <a:srgbClr val="000000"/>
              </a:solidFill>
              <a:latin typeface="Arial"/>
            </a:endParaRPr>
          </a:p>
        </p:txBody>
      </p:sp>
      <p:sp>
        <p:nvSpPr>
          <p:cNvPr id="254" name="AutoShape 11"/>
          <p:cNvSpPr/>
          <p:nvPr/>
        </p:nvSpPr>
        <p:spPr>
          <a:xfrm rot="5400000">
            <a:off x="5409720" y="3200040"/>
            <a:ext cx="380880" cy="838440"/>
          </a:xfrm>
          <a:custGeom>
            <a:avLst/>
            <a:gdLst>
              <a:gd name="textAreaLeft" fmla="*/ 59400 w 380880"/>
              <a:gd name="textAreaRight" fmla="*/ 333360 w 380880"/>
              <a:gd name="textAreaTop" fmla="*/ 209520 h 838440"/>
              <a:gd name="textAreaBottom" fmla="*/ 628920 h 8384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5" name="Text Box 10"/>
          <p:cNvSpPr/>
          <p:nvPr/>
        </p:nvSpPr>
        <p:spPr>
          <a:xfrm>
            <a:off x="4038480" y="3857760"/>
            <a:ext cx="3124440" cy="4827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Обучение выполнению задания</a:t>
            </a:r>
            <a:endParaRPr b="0" lang="en-US" sz="1600" spc="-1" strike="noStrike">
              <a:solidFill>
                <a:srgbClr val="000000"/>
              </a:solidFill>
              <a:latin typeface="Arial"/>
            </a:endParaRPr>
          </a:p>
        </p:txBody>
      </p:sp>
      <p:sp>
        <p:nvSpPr>
          <p:cNvPr id="256" name="Text Box 3"/>
          <p:cNvSpPr/>
          <p:nvPr/>
        </p:nvSpPr>
        <p:spPr>
          <a:xfrm>
            <a:off x="3809880" y="5834160"/>
            <a:ext cx="3581640" cy="337320"/>
          </a:xfrm>
          <a:prstGeom prst="rect">
            <a:avLst/>
          </a:prstGeom>
          <a:no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99"/>
                </a:solidFill>
                <a:latin typeface="Verdana"/>
              </a:rPr>
              <a:t>Признание компетенции</a:t>
            </a:r>
            <a:endParaRPr b="0" lang="en-US" sz="1600" spc="-1" strike="noStrike">
              <a:solidFill>
                <a:srgbClr val="000000"/>
              </a:solidFill>
              <a:latin typeface="Arial"/>
            </a:endParaRPr>
          </a:p>
        </p:txBody>
      </p:sp>
      <p:sp>
        <p:nvSpPr>
          <p:cNvPr id="257" name="AutoShape 11"/>
          <p:cNvSpPr/>
          <p:nvPr/>
        </p:nvSpPr>
        <p:spPr>
          <a:xfrm rot="5400000">
            <a:off x="5349960" y="4213080"/>
            <a:ext cx="501480" cy="914400"/>
          </a:xfrm>
          <a:custGeom>
            <a:avLst/>
            <a:gdLst>
              <a:gd name="textAreaLeft" fmla="*/ 78120 w 501480"/>
              <a:gd name="textAreaRight" fmla="*/ 438840 w 501480"/>
              <a:gd name="textAreaTop" fmla="*/ 228600 h 914400"/>
              <a:gd name="textAreaBottom" fmla="*/ 685800 h 9144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8" name="AutoShape 11"/>
          <p:cNvSpPr/>
          <p:nvPr/>
        </p:nvSpPr>
        <p:spPr>
          <a:xfrm rot="5400000">
            <a:off x="5371560" y="4914720"/>
            <a:ext cx="457200" cy="1143000"/>
          </a:xfrm>
          <a:custGeom>
            <a:avLst/>
            <a:gdLst>
              <a:gd name="textAreaLeft" fmla="*/ 71280 w 457200"/>
              <a:gd name="textAreaRight" fmla="*/ 400320 w 457200"/>
              <a:gd name="textAreaTop" fmla="*/ 285840 h 1143000"/>
              <a:gd name="textAreaBottom" fmla="*/ 857520 h 11430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59" name="Text Box 10"/>
          <p:cNvSpPr/>
          <p:nvPr/>
        </p:nvSpPr>
        <p:spPr>
          <a:xfrm>
            <a:off x="3809880" y="2286000"/>
            <a:ext cx="3581640" cy="947160"/>
          </a:xfrm>
          <a:prstGeom prst="rect">
            <a:avLst/>
          </a:prstGeom>
          <a:solidFill>
            <a:srgbClr val="ffff00"/>
          </a:solidFill>
          <a:ln w="57240">
            <a:solidFill>
              <a:srgbClr val="00007d"/>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7d"/>
                </a:solidFill>
                <a:latin typeface="Verdana"/>
              </a:rPr>
              <a:t>Должностная инструкция</a:t>
            </a:r>
            <a:endParaRPr b="0" lang="en-US" sz="2800" spc="-1" strike="noStrike">
              <a:solidFill>
                <a:srgbClr val="000000"/>
              </a:solidFill>
              <a:latin typeface="Arial"/>
            </a:endParaRPr>
          </a:p>
        </p:txBody>
      </p:sp>
      <p:sp>
        <p:nvSpPr>
          <p:cNvPr id="260" name="Rectangle 19"/>
          <p:cNvSpPr/>
          <p:nvPr/>
        </p:nvSpPr>
        <p:spPr>
          <a:xfrm>
            <a:off x="762120" y="533520"/>
            <a:ext cx="7772400" cy="971640"/>
          </a:xfrm>
          <a:prstGeom prst="rect">
            <a:avLst/>
          </a:prstGeom>
          <a:solidFill>
            <a:srgbClr val="00007d"/>
          </a:solidFill>
          <a:ln w="57240">
            <a:solidFill>
              <a:srgbClr val="9999ff"/>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Квалифицированный </a:t>
            </a:r>
            <a:endParaRPr b="0" lang="en-US" sz="3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Verdana"/>
              </a:rPr>
              <a:t>новый сотрудник</a:t>
            </a:r>
            <a:endParaRPr b="0" lang="en-US" sz="3600" spc="-1" strike="noStrike">
              <a:solidFill>
                <a:srgbClr val="000000"/>
              </a:solidFill>
              <a:latin typeface="Arial"/>
            </a:endParaRPr>
          </a:p>
        </p:txBody>
      </p:sp>
      <p:sp>
        <p:nvSpPr>
          <p:cNvPr id="261" name="AutoShape 11"/>
          <p:cNvSpPr/>
          <p:nvPr/>
        </p:nvSpPr>
        <p:spPr>
          <a:xfrm rot="5400000">
            <a:off x="5333760" y="1333080"/>
            <a:ext cx="533160" cy="1219320"/>
          </a:xfrm>
          <a:custGeom>
            <a:avLst/>
            <a:gdLst>
              <a:gd name="textAreaLeft" fmla="*/ 83160 w 533160"/>
              <a:gd name="textAreaRight" fmla="*/ 466560 w 533160"/>
              <a:gd name="textAreaTop" fmla="*/ 304920 h 1219320"/>
              <a:gd name="textAreaBottom" fmla="*/ 914760 h 121932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62" name="Rectangle 21"/>
          <p:cNvSpPr/>
          <p:nvPr/>
        </p:nvSpPr>
        <p:spPr>
          <a:xfrm>
            <a:off x="7086600" y="4191120"/>
            <a:ext cx="1295280" cy="457200"/>
          </a:xfrm>
          <a:prstGeom prst="rect">
            <a:avLst/>
          </a:prstGeom>
          <a:solidFill>
            <a:srgbClr val="cccce6"/>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7d"/>
                </a:solidFill>
                <a:latin typeface="Verdana"/>
              </a:rPr>
              <a:t>Повторное обучение</a:t>
            </a:r>
            <a:endParaRPr b="0" lang="en-US" sz="1400" spc="-1" strike="noStrike">
              <a:solidFill>
                <a:srgbClr val="000000"/>
              </a:solidFill>
              <a:latin typeface="Arial"/>
            </a:endParaRPr>
          </a:p>
        </p:txBody>
      </p:sp>
      <p:sp>
        <p:nvSpPr>
          <p:cNvPr id="263" name="Footer Placeholder 1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64" name="AutoShape 22"/>
          <p:cNvSpPr/>
          <p:nvPr/>
        </p:nvSpPr>
        <p:spPr>
          <a:xfrm rot="16036800">
            <a:off x="7069320" y="3490560"/>
            <a:ext cx="1714320" cy="1666800"/>
          </a:xfrm>
          <a:custGeom>
            <a:avLst/>
            <a:gdLst>
              <a:gd name="textAreaLeft" fmla="*/ 303480 w 1714320"/>
              <a:gd name="textAreaRight" fmla="*/ 1244160 w 1714320"/>
              <a:gd name="textAreaTop" fmla="*/ 223200 h 1666800"/>
              <a:gd name="textAreaBottom" fmla="*/ 1443600 h 1666800"/>
            </a:gdLst>
            <a:ahLst/>
            <a:rect l="textAreaLeft" t="textAreaTop" r="textAreaRight" b="textAreaBottom"/>
            <a:pathLst>
              <a:path w="21600" h="21600">
                <a:moveTo>
                  <a:pt x="0" y="0"/>
                </a:moveTo>
                <a:arcTo wR="7648" hR="21600" stAng="10800000" swAng="-5400000"/>
                <a:lnTo>
                  <a:pt x="11851" y="21600"/>
                </a:lnTo>
                <a:arcTo wR="7648" hR="21600" stAng="5400000" swAng="-2430238"/>
                <a:lnTo>
                  <a:pt x="21017" y="8271"/>
                </a:lnTo>
                <a:lnTo>
                  <a:pt x="17398" y="0"/>
                </a:lnTo>
                <a:lnTo>
                  <a:pt x="12612" y="8271"/>
                </a:lnTo>
                <a:lnTo>
                  <a:pt x="14713" y="8271"/>
                </a:lnTo>
                <a:arcTo wR="7648" hR="21600" stAng="2969762" swAng="2083564"/>
                <a:lnTo>
                  <a:pt x="9750" y="20769"/>
                </a:lnTo>
                <a:arcTo wR="7648" hR="21600" stAng="5746674" swAng="5053326"/>
                <a:close/>
              </a:path>
              <a:path fill="darkenLess" w="21600" h="21600">
                <a:moveTo>
                  <a:pt x="0" y="0"/>
                </a:moveTo>
                <a:arcTo wR="7648" hR="21600" stAng="10800000" swAng="-5400000"/>
                <a:lnTo>
                  <a:pt x="11851" y="21600"/>
                </a:lnTo>
                <a:arcTo wR="7648" hR="21600" stAng="5400000" swAng="346674"/>
                <a:lnTo>
                  <a:pt x="9750" y="20769"/>
                </a:lnTo>
                <a:arcTo wR="7648" hR="21600" stAng="5746674" swAng="5053326"/>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Инструктаж</a:t>
            </a:r>
            <a:endParaRPr b="0" lang="en-US" sz="3200" spc="-1" strike="noStrike">
              <a:solidFill>
                <a:srgbClr val="00007d"/>
              </a:solidFill>
              <a:latin typeface="Verdana"/>
            </a:endParaRPr>
          </a:p>
        </p:txBody>
      </p:sp>
      <p:sp>
        <p:nvSpPr>
          <p:cNvPr id="266"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0EBE0-464D-494B-B090-691358C9E3F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67"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grpSp>
        <p:nvGrpSpPr>
          <p:cNvPr id="268" name="Group 4"/>
          <p:cNvGrpSpPr/>
          <p:nvPr/>
        </p:nvGrpSpPr>
        <p:grpSpPr>
          <a:xfrm>
            <a:off x="609480" y="1376280"/>
            <a:ext cx="7925040" cy="4719600"/>
            <a:chOff x="609480" y="1376280"/>
            <a:chExt cx="7925040" cy="4719600"/>
          </a:xfrm>
        </p:grpSpPr>
        <p:pic>
          <p:nvPicPr>
            <p:cNvPr id="269" name="Picture 3" descr="13_orientation_1"/>
            <p:cNvPicPr/>
            <p:nvPr/>
          </p:nvPicPr>
          <p:blipFill>
            <a:blip r:embed="rId1"/>
            <a:stretch/>
          </p:blipFill>
          <p:spPr>
            <a:xfrm>
              <a:off x="609480" y="1376280"/>
              <a:ext cx="7925040" cy="4719600"/>
            </a:xfrm>
            <a:prstGeom prst="rect">
              <a:avLst/>
            </a:prstGeom>
            <a:ln w="0">
              <a:noFill/>
            </a:ln>
          </p:spPr>
        </p:pic>
        <p:sp>
          <p:nvSpPr>
            <p:cNvPr id="270" name="TextBox 1"/>
            <p:cNvSpPr/>
            <p:nvPr/>
          </p:nvSpPr>
          <p:spPr>
            <a:xfrm rot="21540000">
              <a:off x="5028840" y="3924000"/>
              <a:ext cx="533160" cy="934920"/>
            </a:xfrm>
            <a:prstGeom prst="rect">
              <a:avLst/>
            </a:prstGeom>
            <a:solidFill>
              <a:srgbClr val="a9ee19"/>
            </a:solidFill>
            <a:ln w="0">
              <a:noFill/>
            </a:ln>
          </p:spPr>
          <p:style>
            <a:lnRef idx="0"/>
            <a:fillRef idx="0"/>
            <a:effectRef idx="0"/>
            <a:fontRef idx="minor"/>
          </p:style>
          <p:txBody>
            <a:bodyPr lIns="36000" rIns="36000" tIns="36000" bIns="36000" anchor="t" vert="eaVe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000000"/>
                  </a:solidFill>
                  <a:latin typeface="Calibri"/>
                </a:rPr>
                <a:t>Стандартные операционные процедуры</a:t>
              </a:r>
              <a:endParaRPr b="0" lang="en-US" sz="900" spc="-1" strike="noStrike">
                <a:solidFill>
                  <a:srgbClr val="000000"/>
                </a:solidFill>
                <a:latin typeface="Arial"/>
              </a:endParaRPr>
            </a:p>
          </p:txBody>
        </p:sp>
        <p:sp>
          <p:nvSpPr>
            <p:cNvPr id="271" name="TextBox 2"/>
            <p:cNvSpPr/>
            <p:nvPr/>
          </p:nvSpPr>
          <p:spPr>
            <a:xfrm>
              <a:off x="5616000" y="3738600"/>
              <a:ext cx="685800" cy="466560"/>
            </a:xfrm>
            <a:prstGeom prst="rect">
              <a:avLst/>
            </a:prstGeom>
            <a:solidFill>
              <a:srgbClr val="000000"/>
            </a:solidFill>
            <a:ln w="0">
              <a:noFill/>
            </a:ln>
          </p:spPr>
          <p:style>
            <a:lnRef idx="0"/>
            <a:fillRef idx="0"/>
            <a:effectRef idx="0"/>
            <a:fontRef idx="minor"/>
          </p:style>
          <p:txBody>
            <a:bodyPr lIns="36000" rIns="72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ffffff"/>
                  </a:solidFill>
                  <a:latin typeface="Calibri"/>
                </a:rPr>
                <a:t>Руководство по качеству</a:t>
              </a:r>
              <a:endParaRPr b="0" lang="en-US" sz="800" spc="-1" strike="noStrike">
                <a:solidFill>
                  <a:srgbClr val="000000"/>
                </a:solidFill>
                <a:latin typeface="Arial"/>
              </a:endParaRPr>
            </a:p>
          </p:txBody>
        </p:sp>
        <p:sp>
          <p:nvSpPr>
            <p:cNvPr id="272" name="TextBox 7"/>
            <p:cNvSpPr/>
            <p:nvPr/>
          </p:nvSpPr>
          <p:spPr>
            <a:xfrm rot="20580000">
              <a:off x="6721560" y="3885840"/>
              <a:ext cx="380880" cy="995400"/>
            </a:xfrm>
            <a:prstGeom prst="rect">
              <a:avLst/>
            </a:prstGeom>
            <a:solidFill>
              <a:srgbClr val="996600"/>
            </a:solidFill>
            <a:ln w="0">
              <a:noFill/>
            </a:ln>
          </p:spPr>
          <p:style>
            <a:lnRef idx="0"/>
            <a:fillRef idx="0"/>
            <a:effectRef idx="0"/>
            <a:fontRef idx="minor"/>
          </p:style>
          <p:txBody>
            <a:bodyPr lIns="36000" rIns="72000" tIns="46800" bIns="46800" anchor="t"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Руководство по безопасности</a:t>
              </a:r>
              <a:endParaRPr b="0" lang="en-US" sz="800" spc="-1" strike="noStrike">
                <a:solidFill>
                  <a:srgbClr val="000000"/>
                </a:solidFill>
                <a:latin typeface="Arial"/>
              </a:endParaRPr>
            </a:p>
          </p:txBody>
        </p:sp>
        <p:sp>
          <p:nvSpPr>
            <p:cNvPr id="273" name="Rectangle 3"/>
            <p:cNvSpPr/>
            <p:nvPr/>
          </p:nvSpPr>
          <p:spPr>
            <a:xfrm rot="20640000">
              <a:off x="6428160" y="3417120"/>
              <a:ext cx="396000" cy="270000"/>
            </a:xfrm>
            <a:prstGeom prst="rect">
              <a:avLst/>
            </a:prstGeom>
            <a:solidFill>
              <a:srgbClr val="9966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AE02B-7A42-4CC6-91CA-FE0D81A2C5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75"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D6B26-7114-44D9-809B-03D52F9A5C5C}"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276" name="Text Box 3"/>
          <p:cNvSpPr/>
          <p:nvPr/>
        </p:nvSpPr>
        <p:spPr>
          <a:xfrm>
            <a:off x="419040" y="3581280"/>
            <a:ext cx="5639040" cy="990720"/>
          </a:xfrm>
          <a:prstGeom prst="rect">
            <a:avLst/>
          </a:prstGeom>
          <a:solidFill>
            <a:srgbClr val="00007d"/>
          </a:solidFill>
          <a:ln w="76320">
            <a:solidFill>
              <a:srgbClr val="000099"/>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Оценка компетенции</a:t>
            </a:r>
            <a:endParaRPr b="0" lang="en-US" sz="3200" spc="-1" strike="noStrike">
              <a:solidFill>
                <a:srgbClr val="000000"/>
              </a:solidFill>
              <a:latin typeface="Arial"/>
            </a:endParaRPr>
          </a:p>
        </p:txBody>
      </p:sp>
      <p:sp>
        <p:nvSpPr>
          <p:cNvPr id="277" name="Text Box 10"/>
          <p:cNvSpPr/>
          <p:nvPr/>
        </p:nvSpPr>
        <p:spPr>
          <a:xfrm>
            <a:off x="419040" y="609480"/>
            <a:ext cx="5639040" cy="990720"/>
          </a:xfrm>
          <a:prstGeom prst="rect">
            <a:avLst/>
          </a:prstGeom>
          <a:solidFill>
            <a:srgbClr val="ffff00"/>
          </a:solidFill>
          <a:ln w="76320">
            <a:solidFill>
              <a:srgbClr val="00007d"/>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7d"/>
                </a:solidFill>
                <a:latin typeface="Verdana"/>
              </a:rPr>
              <a:t>Должностная инструкция</a:t>
            </a:r>
            <a:endParaRPr b="0" lang="en-US" sz="3200" spc="-1" strike="noStrike">
              <a:solidFill>
                <a:srgbClr val="000000"/>
              </a:solidFill>
              <a:latin typeface="Arial"/>
            </a:endParaRPr>
          </a:p>
        </p:txBody>
      </p:sp>
      <p:sp>
        <p:nvSpPr>
          <p:cNvPr id="278" name="AutoShape 11"/>
          <p:cNvSpPr/>
          <p:nvPr/>
        </p:nvSpPr>
        <p:spPr>
          <a:xfrm rot="5400000">
            <a:off x="3064680" y="1469160"/>
            <a:ext cx="347400" cy="761760"/>
          </a:xfrm>
          <a:custGeom>
            <a:avLst/>
            <a:gdLst>
              <a:gd name="textAreaLeft" fmla="*/ 54000 w 347400"/>
              <a:gd name="textAreaRight" fmla="*/ 304200 w 34740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79" name="Text Box 10"/>
          <p:cNvSpPr/>
          <p:nvPr/>
        </p:nvSpPr>
        <p:spPr>
          <a:xfrm>
            <a:off x="419040" y="2057400"/>
            <a:ext cx="5639040" cy="99072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Обучение выполнению задания</a:t>
            </a:r>
            <a:endParaRPr b="0" lang="en-US" sz="3200" spc="-1" strike="noStrike">
              <a:solidFill>
                <a:srgbClr val="000000"/>
              </a:solidFill>
              <a:latin typeface="Arial"/>
            </a:endParaRPr>
          </a:p>
        </p:txBody>
      </p:sp>
      <p:sp>
        <p:nvSpPr>
          <p:cNvPr id="280" name="Text Box 3"/>
          <p:cNvSpPr/>
          <p:nvPr/>
        </p:nvSpPr>
        <p:spPr>
          <a:xfrm>
            <a:off x="419040" y="5257800"/>
            <a:ext cx="5639040" cy="990720"/>
          </a:xfrm>
          <a:prstGeom prst="rect">
            <a:avLst/>
          </a:prstGeom>
          <a:solidFill>
            <a:srgbClr val="00007d"/>
          </a:solidFill>
          <a:ln w="76320">
            <a:solidFill>
              <a:srgbClr val="ffff00"/>
            </a:solidFill>
            <a:miter/>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изнание компетенции</a:t>
            </a:r>
            <a:endParaRPr b="0" lang="en-US" sz="3200" spc="-1" strike="noStrike">
              <a:solidFill>
                <a:srgbClr val="000000"/>
              </a:solidFill>
              <a:latin typeface="Arial"/>
            </a:endParaRPr>
          </a:p>
        </p:txBody>
      </p:sp>
      <p:sp>
        <p:nvSpPr>
          <p:cNvPr id="281" name="Rectangle 15"/>
          <p:cNvSpPr/>
          <p:nvPr/>
        </p:nvSpPr>
        <p:spPr>
          <a:xfrm>
            <a:off x="6477120" y="2362320"/>
            <a:ext cx="2133360" cy="15238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7d"/>
                </a:solidFill>
                <a:latin typeface="Verdana"/>
              </a:rPr>
              <a:t>Повторное обучение</a:t>
            </a:r>
            <a:endParaRPr b="0" lang="en-US" sz="2400" spc="-1" strike="noStrike">
              <a:solidFill>
                <a:srgbClr val="000000"/>
              </a:solidFill>
              <a:latin typeface="Arial"/>
            </a:endParaRPr>
          </a:p>
        </p:txBody>
      </p:sp>
      <p:sp>
        <p:nvSpPr>
          <p:cNvPr id="282" name="AutoShape 17"/>
          <p:cNvSpPr/>
          <p:nvPr/>
        </p:nvSpPr>
        <p:spPr>
          <a:xfrm rot="16036800">
            <a:off x="6621840" y="1982880"/>
            <a:ext cx="2444760" cy="1989000"/>
          </a:xfrm>
          <a:custGeom>
            <a:avLst/>
            <a:gdLst>
              <a:gd name="textAreaLeft" fmla="*/ 427680 w 2444760"/>
              <a:gd name="textAreaRight" fmla="*/ 1772640 w 2444760"/>
              <a:gd name="textAreaTop" fmla="*/ 266400 h 1989000"/>
              <a:gd name="textAreaBottom" fmla="*/ 1722600 h 19890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84" name="AutoShape 11"/>
          <p:cNvSpPr/>
          <p:nvPr/>
        </p:nvSpPr>
        <p:spPr>
          <a:xfrm rot="5400000">
            <a:off x="3064680" y="2917080"/>
            <a:ext cx="347760" cy="761760"/>
          </a:xfrm>
          <a:custGeom>
            <a:avLst/>
            <a:gdLst>
              <a:gd name="textAreaLeft" fmla="*/ 54360 w 347760"/>
              <a:gd name="textAreaRight" fmla="*/ 304560 w 347760"/>
              <a:gd name="textAreaTop" fmla="*/ 190440 h 761760"/>
              <a:gd name="textAreaBottom" fmla="*/ 571320 h 76176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
        <p:nvSpPr>
          <p:cNvPr id="285" name="AutoShape 11"/>
          <p:cNvSpPr/>
          <p:nvPr/>
        </p:nvSpPr>
        <p:spPr>
          <a:xfrm rot="5400000">
            <a:off x="3043440" y="4543920"/>
            <a:ext cx="395280" cy="755640"/>
          </a:xfrm>
          <a:custGeom>
            <a:avLst/>
            <a:gdLst>
              <a:gd name="textAreaLeft" fmla="*/ 61560 w 395280"/>
              <a:gd name="textAreaRight" fmla="*/ 345960 w 395280"/>
              <a:gd name="textAreaTop" fmla="*/ 189000 h 755640"/>
              <a:gd name="textAreaBottom" fmla="*/ 567000 h 75564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t" anchorCtr="1" rot="10800000">
            <a:noAutofit/>
          </a:bodyPr>
          <a:p>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Методы оценки компетенции</a:t>
            </a:r>
            <a:endParaRPr b="0" lang="en-US" sz="3200" spc="-1" strike="noStrike">
              <a:solidFill>
                <a:srgbClr val="00007d"/>
              </a:solidFill>
              <a:latin typeface="Verdana"/>
            </a:endParaRPr>
          </a:p>
        </p:txBody>
      </p:sp>
      <p:sp>
        <p:nvSpPr>
          <p:cNvPr id="287" name="PlaceHolder 2"/>
          <p:cNvSpPr>
            <a:spLocks noGrp="1"/>
          </p:cNvSpPr>
          <p:nvPr>
            <p:ph/>
          </p:nvPr>
        </p:nvSpPr>
        <p:spPr>
          <a:xfrm>
            <a:off x="151920" y="1295280"/>
            <a:ext cx="4038840" cy="4586400"/>
          </a:xfrm>
          <a:prstGeom prst="rect">
            <a:avLst/>
          </a:prstGeom>
          <a:noFill/>
          <a:ln w="0">
            <a:noFill/>
          </a:ln>
        </p:spPr>
        <p:txBody>
          <a:bodyPr anchor="t">
            <a:normAutofit/>
          </a:bodyPr>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ямое наблюдение</a:t>
            </a:r>
            <a:endParaRPr b="0" lang="en-US" sz="2800" spc="-1" strike="noStrike">
              <a:solidFill>
                <a:srgbClr val="000000"/>
              </a:solidFill>
              <a:latin typeface="Verdana"/>
            </a:endParaRPr>
          </a:p>
          <a:p>
            <a:pPr lvl="1" marL="743040" indent="-285840">
              <a:lnSpc>
                <a:spcPct val="80000"/>
              </a:lnSpc>
              <a:spcBef>
                <a:spcPts val="1199"/>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контрольные списки</a:t>
            </a:r>
            <a:endParaRPr b="0" lang="en-US" sz="2400" spc="-1" strike="noStrike">
              <a:solidFill>
                <a:srgbClr val="000000"/>
              </a:solidFill>
              <a:latin typeface="Verdana"/>
            </a:endParaRPr>
          </a:p>
          <a:p>
            <a:pPr marL="343080" indent="-343080">
              <a:spcBef>
                <a:spcPts val="700"/>
              </a:spcBef>
              <a:buClr>
                <a:srgbClr val="0000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Непрямые наблюдения</a:t>
            </a:r>
            <a:endParaRPr b="0" lang="en-US" sz="28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роверка записей</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торные исследования</a:t>
            </a:r>
            <a:endParaRPr b="0" lang="en-US" sz="2400" spc="-1" strike="noStrike">
              <a:solidFill>
                <a:srgbClr val="000000"/>
              </a:solidFill>
              <a:latin typeface="Verdana"/>
            </a:endParaRPr>
          </a:p>
          <a:p>
            <a:pPr lvl="1" marL="743040" indent="-285840">
              <a:lnSpc>
                <a:spcPct val="80000"/>
              </a:lnSpc>
              <a:spcBef>
                <a:spcPts val="1199"/>
              </a:spcBef>
              <a:buClr>
                <a:srgbClr val="6666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ситуационные       задачи</a:t>
            </a:r>
            <a:endParaRPr b="0" lang="en-US" sz="2400" spc="-1" strike="noStrike">
              <a:solidFill>
                <a:srgbClr val="000000"/>
              </a:solidFill>
              <a:latin typeface="Verdana"/>
            </a:endParaRPr>
          </a:p>
        </p:txBody>
      </p:sp>
      <p:graphicFrame>
        <p:nvGraphicFramePr>
          <p:cNvPr id="288" name=""/>
          <p:cNvGraphicFramePr/>
          <p:nvPr/>
        </p:nvGraphicFramePr>
        <p:xfrm>
          <a:off x="4038480" y="1568520"/>
          <a:ext cx="4937400" cy="4305240"/>
        </p:xfrm>
        <a:graphic>
          <a:graphicData uri="http://schemas.openxmlformats.org/drawingml/2006/table">
            <a:tbl>
              <a:tblPr/>
              <a:tblGrid>
                <a:gridCol w="1981440"/>
                <a:gridCol w="703080"/>
                <a:gridCol w="743040"/>
                <a:gridCol w="495360"/>
                <a:gridCol w="1014480"/>
              </a:tblGrid>
              <a:tr h="31752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Имя сотрудник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gridSpan="4">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олжность сотрудника</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298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Оцениваемая процедура</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ccccff"/>
                    </a:solidFill>
                  </a:tcPr>
                </a:tc>
                <a:tc gridSpan="3">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Дата оценки:</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cccc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Эксперт</a:t>
                      </a:r>
                      <a:endParaRPr b="0" lang="en-US" sz="1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ccccff"/>
                    </a:solidFill>
                  </a:tcPr>
                </a:tc>
              </a:tr>
              <a:tr h="358560">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ункт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Принят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Частично</a:t>
                      </a:r>
                      <a:endParaRPr b="0" lang="en-US" sz="1000" spc="-1" strike="noStrike">
                        <a:solidFill>
                          <a:srgbClr val="000000"/>
                        </a:solidFill>
                        <a:latin typeface="Arial"/>
                      </a:endParaRPr>
                    </a:p>
                  </a:txBody>
                  <a:tcPr anchor="t" marL="36000" marR="3600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Не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000000"/>
                          </a:solidFill>
                          <a:latin typeface="Verdana"/>
                          <a:ea typeface="Times New Roman"/>
                        </a:rPr>
                        <a:t>Комментарии</a:t>
                      </a:r>
                      <a:endParaRPr b="0" lang="en-US" sz="1000" spc="-1" strike="noStrike">
                        <a:solidFill>
                          <a:srgbClr val="000000"/>
                        </a:solidFill>
                        <a:latin typeface="Arial"/>
                      </a:endParaRPr>
                    </a:p>
                  </a:txBody>
                  <a:tcPr anchor="t" marL="36000" marR="36000">
                    <a:lnL w="5760">
                      <a:solidFill>
                        <a:srgbClr val="000000"/>
                      </a:solidFill>
                    </a:lnL>
                    <a:lnR w="13680">
                      <a:solidFill>
                        <a:srgbClr val="000000"/>
                      </a:solidFill>
                    </a:lnR>
                    <a:lnT w="13680">
                      <a:solidFill>
                        <a:srgbClr val="000000"/>
                      </a:solidFill>
                    </a:lnT>
                    <a:lnB w="5760">
                      <a:solidFill>
                        <a:srgbClr val="000000"/>
                      </a:solidFill>
                    </a:lnB>
                    <a:noFill/>
                  </a:tcPr>
                </a:tc>
              </a:tr>
              <a:tr h="48888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очитан протокол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54720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 подготовлено оборудование</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963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Аккуратное рабочее место</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3002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одготовка реагентов</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Правильное выполнение процедуры </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428040">
                <a:tc>
                  <a:txBody>
                    <a:bodyPr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Своевременное</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Verdana"/>
                          <a:ea typeface="Times New Roman"/>
                        </a:rPr>
                        <a:t>выполнение процедуры</a:t>
                      </a:r>
                      <a:endParaRPr b="0" lang="en-US" sz="1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Другие</a:t>
                      </a:r>
                      <a:r>
                        <a:rPr b="0" lang="en-US" sz="1600" spc="-1" strike="noStrike">
                          <a:solidFill>
                            <a:srgbClr val="000000"/>
                          </a:solidFill>
                          <a:latin typeface="Verdana"/>
                          <a:ea typeface="Times New Roman"/>
                        </a:rPr>
                        <a:t>:</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ea typeface="Times New Roman"/>
                        </a:rPr>
                        <a:t>Уточните</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46800" bIns="46800" anchor="t">
                      <a:no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6000" marR="3600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289" name="AutoShape 76"/>
          <p:cNvSpPr/>
          <p:nvPr/>
        </p:nvSpPr>
        <p:spPr>
          <a:xfrm>
            <a:off x="3200400" y="2438280"/>
            <a:ext cx="762120" cy="457200"/>
          </a:xfrm>
          <a:custGeom>
            <a:avLst/>
            <a:gdLst>
              <a:gd name="textAreaLeft" fmla="*/ 118800 w 762120"/>
              <a:gd name="textAreaRight" fmla="*/ 667080 w 762120"/>
              <a:gd name="textAreaTop" fmla="*/ 114120 h 457200"/>
              <a:gd name="textAreaBottom" fmla="*/ 343080 h 45720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solidFill>
            <a:srgbClr val="000099"/>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0" name="Picture 77" descr="j0434713"/>
          <p:cNvPicPr/>
          <p:nvPr/>
        </p:nvPicPr>
        <p:blipFill>
          <a:blip r:embed="rId1"/>
          <a:stretch/>
        </p:blipFill>
        <p:spPr>
          <a:xfrm>
            <a:off x="6858000" y="2867040"/>
            <a:ext cx="1844640" cy="1933560"/>
          </a:xfrm>
          <a:prstGeom prst="rect">
            <a:avLst/>
          </a:prstGeom>
          <a:ln w="0">
            <a:noFill/>
          </a:ln>
        </p:spPr>
      </p:pic>
      <p:sp>
        <p:nvSpPr>
          <p:cNvPr id="291"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2B768-5D84-433B-BB82-4BDA5157F9E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2"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2F6BA-EFDE-4998-9C42-E6A494416E9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94" name="AutoShape 2"/>
          <p:cNvSpPr/>
          <p:nvPr/>
        </p:nvSpPr>
        <p:spPr>
          <a:xfrm>
            <a:off x="533520" y="914400"/>
            <a:ext cx="5790960" cy="2819520"/>
          </a:xfrm>
          <a:prstGeom prst="horizont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ринципы и процессы</a:t>
            </a:r>
            <a:endParaRPr b="0" lang="en-US" sz="3200" spc="-1" strike="noStrike">
              <a:solidFill>
                <a:srgbClr val="00007d"/>
              </a:solidFill>
              <a:latin typeface="Verdana"/>
            </a:endParaRPr>
          </a:p>
        </p:txBody>
      </p:sp>
      <p:sp>
        <p:nvSpPr>
          <p:cNvPr id="296" name="Text Box 13"/>
          <p:cNvSpPr/>
          <p:nvPr/>
        </p:nvSpPr>
        <p:spPr>
          <a:xfrm>
            <a:off x="6095880" y="1600200"/>
            <a:ext cx="2895840" cy="1313640"/>
          </a:xfrm>
          <a:prstGeom prst="rect">
            <a:avLst/>
          </a:prstGeom>
          <a:solidFill>
            <a:srgbClr val="ffff00"/>
          </a:solidFill>
          <a:ln w="5724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7d"/>
                </a:solidFill>
                <a:latin typeface="Verdana"/>
              </a:rPr>
              <a:t>Пересматривайте ежегодно и обновляйте по необходимости</a:t>
            </a:r>
            <a:endParaRPr b="0" lang="en-US" sz="2000" spc="-1" strike="noStrike">
              <a:solidFill>
                <a:srgbClr val="000000"/>
              </a:solidFill>
              <a:latin typeface="Arial"/>
            </a:endParaRPr>
          </a:p>
        </p:txBody>
      </p:sp>
      <p:sp>
        <p:nvSpPr>
          <p:cNvPr id="297" name="Text Box 14"/>
          <p:cNvSpPr/>
          <p:nvPr/>
        </p:nvSpPr>
        <p:spPr>
          <a:xfrm>
            <a:off x="1523880" y="3581280"/>
            <a:ext cx="5867640" cy="5814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Процессы</a:t>
            </a:r>
            <a:r>
              <a:rPr b="1" lang="en-US" sz="2000" spc="-1" strike="noStrike">
                <a:solidFill>
                  <a:srgbClr val="ffff00"/>
                </a:solidFill>
                <a:latin typeface="Verdana"/>
              </a:rPr>
              <a:t> </a:t>
            </a:r>
            <a:endParaRPr b="0" lang="en-US" sz="2000" spc="-1" strike="noStrike">
              <a:solidFill>
                <a:srgbClr val="000000"/>
              </a:solidFill>
              <a:latin typeface="Arial"/>
            </a:endParaRPr>
          </a:p>
        </p:txBody>
      </p:sp>
      <p:sp>
        <p:nvSpPr>
          <p:cNvPr id="298" name="Line 15"/>
          <p:cNvSpPr/>
          <p:nvPr/>
        </p:nvSpPr>
        <p:spPr>
          <a:xfrm>
            <a:off x="17524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Line 16"/>
          <p:cNvSpPr/>
          <p:nvPr/>
        </p:nvSpPr>
        <p:spPr>
          <a:xfrm>
            <a:off x="5867280" y="3809880"/>
            <a:ext cx="1295640" cy="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18"/>
          <p:cNvSpPr/>
          <p:nvPr/>
        </p:nvSpPr>
        <p:spPr>
          <a:xfrm>
            <a:off x="914400" y="1371600"/>
            <a:ext cx="4191120" cy="1847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99"/>
                </a:solidFill>
                <a:latin typeface="Verdana"/>
              </a:rPr>
              <a:t>Написание принципов –</a:t>
            </a:r>
            <a:br>
              <a:rPr sz="3200"/>
            </a:br>
            <a:r>
              <a:rPr b="1" lang="ru-RU" sz="3200" spc="-1" strike="noStrike">
                <a:solidFill>
                  <a:srgbClr val="000099"/>
                </a:solidFill>
                <a:latin typeface="Verdana"/>
              </a:rPr>
              <a:t>ответственность руководства</a:t>
            </a:r>
            <a:endParaRPr b="0" lang="en-US" sz="3200" spc="-1" strike="noStrike">
              <a:solidFill>
                <a:srgbClr val="000000"/>
              </a:solidFill>
              <a:latin typeface="Arial"/>
            </a:endParaRPr>
          </a:p>
        </p:txBody>
      </p:sp>
      <p:sp>
        <p:nvSpPr>
          <p:cNvPr id="301" name="AutoShape 17"/>
          <p:cNvSpPr/>
          <p:nvPr/>
        </p:nvSpPr>
        <p:spPr>
          <a:xfrm>
            <a:off x="5105520" y="1905120"/>
            <a:ext cx="914400" cy="761760"/>
          </a:xfrm>
          <a:custGeom>
            <a:avLst/>
            <a:gdLst>
              <a:gd name="textAreaLeft" fmla="*/ 102960 w 914400"/>
              <a:gd name="textAreaRight" fmla="*/ 811440 w 914400"/>
              <a:gd name="textAreaTop" fmla="*/ 190440 h 761760"/>
              <a:gd name="textAreaBottom" fmla="*/ 571320 h 761760"/>
            </a:gdLst>
            <a:ahLst/>
            <a:rect l="textAreaLeft" t="textAreaTop" r="textAreaRight" b="textAreaBottom"/>
            <a:pathLst>
              <a:path w="21600" h="21600">
                <a:moveTo>
                  <a:pt x="0" y="5400"/>
                </a:moveTo>
                <a:lnTo>
                  <a:pt x="16725" y="5400"/>
                </a:lnTo>
                <a:lnTo>
                  <a:pt x="16725" y="0"/>
                </a:lnTo>
                <a:lnTo>
                  <a:pt x="21600" y="10800"/>
                </a:lnTo>
                <a:lnTo>
                  <a:pt x="16725" y="21600"/>
                </a:lnTo>
                <a:lnTo>
                  <a:pt x="16725" y="16200"/>
                </a:lnTo>
                <a:lnTo>
                  <a:pt x="0" y="16200"/>
                </a:lnTo>
                <a:lnTo>
                  <a:pt x="2438" y="10800"/>
                </a:lnTo>
                <a:lnTo>
                  <a:pt x="0" y="54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AutoShape 20"/>
          <p:cNvSpPr/>
          <p:nvPr/>
        </p:nvSpPr>
        <p:spPr>
          <a:xfrm>
            <a:off x="53352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AutoShape 21"/>
          <p:cNvSpPr/>
          <p:nvPr/>
        </p:nvSpPr>
        <p:spPr>
          <a:xfrm>
            <a:off x="3352680" y="4419720"/>
            <a:ext cx="266724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AutoShape 22"/>
          <p:cNvSpPr/>
          <p:nvPr/>
        </p:nvSpPr>
        <p:spPr>
          <a:xfrm>
            <a:off x="6172200" y="4419720"/>
            <a:ext cx="2666880" cy="1523880"/>
          </a:xfrm>
          <a:prstGeom prst="flowChartAlternateProcess">
            <a:avLst/>
          </a:prstGeom>
          <a:solidFill>
            <a:srgbClr val="0000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 Box 23"/>
          <p:cNvSpPr/>
          <p:nvPr/>
        </p:nvSpPr>
        <p:spPr>
          <a:xfrm>
            <a:off x="53352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то</a:t>
            </a:r>
            <a:r>
              <a:rPr b="0" lang="ru-RU" sz="2400" spc="-1" strike="noStrike">
                <a:solidFill>
                  <a:srgbClr val="ffff00"/>
                </a:solidFill>
                <a:latin typeface="Verdana"/>
              </a:rPr>
              <a:t> будет оценивать</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6" name="Text Box 24"/>
          <p:cNvSpPr/>
          <p:nvPr/>
        </p:nvSpPr>
        <p:spPr>
          <a:xfrm>
            <a:off x="3429000" y="4732200"/>
            <a:ext cx="2552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Что</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7" name="Text Box 25"/>
          <p:cNvSpPr/>
          <p:nvPr/>
        </p:nvSpPr>
        <p:spPr>
          <a:xfrm>
            <a:off x="6172200" y="4732200"/>
            <a:ext cx="26668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Verdana"/>
              </a:rPr>
              <a:t>Когда</a:t>
            </a:r>
            <a:r>
              <a:rPr b="0" lang="ru-RU" sz="2400" spc="-1" strike="noStrike">
                <a:solidFill>
                  <a:srgbClr val="ffff00"/>
                </a:solidFill>
                <a:latin typeface="Verdana"/>
              </a:rPr>
              <a:t> будет оцениваться</a:t>
            </a:r>
            <a:r>
              <a:rPr b="0" lang="en-US" sz="2400" spc="-1" strike="noStrike">
                <a:solidFill>
                  <a:srgbClr val="ffff00"/>
                </a:solidFill>
                <a:latin typeface="Verdana"/>
              </a:rPr>
              <a:t>?</a:t>
            </a:r>
            <a:endParaRPr b="0" lang="en-US" sz="2400" spc="-1" strike="noStrike">
              <a:solidFill>
                <a:srgbClr val="000000"/>
              </a:solidFill>
              <a:latin typeface="Arial"/>
            </a:endParaRPr>
          </a:p>
        </p:txBody>
      </p:sp>
      <p:sp>
        <p:nvSpPr>
          <p:cNvPr id="308" name="Line 26"/>
          <p:cNvSpPr/>
          <p:nvPr/>
        </p:nvSpPr>
        <p:spPr>
          <a:xfrm>
            <a:off x="449568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Line 27"/>
          <p:cNvSpPr/>
          <p:nvPr/>
        </p:nvSpPr>
        <p:spPr>
          <a:xfrm>
            <a:off x="2133720" y="4114800"/>
            <a:ext cx="0" cy="38088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Line 28"/>
          <p:cNvSpPr/>
          <p:nvPr/>
        </p:nvSpPr>
        <p:spPr>
          <a:xfrm>
            <a:off x="7086600" y="4114800"/>
            <a:ext cx="0" cy="304920"/>
          </a:xfrm>
          <a:prstGeom prst="line">
            <a:avLst/>
          </a:prstGeom>
          <a:ln w="5724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533520" y="380520"/>
            <a:ext cx="868680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Документация оценки компетенции</a:t>
            </a:r>
            <a:endParaRPr b="0" lang="en-US" sz="3200" spc="-1" strike="noStrike">
              <a:solidFill>
                <a:srgbClr val="00007d"/>
              </a:solidFill>
              <a:latin typeface="Verdana"/>
            </a:endParaRPr>
          </a:p>
        </p:txBody>
      </p:sp>
      <p:sp>
        <p:nvSpPr>
          <p:cNvPr id="313" name="PlaceHolder 2"/>
          <p:cNvSpPr>
            <a:spLocks noGrp="1"/>
          </p:cNvSpPr>
          <p:nvPr>
            <p:ph/>
          </p:nvPr>
        </p:nvSpPr>
        <p:spPr>
          <a:xfrm>
            <a:off x="228600" y="1769760"/>
            <a:ext cx="4495680" cy="4139640"/>
          </a:xfrm>
          <a:prstGeom prst="rect">
            <a:avLst/>
          </a:prstGeom>
          <a:noFill/>
          <a:ln w="0">
            <a:noFill/>
          </a:ln>
        </p:spPr>
        <p:txBody>
          <a:bodyPr anchor="t">
            <a:normAutofit fontScale="99000"/>
          </a:bodyPr>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используйте                                                 стандартные                                                      формы</a:t>
            </a:r>
            <a:endParaRPr b="0" lang="en-US" sz="3200" spc="-1" strike="noStrike">
              <a:solidFill>
                <a:srgbClr val="000000"/>
              </a:solidFill>
              <a:latin typeface="Verdana"/>
            </a:endParaRPr>
          </a:p>
          <a:p>
            <a:pPr marL="339480" indent="-3394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ставьте дату и                                         храните конфиденциально</a:t>
            </a:r>
            <a:endParaRPr b="0" lang="en-US" sz="3200" spc="-1" strike="noStrike">
              <a:solidFill>
                <a:srgbClr val="000000"/>
              </a:solidFill>
              <a:latin typeface="Verdana"/>
            </a:endParaRPr>
          </a:p>
        </p:txBody>
      </p:sp>
      <p:sp>
        <p:nvSpPr>
          <p:cNvPr id="314" name="Rectangle 2375"/>
          <p:cNvSpPr/>
          <p:nvPr/>
        </p:nvSpPr>
        <p:spPr>
          <a:xfrm>
            <a:off x="69840" y="177012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93ABB-E55B-4C9B-99DA-303EE0EA58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6"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17" name="Picture 2" descr=""/>
          <p:cNvPicPr/>
          <p:nvPr/>
        </p:nvPicPr>
        <p:blipFill>
          <a:blip r:embed="rId1"/>
          <a:stretch/>
        </p:blipFill>
        <p:spPr>
          <a:xfrm>
            <a:off x="4876920" y="1523880"/>
            <a:ext cx="3736800" cy="4200480"/>
          </a:xfrm>
          <a:prstGeom prst="rect">
            <a:avLst/>
          </a:prstGeom>
          <a:ln w="19080">
            <a:solidFill>
              <a:srgbClr val="000000"/>
            </a:solidFill>
            <a:miter/>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5"/>
          <p:cNvSpPr/>
          <p:nvPr/>
        </p:nvSpPr>
        <p:spPr>
          <a:xfrm>
            <a:off x="5635800" y="1981080"/>
            <a:ext cx="259380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Verdana"/>
              </a:rPr>
              <a:t>Обучение</a:t>
            </a:r>
            <a:endParaRPr b="0" lang="en-US" sz="3200" spc="-1" strike="noStrike">
              <a:solidFill>
                <a:srgbClr val="000000"/>
              </a:solidFill>
              <a:latin typeface="Arial"/>
            </a:endParaRPr>
          </a:p>
        </p:txBody>
      </p:sp>
      <p:sp>
        <p:nvSpPr>
          <p:cNvPr id="319" name="Text Box 6"/>
          <p:cNvSpPr/>
          <p:nvPr/>
        </p:nvSpPr>
        <p:spPr>
          <a:xfrm>
            <a:off x="1981080" y="5667480"/>
            <a:ext cx="5867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Verdana"/>
              </a:rPr>
              <a:t>Продолжение образования</a:t>
            </a:r>
            <a:endParaRPr b="0" lang="en-US" sz="2800" spc="-1" strike="noStrike">
              <a:solidFill>
                <a:srgbClr val="000000"/>
              </a:solidFill>
              <a:latin typeface="Arial"/>
            </a:endParaRPr>
          </a:p>
        </p:txBody>
      </p:sp>
      <p:sp>
        <p:nvSpPr>
          <p:cNvPr id="320"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97CDFD-FA6E-41A3-AAAF-A8BDE169A1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1"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2" name="Picture 8" descr=""/>
          <p:cNvPicPr/>
          <p:nvPr/>
        </p:nvPicPr>
        <p:blipFill>
          <a:blip r:embed="rId1"/>
          <a:stretch/>
        </p:blipFill>
        <p:spPr>
          <a:xfrm>
            <a:off x="914400" y="779400"/>
            <a:ext cx="3962520" cy="3057480"/>
          </a:xfrm>
          <a:prstGeom prst="rect">
            <a:avLst/>
          </a:prstGeom>
          <a:ln w="0">
            <a:noFill/>
          </a:ln>
        </p:spPr>
      </p:pic>
      <p:pic>
        <p:nvPicPr>
          <p:cNvPr id="323" name="Picture 9" descr=""/>
          <p:cNvPicPr/>
          <p:nvPr/>
        </p:nvPicPr>
        <p:blipFill>
          <a:blip r:embed="rId2"/>
          <a:stretch/>
        </p:blipFill>
        <p:spPr>
          <a:xfrm>
            <a:off x="2590920" y="3429000"/>
            <a:ext cx="4572000" cy="21812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4"/>
          <p:cNvSpPr/>
          <p:nvPr/>
        </p:nvSpPr>
        <p:spPr>
          <a:xfrm>
            <a:off x="609480" y="493560"/>
            <a:ext cx="7848720" cy="649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Методы обучения и ресурсы</a:t>
            </a:r>
            <a:endParaRPr b="0" lang="en-US" sz="3600" spc="-1" strike="noStrike">
              <a:solidFill>
                <a:srgbClr val="000000"/>
              </a:solidFill>
              <a:latin typeface="Arial"/>
            </a:endParaRPr>
          </a:p>
        </p:txBody>
      </p:sp>
      <p:sp>
        <p:nvSpPr>
          <p:cNvPr id="325"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98B40-9B42-4675-8199-2F6D50F1FBD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26"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27" name="Picture 9" descr=""/>
          <p:cNvPicPr/>
          <p:nvPr/>
        </p:nvPicPr>
        <p:blipFill>
          <a:blip r:embed="rId1"/>
          <a:stretch/>
        </p:blipFill>
        <p:spPr>
          <a:xfrm>
            <a:off x="609480" y="1319040"/>
            <a:ext cx="3429000" cy="2948040"/>
          </a:xfrm>
          <a:prstGeom prst="rect">
            <a:avLst/>
          </a:prstGeom>
          <a:ln w="0">
            <a:noFill/>
          </a:ln>
        </p:spPr>
      </p:pic>
      <p:pic>
        <p:nvPicPr>
          <p:cNvPr id="328" name="Picture 10" descr=""/>
          <p:cNvPicPr/>
          <p:nvPr/>
        </p:nvPicPr>
        <p:blipFill>
          <a:blip r:embed="rId2"/>
          <a:stretch/>
        </p:blipFill>
        <p:spPr>
          <a:xfrm>
            <a:off x="4038480" y="1447920"/>
            <a:ext cx="4054680" cy="2971800"/>
          </a:xfrm>
          <a:prstGeom prst="rect">
            <a:avLst/>
          </a:prstGeom>
          <a:ln w="0">
            <a:noFill/>
          </a:ln>
        </p:spPr>
      </p:pic>
      <p:pic>
        <p:nvPicPr>
          <p:cNvPr id="329" name="Picture 11" descr=""/>
          <p:cNvPicPr/>
          <p:nvPr/>
        </p:nvPicPr>
        <p:blipFill>
          <a:blip r:embed="rId3"/>
          <a:stretch/>
        </p:blipFill>
        <p:spPr>
          <a:xfrm>
            <a:off x="4572000" y="3962520"/>
            <a:ext cx="3733920" cy="2412720"/>
          </a:xfrm>
          <a:prstGeom prst="rect">
            <a:avLst/>
          </a:prstGeom>
          <a:ln w="0">
            <a:noFill/>
          </a:ln>
        </p:spPr>
      </p:pic>
      <p:pic>
        <p:nvPicPr>
          <p:cNvPr id="330" name="Picture 7" descr="e-learning"/>
          <p:cNvPicPr/>
          <p:nvPr/>
        </p:nvPicPr>
        <p:blipFill>
          <a:blip r:embed="rId4"/>
          <a:stretch/>
        </p:blipFill>
        <p:spPr>
          <a:xfrm>
            <a:off x="1371600" y="3962520"/>
            <a:ext cx="3048120" cy="212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8B1F3-3B72-41A1-917D-903B36F8AE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32" name="Slide Number Placeholder 3"/>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6A5E3-23A2-4206-8CCC-34BD107E970F}"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sp>
        <p:nvSpPr>
          <p:cNvPr id="333" name="PlaceHolder 1"/>
          <p:cNvSpPr>
            <a:spLocks noGrp="1"/>
          </p:cNvSpPr>
          <p:nvPr>
            <p:ph type="title"/>
          </p:nvPr>
        </p:nvSpPr>
        <p:spPr>
          <a:xfrm>
            <a:off x="457200" y="457200"/>
            <a:ext cx="8229600" cy="66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Аттестация работы</a:t>
            </a:r>
            <a:endParaRPr b="0" lang="en-US" sz="3200" spc="-1" strike="noStrike">
              <a:solidFill>
                <a:srgbClr val="00007d"/>
              </a:solidFill>
              <a:latin typeface="Verdana"/>
            </a:endParaRPr>
          </a:p>
        </p:txBody>
      </p:sp>
      <p:grpSp>
        <p:nvGrpSpPr>
          <p:cNvPr id="334" name="Diagram 2"/>
          <p:cNvGrpSpPr/>
          <p:nvPr/>
        </p:nvGrpSpPr>
        <p:grpSpPr>
          <a:xfrm>
            <a:off x="684360" y="1276200"/>
            <a:ext cx="7925400" cy="4878000"/>
            <a:chOff x="684360" y="1276200"/>
            <a:chExt cx="7925400" cy="4878000"/>
          </a:xfrm>
        </p:grpSpPr>
        <p:sp>
          <p:nvSpPr>
            <p:cNvPr id="335" name="_s2052"/>
            <p:cNvSpPr/>
            <p:nvPr/>
          </p:nvSpPr>
          <p:spPr>
            <a:xfrm flipH="1" flipV="1">
              <a:off x="3254400" y="3020400"/>
              <a:ext cx="677160" cy="392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6" name="_s2053"/>
            <p:cNvSpPr/>
            <p:nvPr/>
          </p:nvSpPr>
          <p:spPr>
            <a:xfrm>
              <a:off x="684360" y="1752120"/>
              <a:ext cx="2844000" cy="126648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рофессиональное поведение</a:t>
              </a:r>
              <a:endParaRPr b="0" lang="en-US" sz="1900" spc="-1" strike="noStrike">
                <a:solidFill>
                  <a:srgbClr val="000000"/>
                </a:solidFill>
                <a:latin typeface="Arial"/>
              </a:endParaRPr>
            </a:p>
          </p:txBody>
        </p:sp>
        <p:sp>
          <p:nvSpPr>
            <p:cNvPr id="337" name="_s2054"/>
            <p:cNvSpPr/>
            <p:nvPr/>
          </p:nvSpPr>
          <p:spPr>
            <a:xfrm flipH="1">
              <a:off x="2923200" y="3948840"/>
              <a:ext cx="841680" cy="1422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38" name="_s2055"/>
            <p:cNvSpPr/>
            <p:nvPr/>
          </p:nvSpPr>
          <p:spPr>
            <a:xfrm>
              <a:off x="684360" y="3427920"/>
              <a:ext cx="2520000" cy="1266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пунктуальность</a:t>
              </a:r>
              <a:endParaRPr b="0" lang="en-US" sz="1900" spc="-1" strike="noStrike">
                <a:solidFill>
                  <a:srgbClr val="000000"/>
                </a:solidFill>
                <a:latin typeface="Arial"/>
              </a:endParaRPr>
            </a:p>
          </p:txBody>
        </p:sp>
        <p:sp>
          <p:nvSpPr>
            <p:cNvPr id="339" name="_s2056"/>
            <p:cNvSpPr/>
            <p:nvPr/>
          </p:nvSpPr>
          <p:spPr>
            <a:xfrm flipH="1">
              <a:off x="3861000" y="4378320"/>
              <a:ext cx="372240" cy="57024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0" name="_s2057"/>
            <p:cNvSpPr/>
            <p:nvPr/>
          </p:nvSpPr>
          <p:spPr>
            <a:xfrm>
              <a:off x="2073240" y="4887360"/>
              <a:ext cx="2276640" cy="1266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обслуживание клиентов</a:t>
              </a:r>
              <a:endParaRPr b="0" lang="en-US" sz="1900" spc="-1" strike="noStrike">
                <a:solidFill>
                  <a:srgbClr val="000000"/>
                </a:solidFill>
                <a:latin typeface="Arial"/>
              </a:endParaRPr>
            </a:p>
          </p:txBody>
        </p:sp>
        <p:sp>
          <p:nvSpPr>
            <p:cNvPr id="341" name="_s2058"/>
            <p:cNvSpPr/>
            <p:nvPr/>
          </p:nvSpPr>
          <p:spPr>
            <a:xfrm>
              <a:off x="4984200" y="4378320"/>
              <a:ext cx="377640" cy="56808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2" name="_s2059"/>
            <p:cNvSpPr/>
            <p:nvPr/>
          </p:nvSpPr>
          <p:spPr>
            <a:xfrm>
              <a:off x="4872960" y="4885560"/>
              <a:ext cx="2520000" cy="126648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взаимодействие </a:t>
              </a:r>
              <a:endParaRPr b="0" lang="en-US" sz="1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 людьми</a:t>
              </a:r>
              <a:endParaRPr b="0" lang="en-US" sz="1900" spc="-1" strike="noStrike">
                <a:solidFill>
                  <a:srgbClr val="000000"/>
                </a:solidFill>
                <a:latin typeface="Arial"/>
              </a:endParaRPr>
            </a:p>
          </p:txBody>
        </p:sp>
        <p:sp>
          <p:nvSpPr>
            <p:cNvPr id="343" name="_s2060"/>
            <p:cNvSpPr/>
            <p:nvPr/>
          </p:nvSpPr>
          <p:spPr>
            <a:xfrm>
              <a:off x="5452920" y="3948840"/>
              <a:ext cx="975960" cy="14040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4" name="_s2061"/>
            <p:cNvSpPr/>
            <p:nvPr/>
          </p:nvSpPr>
          <p:spPr>
            <a:xfrm>
              <a:off x="6429240" y="3427920"/>
              <a:ext cx="2180520" cy="1266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ледование правилам безопасности</a:t>
              </a:r>
              <a:endParaRPr b="0" lang="en-US" sz="1900" spc="-1" strike="noStrike">
                <a:solidFill>
                  <a:srgbClr val="000000"/>
                </a:solidFill>
                <a:latin typeface="Arial"/>
              </a:endParaRPr>
            </a:p>
          </p:txBody>
        </p:sp>
        <p:sp>
          <p:nvSpPr>
            <p:cNvPr id="345" name="_s2062"/>
            <p:cNvSpPr/>
            <p:nvPr/>
          </p:nvSpPr>
          <p:spPr>
            <a:xfrm flipV="1">
              <a:off x="5285520" y="2527200"/>
              <a:ext cx="1209600" cy="885240"/>
            </a:xfrm>
            <a:custGeom>
              <a:avLst/>
              <a:gdLst/>
              <a:ahLst/>
              <a:rect l="l" t="t" r="r" b="b"/>
              <a:pathLst>
                <a:path w="1209265" h="885813">
                  <a:moveTo>
                    <a:pt x="0" y="0"/>
                  </a:moveTo>
                  <a:cubicBezTo>
                    <a:pt x="225668" y="131498"/>
                    <a:pt x="983597" y="754315"/>
                    <a:pt x="1209265" y="885813"/>
                  </a:cubicBezTo>
                </a:path>
              </a:pathLst>
            </a:custGeom>
            <a:noFill/>
            <a:ln w="38160">
              <a:solidFill>
                <a:srgbClr val="0000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6" name="_s2063"/>
            <p:cNvSpPr/>
            <p:nvPr/>
          </p:nvSpPr>
          <p:spPr>
            <a:xfrm>
              <a:off x="6538320" y="1827720"/>
              <a:ext cx="1919160" cy="1266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соблюдение правил</a:t>
              </a:r>
              <a:endParaRPr b="0" lang="en-US" sz="1900" spc="-1" strike="noStrike">
                <a:solidFill>
                  <a:srgbClr val="000000"/>
                </a:solidFill>
                <a:latin typeface="Arial"/>
              </a:endParaRPr>
            </a:p>
          </p:txBody>
        </p:sp>
        <p:sp>
          <p:nvSpPr>
            <p:cNvPr id="347" name="_s2064"/>
            <p:cNvSpPr/>
            <p:nvPr/>
          </p:nvSpPr>
          <p:spPr>
            <a:xfrm flipV="1">
              <a:off x="4608720" y="2527560"/>
              <a:ext cx="451080" cy="648360"/>
            </a:xfrm>
            <a:prstGeom prst="line">
              <a:avLst/>
            </a:prstGeom>
            <a:ln w="3816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2065"/>
            <p:cNvSpPr/>
            <p:nvPr/>
          </p:nvSpPr>
          <p:spPr>
            <a:xfrm>
              <a:off x="3949560" y="1276200"/>
              <a:ext cx="2220840" cy="1266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Verdana"/>
                </a:rPr>
                <a:t>компетенции</a:t>
              </a:r>
              <a:endParaRPr b="0" lang="en-US" sz="1900" spc="-1" strike="noStrike">
                <a:solidFill>
                  <a:srgbClr val="000000"/>
                </a:solidFill>
                <a:latin typeface="Arial"/>
              </a:endParaRPr>
            </a:p>
          </p:txBody>
        </p:sp>
        <p:sp>
          <p:nvSpPr>
            <p:cNvPr id="349" name="_s2066"/>
            <p:cNvSpPr/>
            <p:nvPr/>
          </p:nvSpPr>
          <p:spPr>
            <a:xfrm>
              <a:off x="3741840" y="3176280"/>
              <a:ext cx="1733760" cy="126648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Picture 19"/>
            <p:cNvSpPr/>
            <p:nvPr/>
          </p:nvSpPr>
          <p:spPr>
            <a:xfrm>
              <a:off x="4015440" y="2989080"/>
              <a:ext cx="1287720" cy="1677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pic>
        <p:nvPicPr>
          <p:cNvPr id="352" name="Picture 17" descr="head"/>
          <p:cNvPicPr/>
          <p:nvPr/>
        </p:nvPicPr>
        <p:blipFill>
          <a:blip r:embed="rId9"/>
          <a:stretch/>
        </p:blipFill>
        <p:spPr>
          <a:xfrm>
            <a:off x="3933720" y="2909880"/>
            <a:ext cx="1314720" cy="173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33160" y="456840"/>
            <a:ext cx="8915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стречи для аттестации работы</a:t>
            </a:r>
            <a:endParaRPr b="0" lang="en-US" sz="3600" spc="-1" strike="noStrike">
              <a:solidFill>
                <a:srgbClr val="00007d"/>
              </a:solidFill>
              <a:latin typeface="Verdana"/>
            </a:endParaRPr>
          </a:p>
        </p:txBody>
      </p:sp>
      <p:sp>
        <p:nvSpPr>
          <p:cNvPr id="354" name="Rectangle 4"/>
          <p:cNvSpPr/>
          <p:nvPr/>
        </p:nvSpPr>
        <p:spPr>
          <a:xfrm>
            <a:off x="533520" y="1981080"/>
            <a:ext cx="4190760" cy="327384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формаль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регуляр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констру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ъективн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праведливые</a:t>
            </a:r>
            <a:endParaRPr b="0" lang="en-US" sz="28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700" spc="-1" strike="noStrike">
                <a:solidFill>
                  <a:srgbClr val="000000"/>
                </a:solidFill>
                <a:latin typeface="Verdana"/>
              </a:rPr>
              <a:t>документированные</a:t>
            </a:r>
            <a:endParaRPr b="0" lang="en-US" sz="2700" spc="-1" strike="noStrike">
              <a:solidFill>
                <a:srgbClr val="000000"/>
              </a:solidFill>
              <a:latin typeface="Arial"/>
            </a:endParaRPr>
          </a:p>
        </p:txBody>
      </p:sp>
      <p:pic>
        <p:nvPicPr>
          <p:cNvPr id="355" name="Picture 5" descr="7285_lores"/>
          <p:cNvPicPr/>
          <p:nvPr/>
        </p:nvPicPr>
        <p:blipFill>
          <a:blip r:embed="rId1"/>
          <a:stretch/>
        </p:blipFill>
        <p:spPr>
          <a:xfrm>
            <a:off x="4343400" y="1523880"/>
            <a:ext cx="4406760" cy="3067200"/>
          </a:xfrm>
          <a:prstGeom prst="rect">
            <a:avLst/>
          </a:prstGeom>
          <a:ln w="0">
            <a:noFill/>
          </a:ln>
        </p:spPr>
      </p:pic>
      <p:pic>
        <p:nvPicPr>
          <p:cNvPr id="356" name="Picture 6" descr="head"/>
          <p:cNvPicPr/>
          <p:nvPr/>
        </p:nvPicPr>
        <p:blipFill>
          <a:blip r:embed="rId2"/>
          <a:stretch/>
        </p:blipFill>
        <p:spPr>
          <a:xfrm>
            <a:off x="4440240" y="4038480"/>
            <a:ext cx="1731960" cy="2286000"/>
          </a:xfrm>
          <a:prstGeom prst="rect">
            <a:avLst/>
          </a:prstGeom>
          <a:ln w="0">
            <a:noFill/>
          </a:ln>
        </p:spPr>
      </p:pic>
      <p:pic>
        <p:nvPicPr>
          <p:cNvPr id="357" name="Picture 7" descr="MCj01974650000[1]"/>
          <p:cNvPicPr/>
          <p:nvPr/>
        </p:nvPicPr>
        <p:blipFill>
          <a:blip r:embed="rId3"/>
          <a:stretch/>
        </p:blipFill>
        <p:spPr>
          <a:xfrm>
            <a:off x="5943600" y="3800520"/>
            <a:ext cx="3200400" cy="2752560"/>
          </a:xfrm>
          <a:prstGeom prst="rect">
            <a:avLst/>
          </a:prstGeom>
          <a:ln w="0">
            <a:noFill/>
          </a:ln>
        </p:spPr>
      </p:pic>
      <p:sp>
        <p:nvSpPr>
          <p:cNvPr id="358" name="WordArt 8"/>
          <p:cNvSpPr txBox="1"/>
          <p:nvPr/>
        </p:nvSpPr>
        <p:spPr>
          <a:xfrm>
            <a:off x="6400800" y="3962520"/>
            <a:ext cx="1704960" cy="16286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Дж. Смит</a:t>
            </a:r>
            <a:endParaRPr b="0" lang="en-US" sz="2000" spc="1" strike="noStrike">
              <a:ln w="9360">
                <a:solidFill>
                  <a:srgbClr val="000000"/>
                </a:solidFill>
                <a:miter/>
              </a:ln>
              <a:solidFill>
                <a:srgbClr val="000000"/>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Конфиденциально</a:t>
            </a:r>
            <a:endParaRPr b="0" lang="en-US" sz="2000" spc="1" strike="noStrike">
              <a:ln w="9360">
                <a:solidFill>
                  <a:srgbClr val="000000"/>
                </a:solidFill>
                <a:miter/>
              </a:ln>
              <a:solidFill>
                <a:srgbClr val="000000"/>
              </a:solidFill>
              <a:latin typeface="Arial Black"/>
              <a:ea typeface="Arial Black"/>
            </a:endParaRPr>
          </a:p>
        </p:txBody>
      </p:sp>
      <p:sp>
        <p:nvSpPr>
          <p:cNvPr id="359" name="Slide Number Placeholder 7"/>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28A6-37C8-4589-8579-5B19B520885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0"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838080" y="2057400"/>
            <a:ext cx="8229600" cy="22096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Цели изучения</a:t>
            </a:r>
            <a:endParaRPr b="0" lang="en-US" sz="3600" spc="-1" strike="noStrike">
              <a:solidFill>
                <a:srgbClr val="00007d"/>
              </a:solidFill>
              <a:latin typeface="Verdana"/>
            </a:endParaRPr>
          </a:p>
        </p:txBody>
      </p:sp>
      <p:sp>
        <p:nvSpPr>
          <p:cNvPr id="130" name="PlaceHolder 2"/>
          <p:cNvSpPr>
            <a:spLocks noGrp="1"/>
          </p:cNvSpPr>
          <p:nvPr>
            <p:ph/>
          </p:nvPr>
        </p:nvSpPr>
        <p:spPr>
          <a:xfrm>
            <a:off x="533160" y="1533600"/>
            <a:ext cx="8305560" cy="4402080"/>
          </a:xfrm>
          <a:prstGeom prst="rect">
            <a:avLst/>
          </a:prstGeom>
          <a:noFill/>
          <a:ln w="0">
            <a:noFill/>
          </a:ln>
        </p:spPr>
        <p:txBody>
          <a:bodyPr anchor="t">
            <a:normAutofit/>
          </a:bodyPr>
          <a:p>
            <a:pPr marL="343080" indent="0">
              <a:lnSpc>
                <a:spcPct val="80000"/>
              </a:lnSpc>
              <a:spcBef>
                <a:spcPts val="601"/>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о окончании данной части курса участники смогут</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Объяснить роль и ответственность руководства в отношении управления персоналом</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Разработать программу для проверки компетенции персонала</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Повысить компетенцию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ыявить возможные источники проблем в работе сотрудников</a:t>
            </a:r>
            <a:endParaRPr b="0" lang="en-US" sz="24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Вести кадровый учет</a:t>
            </a:r>
            <a:endParaRPr b="0" lang="en-US" sz="2400" spc="-1" strike="noStrike">
              <a:solidFill>
                <a:srgbClr val="000000"/>
              </a:solidFill>
              <a:latin typeface="Verdana"/>
            </a:endParaRPr>
          </a:p>
        </p:txBody>
      </p:sp>
      <p:sp>
        <p:nvSpPr>
          <p:cNvPr id="131"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91F64-F8D7-4AA5-80D2-CF725252C68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2"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Документы кадрового учета</a:t>
            </a:r>
            <a:endParaRPr b="0" lang="en-US" sz="4000" spc="-1" strike="noStrike">
              <a:solidFill>
                <a:srgbClr val="00007d"/>
              </a:solidFill>
              <a:latin typeface="Verdana"/>
            </a:endParaRPr>
          </a:p>
        </p:txBody>
      </p:sp>
      <p:sp>
        <p:nvSpPr>
          <p:cNvPr id="362" name="Footer Placeholder 8"/>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63"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E083A-1DC1-42A1-86A7-920497F6FEF2}"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AutoShape 4"/>
          <p:cNvSpPr/>
          <p:nvPr/>
        </p:nvSpPr>
        <p:spPr>
          <a:xfrm>
            <a:off x="457200" y="1676520"/>
            <a:ext cx="2933640" cy="2133360"/>
          </a:xfrm>
          <a:prstGeom prst="foldedCorner">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5" name="Picture 7" descr="MPj04022650000[1]"/>
          <p:cNvPicPr/>
          <p:nvPr/>
        </p:nvPicPr>
        <p:blipFill>
          <a:blip r:embed="rId1"/>
          <a:stretch/>
        </p:blipFill>
        <p:spPr>
          <a:xfrm>
            <a:off x="685800" y="2057400"/>
            <a:ext cx="1959120" cy="2743200"/>
          </a:xfrm>
          <a:prstGeom prst="rect">
            <a:avLst/>
          </a:prstGeom>
          <a:ln w="0">
            <a:noFill/>
          </a:ln>
        </p:spPr>
      </p:pic>
      <p:sp>
        <p:nvSpPr>
          <p:cNvPr id="366" name="Form"/>
          <p:cNvSpPr/>
          <p:nvPr/>
        </p:nvSpPr>
        <p:spPr>
          <a:xfrm>
            <a:off x="2895480" y="2590920"/>
            <a:ext cx="1809720" cy="2219040"/>
          </a:xfrm>
          <a:custGeom>
            <a:avLst/>
            <a:gdLst>
              <a:gd name="textAreaLeft" fmla="*/ 397080 w 1809720"/>
              <a:gd name="textAreaRight" fmla="*/ 1626480 w 1809720"/>
              <a:gd name="textAreaTop" fmla="*/ 134280 h 2219040"/>
              <a:gd name="textAreaBottom" fmla="*/ 1677960 h 2219040"/>
            </a:gdLst>
            <a:ahLst/>
            <a:rect l="textAreaLeft" t="textAreaTop" r="textAreaRight" b="textAreaBottom"/>
            <a:pathLst>
              <a:path w="21600" h="21600">
                <a:moveTo>
                  <a:pt x="10757" y="21632"/>
                </a:moveTo>
                <a:lnTo>
                  <a:pt x="5187" y="21632"/>
                </a:lnTo>
                <a:lnTo>
                  <a:pt x="85" y="17509"/>
                </a:lnTo>
                <a:lnTo>
                  <a:pt x="85" y="10849"/>
                </a:lnTo>
                <a:lnTo>
                  <a:pt x="85" y="81"/>
                </a:lnTo>
                <a:lnTo>
                  <a:pt x="10757" y="81"/>
                </a:lnTo>
                <a:lnTo>
                  <a:pt x="21706" y="81"/>
                </a:lnTo>
                <a:lnTo>
                  <a:pt x="21706" y="10652"/>
                </a:lnTo>
                <a:lnTo>
                  <a:pt x="21706" y="21632"/>
                </a:lnTo>
                <a:lnTo>
                  <a:pt x="10757" y="21632"/>
                </a:lnTo>
                <a:close/>
              </a:path>
              <a:path w="21600" h="21600">
                <a:moveTo>
                  <a:pt x="85" y="17509"/>
                </a:moveTo>
                <a:lnTo>
                  <a:pt x="5187" y="17509"/>
                </a:lnTo>
                <a:lnTo>
                  <a:pt x="5187" y="21632"/>
                </a:lnTo>
                <a:lnTo>
                  <a:pt x="85" y="17509"/>
                </a:lnTo>
                <a:close/>
              </a:path>
              <a:path w="21600" h="21600">
                <a:moveTo>
                  <a:pt x="12840" y="18507"/>
                </a:moveTo>
                <a:lnTo>
                  <a:pt x="16051" y="18507"/>
                </a:lnTo>
                <a:lnTo>
                  <a:pt x="16051" y="19260"/>
                </a:lnTo>
                <a:lnTo>
                  <a:pt x="12840" y="19260"/>
                </a:lnTo>
                <a:lnTo>
                  <a:pt x="12840" y="18507"/>
                </a:lnTo>
                <a:close/>
              </a:path>
              <a:path w="21600" h="21600">
                <a:moveTo>
                  <a:pt x="16731" y="18507"/>
                </a:moveTo>
                <a:lnTo>
                  <a:pt x="19941" y="18507"/>
                </a:lnTo>
                <a:lnTo>
                  <a:pt x="19941" y="19260"/>
                </a:lnTo>
                <a:lnTo>
                  <a:pt x="16731" y="19260"/>
                </a:lnTo>
                <a:lnTo>
                  <a:pt x="16731" y="18507"/>
                </a:lnTo>
                <a:close/>
              </a:path>
              <a:path w="21600" h="21600">
                <a:moveTo>
                  <a:pt x="1913" y="1194"/>
                </a:moveTo>
                <a:lnTo>
                  <a:pt x="3699" y="1194"/>
                </a:lnTo>
                <a:lnTo>
                  <a:pt x="2678" y="1832"/>
                </a:lnTo>
                <a:lnTo>
                  <a:pt x="2296" y="1538"/>
                </a:lnTo>
                <a:lnTo>
                  <a:pt x="2125" y="1636"/>
                </a:lnTo>
                <a:lnTo>
                  <a:pt x="2700" y="2078"/>
                </a:lnTo>
                <a:lnTo>
                  <a:pt x="3699" y="1440"/>
                </a:lnTo>
                <a:lnTo>
                  <a:pt x="3699" y="2176"/>
                </a:lnTo>
                <a:lnTo>
                  <a:pt x="1913" y="2176"/>
                </a:lnTo>
                <a:lnTo>
                  <a:pt x="1913" y="1194"/>
                </a:lnTo>
                <a:close/>
              </a:path>
              <a:path w="21600" h="21600">
                <a:moveTo>
                  <a:pt x="1913" y="2765"/>
                </a:moveTo>
                <a:lnTo>
                  <a:pt x="3699" y="2765"/>
                </a:lnTo>
                <a:lnTo>
                  <a:pt x="2678" y="3403"/>
                </a:lnTo>
                <a:lnTo>
                  <a:pt x="2296" y="3109"/>
                </a:lnTo>
                <a:lnTo>
                  <a:pt x="2125" y="3207"/>
                </a:lnTo>
                <a:lnTo>
                  <a:pt x="2700" y="3649"/>
                </a:lnTo>
                <a:lnTo>
                  <a:pt x="3699" y="3010"/>
                </a:lnTo>
                <a:lnTo>
                  <a:pt x="3699" y="3747"/>
                </a:lnTo>
                <a:lnTo>
                  <a:pt x="1913" y="3747"/>
                </a:lnTo>
                <a:lnTo>
                  <a:pt x="1913" y="2765"/>
                </a:lnTo>
                <a:close/>
              </a:path>
              <a:path w="21600" h="21600">
                <a:moveTo>
                  <a:pt x="1913" y="4336"/>
                </a:moveTo>
                <a:lnTo>
                  <a:pt x="3699" y="4336"/>
                </a:lnTo>
                <a:lnTo>
                  <a:pt x="2678" y="4974"/>
                </a:lnTo>
                <a:lnTo>
                  <a:pt x="2296" y="4680"/>
                </a:lnTo>
                <a:lnTo>
                  <a:pt x="2125" y="4778"/>
                </a:lnTo>
                <a:lnTo>
                  <a:pt x="2700" y="5220"/>
                </a:lnTo>
                <a:lnTo>
                  <a:pt x="3699" y="4581"/>
                </a:lnTo>
                <a:lnTo>
                  <a:pt x="3699" y="5318"/>
                </a:lnTo>
                <a:lnTo>
                  <a:pt x="1913" y="5318"/>
                </a:lnTo>
                <a:lnTo>
                  <a:pt x="1913" y="4336"/>
                </a:lnTo>
                <a:close/>
              </a:path>
              <a:path w="21600" h="21600">
                <a:moveTo>
                  <a:pt x="1913" y="5907"/>
                </a:moveTo>
                <a:lnTo>
                  <a:pt x="3699" y="5907"/>
                </a:lnTo>
                <a:lnTo>
                  <a:pt x="2678" y="6545"/>
                </a:lnTo>
                <a:lnTo>
                  <a:pt x="2296" y="6250"/>
                </a:lnTo>
                <a:lnTo>
                  <a:pt x="2125" y="6349"/>
                </a:lnTo>
                <a:lnTo>
                  <a:pt x="2700" y="6790"/>
                </a:lnTo>
                <a:lnTo>
                  <a:pt x="3699" y="6152"/>
                </a:lnTo>
                <a:lnTo>
                  <a:pt x="3699" y="6889"/>
                </a:lnTo>
                <a:lnTo>
                  <a:pt x="1913" y="6889"/>
                </a:lnTo>
                <a:lnTo>
                  <a:pt x="1913" y="5907"/>
                </a:lnTo>
                <a:close/>
              </a:path>
              <a:path w="21600" h="21600">
                <a:moveTo>
                  <a:pt x="1913" y="7478"/>
                </a:moveTo>
                <a:lnTo>
                  <a:pt x="3699" y="7478"/>
                </a:lnTo>
                <a:lnTo>
                  <a:pt x="2678" y="8116"/>
                </a:lnTo>
                <a:lnTo>
                  <a:pt x="2296" y="7821"/>
                </a:lnTo>
                <a:lnTo>
                  <a:pt x="2125" y="7919"/>
                </a:lnTo>
                <a:lnTo>
                  <a:pt x="2700" y="8361"/>
                </a:lnTo>
                <a:lnTo>
                  <a:pt x="3699" y="7723"/>
                </a:lnTo>
                <a:lnTo>
                  <a:pt x="3699" y="8460"/>
                </a:lnTo>
                <a:lnTo>
                  <a:pt x="1913" y="8460"/>
                </a:lnTo>
                <a:lnTo>
                  <a:pt x="1913" y="7478"/>
                </a:lnTo>
                <a:close/>
              </a:path>
              <a:path w="21600" h="21600">
                <a:moveTo>
                  <a:pt x="1913" y="9049"/>
                </a:moveTo>
                <a:lnTo>
                  <a:pt x="3699" y="9049"/>
                </a:lnTo>
                <a:lnTo>
                  <a:pt x="2678" y="9687"/>
                </a:lnTo>
                <a:lnTo>
                  <a:pt x="2296" y="9392"/>
                </a:lnTo>
                <a:lnTo>
                  <a:pt x="2125" y="9490"/>
                </a:lnTo>
                <a:lnTo>
                  <a:pt x="2700" y="9932"/>
                </a:lnTo>
                <a:lnTo>
                  <a:pt x="3699" y="9294"/>
                </a:lnTo>
                <a:lnTo>
                  <a:pt x="3699" y="10030"/>
                </a:lnTo>
                <a:lnTo>
                  <a:pt x="1913" y="10030"/>
                </a:lnTo>
                <a:lnTo>
                  <a:pt x="1913" y="9049"/>
                </a:lnTo>
                <a:close/>
              </a:path>
              <a:path w="21600" h="21600">
                <a:moveTo>
                  <a:pt x="1913" y="10620"/>
                </a:moveTo>
                <a:lnTo>
                  <a:pt x="3699" y="10620"/>
                </a:lnTo>
                <a:lnTo>
                  <a:pt x="2678" y="11258"/>
                </a:lnTo>
                <a:lnTo>
                  <a:pt x="2296" y="10963"/>
                </a:lnTo>
                <a:lnTo>
                  <a:pt x="2125" y="11061"/>
                </a:lnTo>
                <a:lnTo>
                  <a:pt x="2700" y="11503"/>
                </a:lnTo>
                <a:lnTo>
                  <a:pt x="3699" y="10865"/>
                </a:lnTo>
                <a:lnTo>
                  <a:pt x="3699" y="11601"/>
                </a:lnTo>
                <a:lnTo>
                  <a:pt x="1913" y="11601"/>
                </a:lnTo>
                <a:lnTo>
                  <a:pt x="1913" y="10620"/>
                </a:lnTo>
                <a:close/>
              </a:path>
              <a:path w="21600" h="21600">
                <a:moveTo>
                  <a:pt x="1913" y="12190"/>
                </a:moveTo>
                <a:lnTo>
                  <a:pt x="3699" y="12190"/>
                </a:lnTo>
                <a:lnTo>
                  <a:pt x="2678" y="12829"/>
                </a:lnTo>
                <a:lnTo>
                  <a:pt x="2296" y="12534"/>
                </a:lnTo>
                <a:lnTo>
                  <a:pt x="2125" y="12632"/>
                </a:lnTo>
                <a:lnTo>
                  <a:pt x="2700" y="13074"/>
                </a:lnTo>
                <a:lnTo>
                  <a:pt x="3699" y="12436"/>
                </a:lnTo>
                <a:lnTo>
                  <a:pt x="3699" y="13172"/>
                </a:lnTo>
                <a:lnTo>
                  <a:pt x="1913" y="13172"/>
                </a:lnTo>
                <a:lnTo>
                  <a:pt x="1913" y="12190"/>
                </a:lnTo>
                <a:close/>
              </a:path>
              <a:path w="21600" h="21600">
                <a:moveTo>
                  <a:pt x="1913" y="13761"/>
                </a:moveTo>
                <a:lnTo>
                  <a:pt x="3699" y="13761"/>
                </a:lnTo>
                <a:lnTo>
                  <a:pt x="2678" y="14400"/>
                </a:lnTo>
                <a:lnTo>
                  <a:pt x="2296" y="14105"/>
                </a:lnTo>
                <a:lnTo>
                  <a:pt x="2125" y="14203"/>
                </a:lnTo>
                <a:lnTo>
                  <a:pt x="2700" y="14645"/>
                </a:lnTo>
                <a:lnTo>
                  <a:pt x="3699" y="14007"/>
                </a:lnTo>
                <a:lnTo>
                  <a:pt x="3699" y="14743"/>
                </a:lnTo>
                <a:lnTo>
                  <a:pt x="1913" y="14743"/>
                </a:lnTo>
                <a:lnTo>
                  <a:pt x="1913" y="13761"/>
                </a:lnTo>
                <a:close/>
              </a:path>
              <a:path w="21600" h="21600">
                <a:moveTo>
                  <a:pt x="1913" y="15332"/>
                </a:moveTo>
                <a:lnTo>
                  <a:pt x="3699" y="15332"/>
                </a:lnTo>
                <a:lnTo>
                  <a:pt x="2678" y="15970"/>
                </a:lnTo>
                <a:lnTo>
                  <a:pt x="2296" y="15676"/>
                </a:lnTo>
                <a:lnTo>
                  <a:pt x="2125" y="15774"/>
                </a:lnTo>
                <a:lnTo>
                  <a:pt x="2700" y="16216"/>
                </a:lnTo>
                <a:lnTo>
                  <a:pt x="3699" y="15578"/>
                </a:lnTo>
                <a:lnTo>
                  <a:pt x="3699" y="16314"/>
                </a:lnTo>
                <a:lnTo>
                  <a:pt x="1913" y="16314"/>
                </a:lnTo>
                <a:lnTo>
                  <a:pt x="1913" y="15332"/>
                </a:lnTo>
                <a:close/>
              </a:path>
            </a:pathLst>
          </a:custGeom>
          <a:no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Rectangle 10"/>
          <p:cNvSpPr/>
          <p:nvPr/>
        </p:nvSpPr>
        <p:spPr>
          <a:xfrm>
            <a:off x="6095880" y="1676520"/>
            <a:ext cx="1828800" cy="2057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Form"/>
          <p:cNvSpPr/>
          <p:nvPr/>
        </p:nvSpPr>
        <p:spPr>
          <a:xfrm>
            <a:off x="4800600" y="1523880"/>
            <a:ext cx="2590920" cy="275292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Аттестация работы</a:t>
            </a:r>
            <a:endParaRPr b="0" lang="en-US" sz="2000" spc="-1" strike="noStrike">
              <a:solidFill>
                <a:srgbClr val="000000"/>
              </a:solidFill>
              <a:latin typeface="Arial"/>
            </a:endParaRPr>
          </a:p>
        </p:txBody>
      </p:sp>
      <p:sp>
        <p:nvSpPr>
          <p:cNvPr id="369" name="Rectangle 12"/>
          <p:cNvSpPr/>
          <p:nvPr/>
        </p:nvSpPr>
        <p:spPr>
          <a:xfrm>
            <a:off x="4191120" y="2514600"/>
            <a:ext cx="2895480" cy="228600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petency Assessmen</a:t>
            </a:r>
            <a:endParaRPr b="0" lang="en-US" sz="1800" spc="-1" strike="noStrike">
              <a:solidFill>
                <a:srgbClr val="000000"/>
              </a:solidFill>
              <a:latin typeface="Arial"/>
            </a:endParaRPr>
          </a:p>
        </p:txBody>
      </p:sp>
      <p:sp>
        <p:nvSpPr>
          <p:cNvPr id="370" name="File"/>
          <p:cNvSpPr/>
          <p:nvPr/>
        </p:nvSpPr>
        <p:spPr>
          <a:xfrm>
            <a:off x="2438280" y="3048120"/>
            <a:ext cx="4572000" cy="3200400"/>
          </a:xfrm>
          <a:custGeom>
            <a:avLst/>
            <a:gdLst>
              <a:gd name="textAreaLeft" fmla="*/ 229680 w 4572000"/>
              <a:gd name="textAreaRight" fmla="*/ 4367880 w 4572000"/>
              <a:gd name="textAreaTop" fmla="*/ 685440 h 3200400"/>
              <a:gd name="textAreaBottom" fmla="*/ 3006360 h 320040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Rectangle 14"/>
          <p:cNvSpPr/>
          <p:nvPr/>
        </p:nvSpPr>
        <p:spPr>
          <a:xfrm>
            <a:off x="2568600" y="4495680"/>
            <a:ext cx="4365720" cy="91440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700" spc="-1" strike="noStrike">
                <a:solidFill>
                  <a:srgbClr val="ffffff"/>
                </a:solidFill>
                <a:latin typeface="Verdana"/>
              </a:rPr>
              <a:t>КОНФИДЕНЦИАЛЬНО</a:t>
            </a:r>
            <a:endParaRPr b="0" lang="en-US" sz="2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2" name="Text Box 15"/>
          <p:cNvSpPr/>
          <p:nvPr/>
        </p:nvSpPr>
        <p:spPr>
          <a:xfrm>
            <a:off x="2666880" y="3200400"/>
            <a:ext cx="144792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Джон Смит</a:t>
            </a:r>
            <a:endParaRPr b="0" lang="en-US" sz="1800" spc="-1" strike="noStrike">
              <a:solidFill>
                <a:srgbClr val="000000"/>
              </a:solidFill>
              <a:latin typeface="Arial"/>
            </a:endParaRPr>
          </a:p>
        </p:txBody>
      </p:sp>
      <p:sp>
        <p:nvSpPr>
          <p:cNvPr id="373" name="Rectangle 16"/>
          <p:cNvSpPr/>
          <p:nvPr/>
        </p:nvSpPr>
        <p:spPr>
          <a:xfrm>
            <a:off x="457200" y="1676520"/>
            <a:ext cx="293364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Записи по обучению</a:t>
            </a:r>
            <a:endParaRPr b="0" lang="en-US" sz="2000" spc="-1" strike="noStrike">
              <a:solidFill>
                <a:srgbClr val="000000"/>
              </a:solidFill>
              <a:latin typeface="Arial"/>
            </a:endParaRPr>
          </a:p>
        </p:txBody>
      </p:sp>
      <p:sp>
        <p:nvSpPr>
          <p:cNvPr id="374" name="Text Box 18"/>
          <p:cNvSpPr/>
          <p:nvPr/>
        </p:nvSpPr>
        <p:spPr>
          <a:xfrm>
            <a:off x="4191120" y="2666880"/>
            <a:ext cx="281916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Оценка компетенци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6840" y="380520"/>
            <a:ext cx="838188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Выводы</a:t>
            </a:r>
            <a:endParaRPr b="0" lang="en-US" sz="3600" spc="-1" strike="noStrike">
              <a:solidFill>
                <a:srgbClr val="00007d"/>
              </a:solidFill>
              <a:latin typeface="Verdana"/>
            </a:endParaRPr>
          </a:p>
        </p:txBody>
      </p:sp>
      <p:sp>
        <p:nvSpPr>
          <p:cNvPr id="376" name="PlaceHolder 2"/>
          <p:cNvSpPr>
            <a:spLocks noGrp="1"/>
          </p:cNvSpPr>
          <p:nvPr>
            <p:ph/>
          </p:nvPr>
        </p:nvSpPr>
        <p:spPr>
          <a:xfrm>
            <a:off x="609480" y="1203480"/>
            <a:ext cx="8229600" cy="5016240"/>
          </a:xfrm>
          <a:prstGeom prst="rect">
            <a:avLst/>
          </a:prstGeom>
          <a:noFill/>
          <a:ln w="0">
            <a:noFill/>
          </a:ln>
        </p:spPr>
        <p:txBody>
          <a:bodyPr anchor="t">
            <a:normAutofit/>
          </a:bodyPr>
          <a:p>
            <a:pPr lvl="1" marL="45072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Управление персоналом имеет исключительную важность для успеха программы управления качеством. </a:t>
            </a:r>
            <a:endParaRPr b="0" lang="en-US" sz="2800" spc="-1" strike="noStrike">
              <a:solidFill>
                <a:srgbClr val="000000"/>
              </a:solidFill>
              <a:latin typeface="Verdana"/>
            </a:endParaRPr>
          </a:p>
          <a:p>
            <a:pPr lvl="1" marL="450720" indent="64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остные инструкции должны точно описывать задачи и полномочия</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а оцениваться компетенция</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бучение поможет обеспечить компетенцию персонала. </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олжны иметься методы для привлечения и удержания сотрудников</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377"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42284-0BA8-4785-88D8-46175558610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8"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380880" y="380520"/>
            <a:ext cx="8382240" cy="83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Основные положения</a:t>
            </a:r>
            <a:endParaRPr b="0" lang="en-US" sz="3600" spc="-1" strike="noStrike">
              <a:solidFill>
                <a:srgbClr val="00007d"/>
              </a:solidFill>
              <a:latin typeface="Verdana"/>
            </a:endParaRPr>
          </a:p>
        </p:txBody>
      </p:sp>
      <p:sp>
        <p:nvSpPr>
          <p:cNvPr id="380" name="PlaceHolder 2"/>
          <p:cNvSpPr>
            <a:spLocks noGrp="1"/>
          </p:cNvSpPr>
          <p:nvPr>
            <p:ph/>
          </p:nvPr>
        </p:nvSpPr>
        <p:spPr>
          <a:xfrm>
            <a:off x="380520" y="1360080"/>
            <a:ext cx="8610840" cy="3846600"/>
          </a:xfrm>
          <a:prstGeom prst="rect">
            <a:avLst/>
          </a:prstGeom>
          <a:noFill/>
          <a:ln w="0">
            <a:noFill/>
          </a:ln>
        </p:spPr>
        <p:txBody>
          <a:bodyPr anchor="t">
            <a:normAutofit/>
          </a:bodyPr>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Персонал является наиболее важным ресурсом в лаборатории.</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высокого качества работы в лаборатории руководство должно создать рабочую среду, которая будет благоприятной для всего персонала.</a:t>
            </a:r>
            <a:endParaRPr b="0" lang="en-US" sz="2800" spc="-1" strike="noStrike">
              <a:solidFill>
                <a:srgbClr val="000000"/>
              </a:solidFill>
              <a:latin typeface="Verdana"/>
            </a:endParaRPr>
          </a:p>
          <a:p>
            <a:pPr marL="343080" indent="-343080">
              <a:spcBef>
                <a:spcPts val="11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Для поддержания компетенции персонала необходимо продолжение образования.</a:t>
            </a:r>
            <a:endParaRPr b="0" lang="en-US" sz="2800" spc="-1" strike="noStrike">
              <a:solidFill>
                <a:srgbClr val="000000"/>
              </a:solidFill>
              <a:latin typeface="Verdana"/>
            </a:endParaRPr>
          </a:p>
        </p:txBody>
      </p:sp>
      <p:sp>
        <p:nvSpPr>
          <p:cNvPr id="381"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5CD43-78E8-4758-830F-C173B58AE44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2"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384"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3BE85-E082-4D09-8DE6-FFD1C48443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85" name="PlaceHolder 1"/>
          <p:cNvSpPr>
            <a:spLocks noGrp="1"/>
          </p:cNvSpPr>
          <p:nvPr>
            <p:ph type="title"/>
          </p:nvPr>
        </p:nvSpPr>
        <p:spPr>
          <a:xfrm>
            <a:off x="5105520" y="1218960"/>
            <a:ext cx="4038480" cy="192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7d"/>
                </a:solidFill>
                <a:latin typeface="Verdana"/>
              </a:rPr>
              <a:t>Вопросы</a:t>
            </a:r>
            <a:r>
              <a:rPr b="0" lang="en-US" sz="4000" spc="-1" strike="noStrike">
                <a:solidFill>
                  <a:srgbClr val="00007d"/>
                </a:solidFill>
                <a:latin typeface="Verdana"/>
              </a:rPr>
              <a:t>?</a:t>
            </a:r>
            <a:br>
              <a:rPr sz="4000"/>
            </a:br>
            <a:br>
              <a:rPr sz="4000"/>
            </a:br>
            <a:r>
              <a:rPr b="0" lang="ru-RU" sz="4000" spc="-1" strike="noStrike">
                <a:solidFill>
                  <a:srgbClr val="00007d"/>
                </a:solidFill>
                <a:latin typeface="Verdana"/>
              </a:rPr>
              <a:t>Комментарии</a:t>
            </a:r>
            <a:r>
              <a:rPr b="0" lang="en-US" sz="4000" spc="-1" strike="noStrike">
                <a:solidFill>
                  <a:srgbClr val="00007d"/>
                </a:solidFill>
                <a:latin typeface="Verdana"/>
              </a:rPr>
              <a:t>?</a:t>
            </a:r>
            <a:endParaRPr b="0" lang="en-US" sz="4000" spc="-1" strike="noStrike">
              <a:solidFill>
                <a:srgbClr val="00007d"/>
              </a:solidFill>
              <a:latin typeface="Verdana"/>
            </a:endParaRPr>
          </a:p>
        </p:txBody>
      </p:sp>
      <p:grpSp>
        <p:nvGrpSpPr>
          <p:cNvPr id="386" name="Group 99"/>
          <p:cNvGrpSpPr/>
          <p:nvPr/>
        </p:nvGrpSpPr>
        <p:grpSpPr>
          <a:xfrm>
            <a:off x="264960" y="1143000"/>
            <a:ext cx="4700880" cy="4708440"/>
            <a:chOff x="264960" y="1143000"/>
            <a:chExt cx="4700880" cy="4708440"/>
          </a:xfrm>
        </p:grpSpPr>
        <p:sp>
          <p:nvSpPr>
            <p:cNvPr id="387" name="AutoShape 4"/>
            <p:cNvSpPr/>
            <p:nvPr/>
          </p:nvSpPr>
          <p:spPr>
            <a:xfrm>
              <a:off x="264960" y="1143000"/>
              <a:ext cx="4700880" cy="4708440"/>
            </a:xfrm>
            <a:custGeom>
              <a:avLst/>
              <a:gdLst>
                <a:gd name="textAreaLeft" fmla="*/ 229320 w 4700880"/>
                <a:gd name="textAreaRight" fmla="*/ 4471560 w 4700880"/>
                <a:gd name="textAreaTop" fmla="*/ 229320 h 4708440"/>
                <a:gd name="textAreaBottom" fmla="*/ 4479120 h 4708440"/>
              </a:gdLst>
              <a:ahLst/>
              <a:rect l="textAreaLeft" t="textAreaTop" r="textAreaRight" b="textAreaBottom"/>
              <a:pathLst>
                <a:path w="21600" h="21635">
                  <a:moveTo>
                    <a:pt x="3600" y="0"/>
                  </a:moveTo>
                  <a:arcTo wR="3600" hR="3600" stAng="16200000" swAng="-5400000"/>
                  <a:lnTo>
                    <a:pt x="0" y="18035"/>
                  </a:lnTo>
                  <a:arcTo wR="3600" hR="3600" stAng="10800000" swAng="-5400000"/>
                  <a:lnTo>
                    <a:pt x="18000" y="21635"/>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reeform 9"/>
            <p:cNvSpPr/>
            <p:nvPr/>
          </p:nvSpPr>
          <p:spPr>
            <a:xfrm>
              <a:off x="2301120" y="3621240"/>
              <a:ext cx="109080" cy="63360"/>
            </a:xfrm>
            <a:custGeom>
              <a:avLst/>
              <a:gdLst>
                <a:gd name="textAreaLeft" fmla="*/ 0 w 109080"/>
                <a:gd name="textAreaRight" fmla="*/ 109440 w 109080"/>
                <a:gd name="textAreaTop" fmla="*/ 0 h 63360"/>
                <a:gd name="textAreaBottom" fmla="*/ 63720 h 6336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16920" bIns="16920" anchor="t">
              <a:noAutofit/>
            </a:bodyPr>
            <a:p>
              <a:endParaRPr b="0" lang="en-US" sz="1800" spc="-1" strike="noStrike">
                <a:solidFill>
                  <a:srgbClr val="000000"/>
                </a:solidFill>
                <a:latin typeface="Arial"/>
              </a:endParaRPr>
            </a:p>
          </p:txBody>
        </p:sp>
        <p:sp>
          <p:nvSpPr>
            <p:cNvPr id="389" name="Freeform 10"/>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Freeform 11"/>
            <p:cNvSpPr/>
            <p:nvPr/>
          </p:nvSpPr>
          <p:spPr>
            <a:xfrm>
              <a:off x="2272320" y="3614040"/>
              <a:ext cx="291960" cy="338760"/>
            </a:xfrm>
            <a:custGeom>
              <a:avLst/>
              <a:gdLst>
                <a:gd name="textAreaLeft" fmla="*/ 0 w 291960"/>
                <a:gd name="textAreaRight" fmla="*/ 292320 w 291960"/>
                <a:gd name="textAreaTop" fmla="*/ 0 h 338760"/>
                <a:gd name="textAreaBottom" fmla="*/ 339120 h 3387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12"/>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Freeform 13"/>
            <p:cNvSpPr/>
            <p:nvPr/>
          </p:nvSpPr>
          <p:spPr>
            <a:xfrm>
              <a:off x="2509920" y="2487240"/>
              <a:ext cx="486720" cy="846360"/>
            </a:xfrm>
            <a:custGeom>
              <a:avLst/>
              <a:gdLst>
                <a:gd name="textAreaLeft" fmla="*/ 0 w 486720"/>
                <a:gd name="textAreaRight" fmla="*/ 487080 w 486720"/>
                <a:gd name="textAreaTop" fmla="*/ 0 h 846360"/>
                <a:gd name="textAreaBottom" fmla="*/ 846720 h 84636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Freeform 16"/>
            <p:cNvSpPr/>
            <p:nvPr/>
          </p:nvSpPr>
          <p:spPr>
            <a:xfrm>
              <a:off x="1062720" y="3062880"/>
              <a:ext cx="152280" cy="99360"/>
            </a:xfrm>
            <a:custGeom>
              <a:avLst/>
              <a:gdLst>
                <a:gd name="textAreaLeft" fmla="*/ 0 w 152280"/>
                <a:gd name="textAreaRight" fmla="*/ 152640 w 152280"/>
                <a:gd name="textAreaTop" fmla="*/ 0 h 99360"/>
                <a:gd name="textAreaBottom" fmla="*/ 99720 h 9936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Freeform 22"/>
            <p:cNvSpPr/>
            <p:nvPr/>
          </p:nvSpPr>
          <p:spPr>
            <a:xfrm>
              <a:off x="1052640" y="3007800"/>
              <a:ext cx="155160" cy="34560"/>
            </a:xfrm>
            <a:custGeom>
              <a:avLst/>
              <a:gdLst>
                <a:gd name="textAreaLeft" fmla="*/ 0 w 155160"/>
                <a:gd name="textAreaRight" fmla="*/ 155520 w 155160"/>
                <a:gd name="textAreaTop" fmla="*/ 0 h 34560"/>
                <a:gd name="textAreaBottom" fmla="*/ 34920 h 345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95" name="Line 24"/>
            <p:cNvSpPr/>
            <p:nvPr/>
          </p:nvSpPr>
          <p:spPr>
            <a:xfrm flipH="1" flipV="1">
              <a:off x="2673000" y="5500440"/>
              <a:ext cx="10080" cy="40320"/>
            </a:xfrm>
            <a:prstGeom prst="line">
              <a:avLst/>
            </a:prstGeom>
            <a:ln w="0">
              <a:solidFill>
                <a:srgbClr val="949393"/>
              </a:solid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6" name="Line 25"/>
            <p:cNvSpPr/>
            <p:nvPr/>
          </p:nvSpPr>
          <p:spPr>
            <a:xfrm flipV="1">
              <a:off x="2435040" y="4480920"/>
              <a:ext cx="1440" cy="90720"/>
            </a:xfrm>
            <a:prstGeom prst="line">
              <a:avLst/>
            </a:prstGeom>
            <a:ln w="0">
              <a:solidFill>
                <a:srgbClr val="949393"/>
              </a:solid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397" name="Line 27"/>
            <p:cNvSpPr/>
            <p:nvPr/>
          </p:nvSpPr>
          <p:spPr>
            <a:xfrm>
              <a:off x="4066920" y="1722600"/>
              <a:ext cx="1440" cy="35676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Line 27"/>
            <p:cNvSpPr/>
            <p:nvPr/>
          </p:nvSpPr>
          <p:spPr>
            <a:xfrm>
              <a:off x="2615040" y="1861200"/>
              <a:ext cx="144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Line 27"/>
            <p:cNvSpPr/>
            <p:nvPr/>
          </p:nvSpPr>
          <p:spPr>
            <a:xfrm>
              <a:off x="1094400" y="1904400"/>
              <a:ext cx="1080" cy="35672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Line 27"/>
            <p:cNvSpPr/>
            <p:nvPr/>
          </p:nvSpPr>
          <p:spPr>
            <a:xfrm flipH="1">
              <a:off x="817200" y="1764360"/>
              <a:ext cx="356148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01" name="Group 65"/>
            <p:cNvGrpSpPr/>
            <p:nvPr/>
          </p:nvGrpSpPr>
          <p:grpSpPr>
            <a:xfrm>
              <a:off x="541080" y="1223640"/>
              <a:ext cx="1144440" cy="1035360"/>
              <a:chOff x="541080" y="1223640"/>
              <a:chExt cx="1144440" cy="1035360"/>
            </a:xfrm>
          </p:grpSpPr>
          <p:grpSp>
            <p:nvGrpSpPr>
              <p:cNvPr id="402" name="Group 66"/>
              <p:cNvGrpSpPr/>
              <p:nvPr/>
            </p:nvGrpSpPr>
            <p:grpSpPr>
              <a:xfrm>
                <a:off x="541080" y="1223640"/>
                <a:ext cx="1123920" cy="1035360"/>
                <a:chOff x="541080" y="1223640"/>
                <a:chExt cx="1123920" cy="1035360"/>
              </a:xfrm>
            </p:grpSpPr>
            <p:grpSp>
              <p:nvGrpSpPr>
                <p:cNvPr id="403" name="Group 67"/>
                <p:cNvGrpSpPr/>
                <p:nvPr/>
              </p:nvGrpSpPr>
              <p:grpSpPr>
                <a:xfrm>
                  <a:off x="587880" y="1223640"/>
                  <a:ext cx="1045440" cy="1035360"/>
                  <a:chOff x="587880" y="1223640"/>
                  <a:chExt cx="1045440" cy="1035360"/>
                </a:xfrm>
              </p:grpSpPr>
              <p:sp>
                <p:nvSpPr>
                  <p:cNvPr id="404" name="Freeform 68"/>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Freeform 69"/>
                  <p:cNvSpPr/>
                  <p:nvPr/>
                </p:nvSpPr>
                <p:spPr>
                  <a:xfrm>
                    <a:off x="587880" y="12236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Text Box 70"/>
                <p:cNvSpPr/>
                <p:nvPr/>
              </p:nvSpPr>
              <p:spPr>
                <a:xfrm>
                  <a:off x="541080" y="1462320"/>
                  <a:ext cx="1123920" cy="24552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7" name="Text Box 71"/>
              <p:cNvSpPr/>
              <p:nvPr/>
            </p:nvSpPr>
            <p:spPr>
              <a:xfrm>
                <a:off x="561600" y="1593000"/>
                <a:ext cx="112392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рганизация</a:t>
                </a:r>
                <a:endParaRPr b="0" lang="en-US" sz="1000" spc="-1" strike="noStrike">
                  <a:solidFill>
                    <a:srgbClr val="000000"/>
                  </a:solidFill>
                  <a:latin typeface="Arial"/>
                </a:endParaRPr>
              </a:p>
            </p:txBody>
          </p:sp>
        </p:grpSp>
        <p:grpSp>
          <p:nvGrpSpPr>
            <p:cNvPr id="408" name="Group 72"/>
            <p:cNvGrpSpPr/>
            <p:nvPr/>
          </p:nvGrpSpPr>
          <p:grpSpPr>
            <a:xfrm>
              <a:off x="2043360" y="1223640"/>
              <a:ext cx="1124640" cy="1035360"/>
              <a:chOff x="2043360" y="1223640"/>
              <a:chExt cx="1124640" cy="1035360"/>
            </a:xfrm>
          </p:grpSpPr>
          <p:sp>
            <p:nvSpPr>
              <p:cNvPr id="409" name="Freeform 73"/>
              <p:cNvSpPr/>
              <p:nvPr/>
            </p:nvSpPr>
            <p:spPr>
              <a:xfrm>
                <a:off x="208044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Text Box 74"/>
              <p:cNvSpPr/>
              <p:nvPr/>
            </p:nvSpPr>
            <p:spPr>
              <a:xfrm>
                <a:off x="2043360" y="159300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Персонал</a:t>
                </a:r>
                <a:endParaRPr b="0" lang="en-US" sz="1000" spc="-1" strike="noStrike">
                  <a:solidFill>
                    <a:srgbClr val="000000"/>
                  </a:solidFill>
                  <a:latin typeface="Arial"/>
                </a:endParaRPr>
              </a:p>
            </p:txBody>
          </p:sp>
        </p:grpSp>
        <p:grpSp>
          <p:nvGrpSpPr>
            <p:cNvPr id="411" name="Group 75"/>
            <p:cNvGrpSpPr/>
            <p:nvPr/>
          </p:nvGrpSpPr>
          <p:grpSpPr>
            <a:xfrm>
              <a:off x="3495240" y="1223640"/>
              <a:ext cx="1124640" cy="1035360"/>
              <a:chOff x="3495240" y="1223640"/>
              <a:chExt cx="1124640" cy="1035360"/>
            </a:xfrm>
          </p:grpSpPr>
          <p:grpSp>
            <p:nvGrpSpPr>
              <p:cNvPr id="412" name="Group 76"/>
              <p:cNvGrpSpPr/>
              <p:nvPr/>
            </p:nvGrpSpPr>
            <p:grpSpPr>
              <a:xfrm>
                <a:off x="3536280" y="1223640"/>
                <a:ext cx="1046160" cy="1035360"/>
                <a:chOff x="3536280" y="1223640"/>
                <a:chExt cx="1046160" cy="1035360"/>
              </a:xfrm>
            </p:grpSpPr>
            <p:sp>
              <p:nvSpPr>
                <p:cNvPr id="413" name="Freeform 77"/>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4" name="Freeform 78"/>
                <p:cNvSpPr/>
                <p:nvPr/>
              </p:nvSpPr>
              <p:spPr>
                <a:xfrm>
                  <a:off x="3536280" y="1223640"/>
                  <a:ext cx="1046160" cy="1035360"/>
                </a:xfrm>
                <a:custGeom>
                  <a:avLst/>
                  <a:gdLst>
                    <a:gd name="textAreaLeft" fmla="*/ 0 w 1046160"/>
                    <a:gd name="textAreaRight" fmla="*/ 1046520 w 104616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5" name="Text Box 79"/>
              <p:cNvSpPr/>
              <p:nvPr/>
            </p:nvSpPr>
            <p:spPr>
              <a:xfrm>
                <a:off x="3495240" y="159552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орудование</a:t>
                </a:r>
                <a:endParaRPr b="0" lang="en-US" sz="1000" spc="-1" strike="noStrike">
                  <a:solidFill>
                    <a:srgbClr val="000000"/>
                  </a:solidFill>
                  <a:latin typeface="Arial"/>
                </a:endParaRPr>
              </a:p>
            </p:txBody>
          </p:sp>
        </p:grpSp>
        <p:sp>
          <p:nvSpPr>
            <p:cNvPr id="416" name="Line 27"/>
            <p:cNvSpPr/>
            <p:nvPr/>
          </p:nvSpPr>
          <p:spPr>
            <a:xfrm flipH="1">
              <a:off x="886680" y="294192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17" name="Group 130"/>
            <p:cNvGrpSpPr/>
            <p:nvPr/>
          </p:nvGrpSpPr>
          <p:grpSpPr>
            <a:xfrm>
              <a:off x="541080" y="2389320"/>
              <a:ext cx="1052640" cy="1035360"/>
              <a:chOff x="541080" y="2389320"/>
              <a:chExt cx="1052640" cy="1035360"/>
            </a:xfrm>
          </p:grpSpPr>
          <p:sp>
            <p:nvSpPr>
              <p:cNvPr id="418" name="Freeform 46"/>
              <p:cNvSpPr/>
              <p:nvPr/>
            </p:nvSpPr>
            <p:spPr>
              <a:xfrm>
                <a:off x="545040" y="2389320"/>
                <a:ext cx="1048320" cy="1035360"/>
              </a:xfrm>
              <a:custGeom>
                <a:avLst/>
                <a:gdLst>
                  <a:gd name="textAreaLeft" fmla="*/ 0 w 1048320"/>
                  <a:gd name="textAreaRight" fmla="*/ 1048680 w 1048320"/>
                  <a:gd name="textAreaTop" fmla="*/ 0 h 1035360"/>
                  <a:gd name="textAreaBottom" fmla="*/ 1035720 h 10353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Text Box 47"/>
              <p:cNvSpPr/>
              <p:nvPr/>
            </p:nvSpPr>
            <p:spPr>
              <a:xfrm>
                <a:off x="541080" y="2654280"/>
                <a:ext cx="1052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Закупка и</a:t>
                </a:r>
                <a:r>
                  <a:rPr b="1" lang="en-US" sz="1000" spc="-1" strike="noStrike">
                    <a:solidFill>
                      <a:srgbClr val="ffffff"/>
                    </a:solidFill>
                    <a:latin typeface="Arial"/>
                  </a:rPr>
                  <a:t> </a:t>
                </a:r>
                <a:br>
                  <a:rPr sz="1000"/>
                </a:br>
                <a:r>
                  <a:rPr b="1" lang="ru-RU" sz="1000" spc="-1" strike="noStrike">
                    <a:solidFill>
                      <a:srgbClr val="ffffff"/>
                    </a:solidFill>
                    <a:latin typeface="Arial"/>
                  </a:rPr>
                  <a:t>инвентарный учет</a:t>
                </a:r>
                <a:endParaRPr b="0" lang="en-US" sz="1000" spc="-1" strike="noStrike">
                  <a:solidFill>
                    <a:srgbClr val="000000"/>
                  </a:solidFill>
                  <a:latin typeface="Arial"/>
                </a:endParaRPr>
              </a:p>
            </p:txBody>
          </p:sp>
        </p:grpSp>
        <p:sp>
          <p:nvSpPr>
            <p:cNvPr id="420" name="Freeform 31"/>
            <p:cNvSpPr/>
            <p:nvPr/>
          </p:nvSpPr>
          <p:spPr>
            <a:xfrm>
              <a:off x="2088000" y="2443680"/>
              <a:ext cx="1045800" cy="1037160"/>
            </a:xfrm>
            <a:custGeom>
              <a:avLst/>
              <a:gdLst>
                <a:gd name="textAreaLeft" fmla="*/ 0 w 1045800"/>
                <a:gd name="textAreaRight" fmla="*/ 1046160 w 1045800"/>
                <a:gd name="textAreaTop" fmla="*/ 0 h 1037160"/>
                <a:gd name="textAreaBottom" fmla="*/ 1037520 h 10371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Text Box 43"/>
            <p:cNvSpPr/>
            <p:nvPr/>
          </p:nvSpPr>
          <p:spPr>
            <a:xfrm>
              <a:off x="2092320" y="2739960"/>
              <a:ext cx="1042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Контроль процессов</a:t>
              </a:r>
              <a:endParaRPr b="0" lang="en-US" sz="1000" spc="-1" strike="noStrike">
                <a:solidFill>
                  <a:srgbClr val="000000"/>
                </a:solidFill>
                <a:latin typeface="Arial"/>
              </a:endParaRPr>
            </a:p>
          </p:txBody>
        </p:sp>
        <p:grpSp>
          <p:nvGrpSpPr>
            <p:cNvPr id="422" name="Group 135"/>
            <p:cNvGrpSpPr/>
            <p:nvPr/>
          </p:nvGrpSpPr>
          <p:grpSpPr>
            <a:xfrm>
              <a:off x="3489480" y="2404800"/>
              <a:ext cx="1159200" cy="1035360"/>
              <a:chOff x="3489480" y="2404800"/>
              <a:chExt cx="1159200" cy="1035360"/>
            </a:xfrm>
          </p:grpSpPr>
          <p:sp>
            <p:nvSpPr>
              <p:cNvPr id="423" name="Freeform 48"/>
              <p:cNvSpPr/>
              <p:nvPr/>
            </p:nvSpPr>
            <p:spPr>
              <a:xfrm>
                <a:off x="3513960" y="240480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Text Box 55"/>
              <p:cNvSpPr/>
              <p:nvPr/>
            </p:nvSpPr>
            <p:spPr>
              <a:xfrm>
                <a:off x="3489480" y="2741040"/>
                <a:ext cx="115920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информацией</a:t>
                </a:r>
                <a:endParaRPr b="0" lang="en-US" sz="1000" spc="-1" strike="noStrike">
                  <a:solidFill>
                    <a:srgbClr val="000000"/>
                  </a:solidFill>
                  <a:latin typeface="Arial"/>
                </a:endParaRPr>
              </a:p>
            </p:txBody>
          </p:sp>
        </p:grpSp>
        <p:sp>
          <p:nvSpPr>
            <p:cNvPr id="425" name="Line 27"/>
            <p:cNvSpPr/>
            <p:nvPr/>
          </p:nvSpPr>
          <p:spPr>
            <a:xfrm flipH="1">
              <a:off x="817200" y="405108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26" name="Group 139"/>
            <p:cNvGrpSpPr/>
            <p:nvPr/>
          </p:nvGrpSpPr>
          <p:grpSpPr>
            <a:xfrm>
              <a:off x="541080" y="3572280"/>
              <a:ext cx="1092960" cy="1036800"/>
              <a:chOff x="541080" y="3572280"/>
              <a:chExt cx="1092960" cy="1036800"/>
            </a:xfrm>
          </p:grpSpPr>
          <p:sp>
            <p:nvSpPr>
              <p:cNvPr id="427" name="Freeform 81"/>
              <p:cNvSpPr/>
              <p:nvPr/>
            </p:nvSpPr>
            <p:spPr>
              <a:xfrm>
                <a:off x="569880" y="3572280"/>
                <a:ext cx="1046520" cy="1036800"/>
              </a:xfrm>
              <a:custGeom>
                <a:avLst/>
                <a:gdLst>
                  <a:gd name="textAreaLeft" fmla="*/ 0 w 1046520"/>
                  <a:gd name="textAreaRight" fmla="*/ 1046880 w 1046520"/>
                  <a:gd name="textAreaTop" fmla="*/ 0 h 1036800"/>
                  <a:gd name="textAreaBottom" fmla="*/ 1037160 h 10368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Text Box 82"/>
              <p:cNvSpPr/>
              <p:nvPr/>
            </p:nvSpPr>
            <p:spPr>
              <a:xfrm>
                <a:off x="541080" y="3852000"/>
                <a:ext cx="10929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Документы</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и записи</a:t>
                </a:r>
                <a:endParaRPr b="0" lang="en-US" sz="1000" spc="-1" strike="noStrike">
                  <a:solidFill>
                    <a:srgbClr val="000000"/>
                  </a:solidFill>
                  <a:latin typeface="Arial"/>
                </a:endParaRPr>
              </a:p>
            </p:txBody>
          </p:sp>
        </p:grpSp>
        <p:grpSp>
          <p:nvGrpSpPr>
            <p:cNvPr id="429" name="Group 142"/>
            <p:cNvGrpSpPr/>
            <p:nvPr/>
          </p:nvGrpSpPr>
          <p:grpSpPr>
            <a:xfrm>
              <a:off x="2043360" y="3572280"/>
              <a:ext cx="1124640" cy="1036800"/>
              <a:chOff x="2043360" y="3572280"/>
              <a:chExt cx="1124640" cy="1036800"/>
            </a:xfrm>
          </p:grpSpPr>
          <p:sp>
            <p:nvSpPr>
              <p:cNvPr id="430" name="Freeform 30"/>
              <p:cNvSpPr/>
              <p:nvPr/>
            </p:nvSpPr>
            <p:spPr>
              <a:xfrm>
                <a:off x="2067840" y="3572280"/>
                <a:ext cx="1046880" cy="1036800"/>
              </a:xfrm>
              <a:custGeom>
                <a:avLst/>
                <a:gdLst>
                  <a:gd name="textAreaLeft" fmla="*/ 0 w 1046880"/>
                  <a:gd name="textAreaRight" fmla="*/ 1047240 w 1046880"/>
                  <a:gd name="textAreaTop" fmla="*/ 0 h 1036800"/>
                  <a:gd name="textAreaBottom" fmla="*/ 1037160 h 10368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Text Box 54"/>
              <p:cNvSpPr/>
              <p:nvPr/>
            </p:nvSpPr>
            <p:spPr>
              <a:xfrm>
                <a:off x="2043360" y="3791520"/>
                <a:ext cx="1124640" cy="550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правление нештатными ситуациями</a:t>
                </a:r>
                <a:endParaRPr b="0" lang="en-US" sz="1000" spc="-1" strike="noStrike">
                  <a:solidFill>
                    <a:srgbClr val="000000"/>
                  </a:solidFill>
                  <a:latin typeface="Arial"/>
                </a:endParaRPr>
              </a:p>
            </p:txBody>
          </p:sp>
        </p:grpSp>
        <p:sp>
          <p:nvSpPr>
            <p:cNvPr id="432" name="Freeform 50"/>
            <p:cNvSpPr/>
            <p:nvPr/>
          </p:nvSpPr>
          <p:spPr>
            <a:xfrm>
              <a:off x="3513960" y="3566160"/>
              <a:ext cx="1046880" cy="1037160"/>
            </a:xfrm>
            <a:custGeom>
              <a:avLst/>
              <a:gdLst>
                <a:gd name="textAreaLeft" fmla="*/ 0 w 1046880"/>
                <a:gd name="textAreaRight" fmla="*/ 1047240 w 1046880"/>
                <a:gd name="textAreaTop" fmla="*/ 0 h 1037160"/>
                <a:gd name="textAreaBottom" fmla="*/ 1037520 h 10371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Text Box 51"/>
            <p:cNvSpPr/>
            <p:nvPr/>
          </p:nvSpPr>
          <p:spPr>
            <a:xfrm>
              <a:off x="3485160" y="3941640"/>
              <a:ext cx="1124640" cy="246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ценка</a:t>
              </a:r>
              <a:endParaRPr b="0" lang="en-US" sz="1000" spc="-1" strike="noStrike">
                <a:solidFill>
                  <a:srgbClr val="000000"/>
                </a:solidFill>
                <a:latin typeface="Arial"/>
              </a:endParaRPr>
            </a:p>
          </p:txBody>
        </p:sp>
        <p:sp>
          <p:nvSpPr>
            <p:cNvPr id="434" name="Line 27"/>
            <p:cNvSpPr/>
            <p:nvPr/>
          </p:nvSpPr>
          <p:spPr>
            <a:xfrm flipH="1">
              <a:off x="886680" y="5226840"/>
              <a:ext cx="356148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35" name="Group 148"/>
            <p:cNvGrpSpPr/>
            <p:nvPr/>
          </p:nvGrpSpPr>
          <p:grpSpPr>
            <a:xfrm>
              <a:off x="564120" y="4746240"/>
              <a:ext cx="1121760" cy="1035360"/>
              <a:chOff x="564120" y="4746240"/>
              <a:chExt cx="1121760" cy="1035360"/>
            </a:xfrm>
          </p:grpSpPr>
          <p:sp>
            <p:nvSpPr>
              <p:cNvPr id="436" name="Freeform 57"/>
              <p:cNvSpPr/>
              <p:nvPr/>
            </p:nvSpPr>
            <p:spPr>
              <a:xfrm>
                <a:off x="606960" y="4746240"/>
                <a:ext cx="1045440" cy="1035360"/>
              </a:xfrm>
              <a:custGeom>
                <a:avLst/>
                <a:gdLst>
                  <a:gd name="textAreaLeft" fmla="*/ 0 w 1045440"/>
                  <a:gd name="textAreaRight" fmla="*/ 1045800 w 1045440"/>
                  <a:gd name="textAreaTop" fmla="*/ 0 h 1035360"/>
                  <a:gd name="textAreaBottom" fmla="*/ 1035720 h 10353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Text Box 58"/>
              <p:cNvSpPr/>
              <p:nvPr/>
            </p:nvSpPr>
            <p:spPr>
              <a:xfrm>
                <a:off x="564120" y="5027760"/>
                <a:ext cx="112176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Улучшение процессов</a:t>
                </a:r>
                <a:endParaRPr b="0" lang="en-US" sz="1000" spc="-1" strike="noStrike">
                  <a:solidFill>
                    <a:srgbClr val="000000"/>
                  </a:solidFill>
                  <a:latin typeface="Arial"/>
                </a:endParaRPr>
              </a:p>
            </p:txBody>
          </p:sp>
        </p:grpSp>
        <p:grpSp>
          <p:nvGrpSpPr>
            <p:cNvPr id="438" name="Group 151"/>
            <p:cNvGrpSpPr/>
            <p:nvPr/>
          </p:nvGrpSpPr>
          <p:grpSpPr>
            <a:xfrm>
              <a:off x="2043360" y="4686840"/>
              <a:ext cx="1124640" cy="1035720"/>
              <a:chOff x="2043360" y="4686840"/>
              <a:chExt cx="1124640" cy="1035720"/>
            </a:xfrm>
          </p:grpSpPr>
          <p:sp>
            <p:nvSpPr>
              <p:cNvPr id="439" name="Freeform 34"/>
              <p:cNvSpPr/>
              <p:nvPr/>
            </p:nvSpPr>
            <p:spPr>
              <a:xfrm>
                <a:off x="2087640" y="4686840"/>
                <a:ext cx="1045440" cy="1035720"/>
              </a:xfrm>
              <a:custGeom>
                <a:avLst/>
                <a:gdLst>
                  <a:gd name="textAreaLeft" fmla="*/ 0 w 1045440"/>
                  <a:gd name="textAreaRight" fmla="*/ 1045800 w 1045440"/>
                  <a:gd name="textAreaTop" fmla="*/ 0 h 1035720"/>
                  <a:gd name="textAreaBottom" fmla="*/ 1036080 h 10357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61"/>
              <p:cNvSpPr/>
              <p:nvPr/>
            </p:nvSpPr>
            <p:spPr>
              <a:xfrm>
                <a:off x="2043360" y="5027400"/>
                <a:ext cx="1124640" cy="39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ffffff"/>
                    </a:solidFill>
                    <a:latin typeface="Arial"/>
                  </a:rPr>
                  <a:t>Обслуживание клиентов</a:t>
                </a:r>
                <a:endParaRPr b="0" lang="en-US" sz="1000" spc="-1" strike="noStrike">
                  <a:solidFill>
                    <a:srgbClr val="000000"/>
                  </a:solidFill>
                  <a:latin typeface="Arial"/>
                </a:endParaRPr>
              </a:p>
            </p:txBody>
          </p:sp>
        </p:grpSp>
        <p:grpSp>
          <p:nvGrpSpPr>
            <p:cNvPr id="441" name="Group 154"/>
            <p:cNvGrpSpPr/>
            <p:nvPr/>
          </p:nvGrpSpPr>
          <p:grpSpPr>
            <a:xfrm>
              <a:off x="3485160" y="4746240"/>
              <a:ext cx="1159200" cy="1035360"/>
              <a:chOff x="3485160" y="4746240"/>
              <a:chExt cx="1159200" cy="1035360"/>
            </a:xfrm>
          </p:grpSpPr>
          <p:sp>
            <p:nvSpPr>
              <p:cNvPr id="442" name="Freeform 63"/>
              <p:cNvSpPr/>
              <p:nvPr/>
            </p:nvSpPr>
            <p:spPr>
              <a:xfrm>
                <a:off x="3530880" y="4746240"/>
                <a:ext cx="1046880" cy="1035360"/>
              </a:xfrm>
              <a:custGeom>
                <a:avLst/>
                <a:gdLst>
                  <a:gd name="textAreaLeft" fmla="*/ 0 w 1046880"/>
                  <a:gd name="textAreaRight" fmla="*/ 1047240 w 1046880"/>
                  <a:gd name="textAreaTop" fmla="*/ 0 h 1035360"/>
                  <a:gd name="textAreaBottom" fmla="*/ 1035720 h 10353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Text Box 64"/>
              <p:cNvSpPr/>
              <p:nvPr/>
            </p:nvSpPr>
            <p:spPr>
              <a:xfrm>
                <a:off x="3485160" y="4967640"/>
                <a:ext cx="1159200" cy="5054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900" spc="-1" strike="noStrike">
                    <a:solidFill>
                      <a:srgbClr val="ffffff"/>
                    </a:solidFill>
                    <a:latin typeface="Arial"/>
                  </a:rPr>
                  <a:t>Помещения и инфраструктура, безопасность</a:t>
                </a:r>
                <a:endParaRPr b="0" lang="en-US" sz="900" spc="-1" strike="noStrike">
                  <a:solidFill>
                    <a:srgbClr val="000000"/>
                  </a:solidFill>
                  <a:latin typeface="Arial"/>
                </a:endParaRPr>
              </a:p>
            </p:txBody>
          </p:sp>
        </p:gr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52280"/>
            <a:ext cx="792468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7d"/>
                </a:solidFill>
                <a:latin typeface="Verdana"/>
              </a:rPr>
              <a:t>Ситуация</a:t>
            </a:r>
            <a:endParaRPr b="0" lang="en-US" sz="4800" spc="-1" strike="noStrike">
              <a:solidFill>
                <a:srgbClr val="00007d"/>
              </a:solidFill>
              <a:latin typeface="Verdana"/>
            </a:endParaRPr>
          </a:p>
        </p:txBody>
      </p:sp>
      <p:sp>
        <p:nvSpPr>
          <p:cNvPr id="134" name="PlaceHolder 2"/>
          <p:cNvSpPr>
            <a:spLocks noGrp="1"/>
          </p:cNvSpPr>
          <p:nvPr>
            <p:ph/>
          </p:nvPr>
        </p:nvSpPr>
        <p:spPr>
          <a:xfrm>
            <a:off x="304920" y="1560600"/>
            <a:ext cx="8610480" cy="41544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Franklin Gothic Medium Cond"/>
              </a:rPr>
              <a:t>	</a:t>
            </a:r>
            <a:r>
              <a:rPr b="0" lang="ru-RU" sz="2400" spc="-1" strike="noStrike">
                <a:solidFill>
                  <a:srgbClr val="000000"/>
                </a:solidFill>
                <a:latin typeface="Verdana"/>
              </a:rPr>
              <a:t>«Вы руководите лабораторией. Один из двух ваших основных сотрудников был временно направлен в другую лабораторию, а второй заболел. Два других сотрудника не делали микроскопию мазков на малярию со времени их первоначального обучения, проведенного несколько лет назад. Сегодня утром вы получили 20 запросов на анализы на малярию. Поскольку вы не можете обеспечить точные анализы, вы должны известить заказчиков, что исследование будет задержано».</a:t>
            </a:r>
            <a:endParaRPr b="0" lang="en-US" sz="2400" spc="-1" strike="noStrike">
              <a:solidFill>
                <a:srgbClr val="000000"/>
              </a:solidFill>
              <a:latin typeface="Verdana"/>
            </a:endParaRPr>
          </a:p>
        </p:txBody>
      </p:sp>
      <p:sp>
        <p:nvSpPr>
          <p:cNvPr id="135"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B8651-B203-4039-B155-AD2C7835D4D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6" name="Footer Placeholder 4"/>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p:nvPr>
        </p:nvSpPr>
        <p:spPr>
          <a:xfrm>
            <a:off x="533160" y="1370160"/>
            <a:ext cx="8458200" cy="1753920"/>
          </a:xfrm>
          <a:prstGeom prst="rect">
            <a:avLst/>
          </a:prstGeom>
          <a:noFill/>
          <a:ln w="0">
            <a:noFill/>
          </a:ln>
        </p:spPr>
        <p:txBody>
          <a:bodyPr anchor="t">
            <a:norm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Verdana"/>
              </a:rPr>
              <a:t>Что вы должны были бы сделать как руководитель, чтобы предотвратить эту ситуацию?</a:t>
            </a:r>
            <a:endParaRPr b="0" lang="en-US" sz="3600" spc="-1" strike="noStrike">
              <a:solidFill>
                <a:srgbClr val="000000"/>
              </a:solidFill>
              <a:latin typeface="Verdana"/>
            </a:endParaRPr>
          </a:p>
        </p:txBody>
      </p:sp>
      <p:sp>
        <p:nvSpPr>
          <p:cNvPr id="138" name="PlaceHolder 2"/>
          <p:cNvSpPr>
            <a:spLocks noGrp="1"/>
          </p:cNvSpPr>
          <p:nvPr>
            <p:ph type="title"/>
          </p:nvPr>
        </p:nvSpPr>
        <p:spPr>
          <a:xfrm>
            <a:off x="380880" y="4572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Ситуация</a:t>
            </a:r>
            <a:endParaRPr b="0" lang="en-US" sz="3600" spc="-1" strike="noStrike">
              <a:solidFill>
                <a:srgbClr val="00007d"/>
              </a:solidFill>
              <a:latin typeface="Verdana"/>
            </a:endParaRPr>
          </a:p>
        </p:txBody>
      </p:sp>
      <p:pic>
        <p:nvPicPr>
          <p:cNvPr id="139" name="Picture 4" descr="malaria_smears_crop"/>
          <p:cNvPicPr/>
          <p:nvPr/>
        </p:nvPicPr>
        <p:blipFill>
          <a:blip r:embed="rId1"/>
          <a:stretch/>
        </p:blipFill>
        <p:spPr>
          <a:xfrm>
            <a:off x="2133720" y="3581280"/>
            <a:ext cx="2971800" cy="2046240"/>
          </a:xfrm>
          <a:prstGeom prst="rect">
            <a:avLst/>
          </a:prstGeom>
          <a:ln w="0">
            <a:noFill/>
          </a:ln>
        </p:spPr>
      </p:pic>
      <p:pic>
        <p:nvPicPr>
          <p:cNvPr id="140" name="Picture 5" descr="j0433870"/>
          <p:cNvPicPr/>
          <p:nvPr/>
        </p:nvPicPr>
        <p:blipFill>
          <a:blip r:embed="rId2"/>
          <a:stretch/>
        </p:blipFill>
        <p:spPr>
          <a:xfrm>
            <a:off x="5562720" y="3657600"/>
            <a:ext cx="1828800" cy="1828800"/>
          </a:xfrm>
          <a:prstGeom prst="rect">
            <a:avLst/>
          </a:prstGeom>
          <a:ln w="0">
            <a:noFill/>
          </a:ln>
        </p:spPr>
      </p:pic>
      <p:sp>
        <p:nvSpPr>
          <p:cNvPr id="141" name="Slide Number Placeholder 5"/>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FD2CE-5FED-49AB-8671-F09FC222F4C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42" name="Footer Placeholder 6"/>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62"/>
          <p:cNvSpPr/>
          <p:nvPr/>
        </p:nvSpPr>
        <p:spPr>
          <a:xfrm>
            <a:off x="990720" y="411120"/>
            <a:ext cx="716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Система управления качеством</a:t>
            </a:r>
            <a:endParaRPr b="0" lang="en-US" sz="3200" spc="-1" strike="noStrike">
              <a:solidFill>
                <a:srgbClr val="000000"/>
              </a:solidFill>
              <a:latin typeface="Arial"/>
            </a:endParaRPr>
          </a:p>
        </p:txBody>
      </p:sp>
      <p:grpSp>
        <p:nvGrpSpPr>
          <p:cNvPr id="144" name="Group 99"/>
          <p:cNvGrpSpPr/>
          <p:nvPr/>
        </p:nvGrpSpPr>
        <p:grpSpPr>
          <a:xfrm>
            <a:off x="1486080" y="1066680"/>
            <a:ext cx="6171840" cy="5181480"/>
            <a:chOff x="1486080" y="1066680"/>
            <a:chExt cx="6171840" cy="5181480"/>
          </a:xfrm>
        </p:grpSpPr>
        <p:sp>
          <p:nvSpPr>
            <p:cNvPr id="145" name="AutoShape 4"/>
            <p:cNvSpPr/>
            <p:nvPr/>
          </p:nvSpPr>
          <p:spPr>
            <a:xfrm>
              <a:off x="1486080" y="1066680"/>
              <a:ext cx="6171840" cy="5181480"/>
            </a:xfrm>
            <a:prstGeom prst="roundRect">
              <a:avLst>
                <a:gd name="adj" fmla="val 16667"/>
              </a:avLst>
            </a:pr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9"/>
            <p:cNvSpPr/>
            <p:nvPr/>
          </p:nvSpPr>
          <p:spPr>
            <a:xfrm>
              <a:off x="4159800" y="3794040"/>
              <a:ext cx="143640" cy="69840"/>
            </a:xfrm>
            <a:custGeom>
              <a:avLst/>
              <a:gdLst>
                <a:gd name="textAreaLeft" fmla="*/ 0 w 143640"/>
                <a:gd name="textAreaRight" fmla="*/ 144000 w 143640"/>
                <a:gd name="textAreaTop" fmla="*/ 0 h 69840"/>
                <a:gd name="textAreaBottom" fmla="*/ 70200 h 69840"/>
              </a:gdLst>
              <a:ahLst/>
              <a:rect l="textAreaLeft" t="textAreaTop" r="textAreaRight" b="textAreaBottom"/>
              <a:pathLst>
                <a:path w="392" h="230">
                  <a:moveTo>
                    <a:pt x="377" y="0"/>
                  </a:moveTo>
                  <a:lnTo>
                    <a:pt x="378" y="21"/>
                  </a:lnTo>
                  <a:lnTo>
                    <a:pt x="378" y="40"/>
                  </a:lnTo>
                  <a:lnTo>
                    <a:pt x="380" y="58"/>
                  </a:lnTo>
                  <a:lnTo>
                    <a:pt x="381" y="75"/>
                  </a:lnTo>
                  <a:lnTo>
                    <a:pt x="386" y="104"/>
                  </a:lnTo>
                  <a:lnTo>
                    <a:pt x="390" y="130"/>
                  </a:lnTo>
                  <a:lnTo>
                    <a:pt x="392" y="151"/>
                  </a:lnTo>
                  <a:lnTo>
                    <a:pt x="392" y="169"/>
                  </a:lnTo>
                  <a:lnTo>
                    <a:pt x="392" y="175"/>
                  </a:lnTo>
                  <a:lnTo>
                    <a:pt x="390" y="183"/>
                  </a:lnTo>
                  <a:lnTo>
                    <a:pt x="387" y="188"/>
                  </a:lnTo>
                  <a:lnTo>
                    <a:pt x="382" y="194"/>
                  </a:lnTo>
                  <a:lnTo>
                    <a:pt x="377" y="198"/>
                  </a:lnTo>
                  <a:lnTo>
                    <a:pt x="369" y="203"/>
                  </a:lnTo>
                  <a:lnTo>
                    <a:pt x="361" y="206"/>
                  </a:lnTo>
                  <a:lnTo>
                    <a:pt x="351" y="209"/>
                  </a:lnTo>
                  <a:lnTo>
                    <a:pt x="338" y="211"/>
                  </a:lnTo>
                  <a:lnTo>
                    <a:pt x="324" y="213"/>
                  </a:lnTo>
                  <a:lnTo>
                    <a:pt x="307" y="216"/>
                  </a:lnTo>
                  <a:lnTo>
                    <a:pt x="289" y="218"/>
                  </a:lnTo>
                  <a:lnTo>
                    <a:pt x="188" y="224"/>
                  </a:lnTo>
                  <a:lnTo>
                    <a:pt x="41" y="230"/>
                  </a:lnTo>
                  <a:lnTo>
                    <a:pt x="35" y="223"/>
                  </a:lnTo>
                  <a:lnTo>
                    <a:pt x="21" y="202"/>
                  </a:lnTo>
                  <a:lnTo>
                    <a:pt x="13" y="186"/>
                  </a:lnTo>
                  <a:lnTo>
                    <a:pt x="6" y="169"/>
                  </a:lnTo>
                  <a:lnTo>
                    <a:pt x="3" y="159"/>
                  </a:lnTo>
                  <a:lnTo>
                    <a:pt x="1" y="148"/>
                  </a:lnTo>
                  <a:lnTo>
                    <a:pt x="0" y="137"/>
                  </a:lnTo>
                  <a:lnTo>
                    <a:pt x="0" y="125"/>
                  </a:lnTo>
                  <a:lnTo>
                    <a:pt x="0" y="114"/>
                  </a:lnTo>
                  <a:lnTo>
                    <a:pt x="1" y="103"/>
                  </a:lnTo>
                  <a:lnTo>
                    <a:pt x="2" y="94"/>
                  </a:lnTo>
                  <a:lnTo>
                    <a:pt x="3" y="85"/>
                  </a:lnTo>
                  <a:lnTo>
                    <a:pt x="5" y="77"/>
                  </a:lnTo>
                  <a:lnTo>
                    <a:pt x="9" y="69"/>
                  </a:lnTo>
                  <a:lnTo>
                    <a:pt x="12" y="62"/>
                  </a:lnTo>
                  <a:lnTo>
                    <a:pt x="15" y="54"/>
                  </a:lnTo>
                  <a:lnTo>
                    <a:pt x="24" y="41"/>
                  </a:lnTo>
                  <a:lnTo>
                    <a:pt x="35" y="28"/>
                  </a:lnTo>
                  <a:lnTo>
                    <a:pt x="48" y="14"/>
                  </a:lnTo>
                  <a:lnTo>
                    <a:pt x="63" y="0"/>
                  </a:lnTo>
                  <a:lnTo>
                    <a:pt x="377" y="0"/>
                  </a:lnTo>
                  <a:close/>
                </a:path>
              </a:pathLst>
            </a:custGeom>
            <a:solidFill>
              <a:srgbClr val="dededd"/>
            </a:solid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7" name="Freeform 10"/>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11"/>
            <p:cNvSpPr/>
            <p:nvPr/>
          </p:nvSpPr>
          <p:spPr>
            <a:xfrm>
              <a:off x="4122000" y="3786120"/>
              <a:ext cx="383760" cy="372960"/>
            </a:xfrm>
            <a:custGeom>
              <a:avLst/>
              <a:gdLst>
                <a:gd name="textAreaLeft" fmla="*/ 0 w 383760"/>
                <a:gd name="textAreaRight" fmla="*/ 384120 w 383760"/>
                <a:gd name="textAreaTop" fmla="*/ 0 h 372960"/>
                <a:gd name="textAreaBottom" fmla="*/ 373320 h 372960"/>
              </a:gdLst>
              <a:ahLst/>
              <a:rect l="textAreaLeft" t="textAreaTop" r="textAreaRight" b="textAreaBottom"/>
              <a:pathLst>
                <a:path w="1056" h="1238">
                  <a:moveTo>
                    <a:pt x="797" y="22"/>
                  </a:moveTo>
                  <a:lnTo>
                    <a:pt x="793" y="28"/>
                  </a:lnTo>
                  <a:lnTo>
                    <a:pt x="783" y="48"/>
                  </a:lnTo>
                  <a:lnTo>
                    <a:pt x="777" y="61"/>
                  </a:lnTo>
                  <a:lnTo>
                    <a:pt x="773" y="75"/>
                  </a:lnTo>
                  <a:lnTo>
                    <a:pt x="769" y="92"/>
                  </a:lnTo>
                  <a:lnTo>
                    <a:pt x="765" y="108"/>
                  </a:lnTo>
                  <a:lnTo>
                    <a:pt x="764" y="117"/>
                  </a:lnTo>
                  <a:lnTo>
                    <a:pt x="764" y="124"/>
                  </a:lnTo>
                  <a:lnTo>
                    <a:pt x="765" y="133"/>
                  </a:lnTo>
                  <a:lnTo>
                    <a:pt x="766" y="142"/>
                  </a:lnTo>
                  <a:lnTo>
                    <a:pt x="769" y="149"/>
                  </a:lnTo>
                  <a:lnTo>
                    <a:pt x="771" y="157"/>
                  </a:lnTo>
                  <a:lnTo>
                    <a:pt x="774" y="165"/>
                  </a:lnTo>
                  <a:lnTo>
                    <a:pt x="779" y="172"/>
                  </a:lnTo>
                  <a:lnTo>
                    <a:pt x="785" y="179"/>
                  </a:lnTo>
                  <a:lnTo>
                    <a:pt x="791" y="185"/>
                  </a:lnTo>
                  <a:lnTo>
                    <a:pt x="800" y="191"/>
                  </a:lnTo>
                  <a:lnTo>
                    <a:pt x="809" y="196"/>
                  </a:lnTo>
                  <a:lnTo>
                    <a:pt x="820" y="201"/>
                  </a:lnTo>
                  <a:lnTo>
                    <a:pt x="832" y="205"/>
                  </a:lnTo>
                  <a:lnTo>
                    <a:pt x="845" y="208"/>
                  </a:lnTo>
                  <a:lnTo>
                    <a:pt x="860" y="210"/>
                  </a:lnTo>
                  <a:lnTo>
                    <a:pt x="867" y="207"/>
                  </a:lnTo>
                  <a:lnTo>
                    <a:pt x="886" y="200"/>
                  </a:lnTo>
                  <a:lnTo>
                    <a:pt x="898" y="195"/>
                  </a:lnTo>
                  <a:lnTo>
                    <a:pt x="911" y="191"/>
                  </a:lnTo>
                  <a:lnTo>
                    <a:pt x="927" y="186"/>
                  </a:lnTo>
                  <a:lnTo>
                    <a:pt x="941" y="184"/>
                  </a:lnTo>
                  <a:lnTo>
                    <a:pt x="956" y="183"/>
                  </a:lnTo>
                  <a:lnTo>
                    <a:pt x="969" y="184"/>
                  </a:lnTo>
                  <a:lnTo>
                    <a:pt x="976" y="185"/>
                  </a:lnTo>
                  <a:lnTo>
                    <a:pt x="982" y="186"/>
                  </a:lnTo>
                  <a:lnTo>
                    <a:pt x="988" y="190"/>
                  </a:lnTo>
                  <a:lnTo>
                    <a:pt x="993" y="193"/>
                  </a:lnTo>
                  <a:lnTo>
                    <a:pt x="997" y="196"/>
                  </a:lnTo>
                  <a:lnTo>
                    <a:pt x="1001" y="202"/>
                  </a:lnTo>
                  <a:lnTo>
                    <a:pt x="1004" y="207"/>
                  </a:lnTo>
                  <a:lnTo>
                    <a:pt x="1006" y="215"/>
                  </a:lnTo>
                  <a:lnTo>
                    <a:pt x="1008" y="222"/>
                  </a:lnTo>
                  <a:lnTo>
                    <a:pt x="1008" y="231"/>
                  </a:lnTo>
                  <a:lnTo>
                    <a:pt x="1008" y="241"/>
                  </a:lnTo>
                  <a:lnTo>
                    <a:pt x="1007" y="252"/>
                  </a:lnTo>
                  <a:lnTo>
                    <a:pt x="1016" y="256"/>
                  </a:lnTo>
                  <a:lnTo>
                    <a:pt x="1024" y="262"/>
                  </a:lnTo>
                  <a:lnTo>
                    <a:pt x="1029" y="267"/>
                  </a:lnTo>
                  <a:lnTo>
                    <a:pt x="1034" y="273"/>
                  </a:lnTo>
                  <a:lnTo>
                    <a:pt x="1038" y="279"/>
                  </a:lnTo>
                  <a:lnTo>
                    <a:pt x="1040" y="286"/>
                  </a:lnTo>
                  <a:lnTo>
                    <a:pt x="1041" y="292"/>
                  </a:lnTo>
                  <a:lnTo>
                    <a:pt x="1041" y="300"/>
                  </a:lnTo>
                  <a:lnTo>
                    <a:pt x="1040" y="307"/>
                  </a:lnTo>
                  <a:lnTo>
                    <a:pt x="1039" y="315"/>
                  </a:lnTo>
                  <a:lnTo>
                    <a:pt x="1036" y="323"/>
                  </a:lnTo>
                  <a:lnTo>
                    <a:pt x="1033" y="330"/>
                  </a:lnTo>
                  <a:lnTo>
                    <a:pt x="1025" y="347"/>
                  </a:lnTo>
                  <a:lnTo>
                    <a:pt x="1015" y="362"/>
                  </a:lnTo>
                  <a:lnTo>
                    <a:pt x="1003" y="378"/>
                  </a:lnTo>
                  <a:lnTo>
                    <a:pt x="991" y="392"/>
                  </a:lnTo>
                  <a:lnTo>
                    <a:pt x="980" y="406"/>
                  </a:lnTo>
                  <a:lnTo>
                    <a:pt x="968" y="418"/>
                  </a:lnTo>
                  <a:lnTo>
                    <a:pt x="951" y="435"/>
                  </a:lnTo>
                  <a:lnTo>
                    <a:pt x="944" y="442"/>
                  </a:lnTo>
                  <a:lnTo>
                    <a:pt x="949" y="447"/>
                  </a:lnTo>
                  <a:lnTo>
                    <a:pt x="966" y="462"/>
                  </a:lnTo>
                  <a:lnTo>
                    <a:pt x="977" y="473"/>
                  </a:lnTo>
                  <a:lnTo>
                    <a:pt x="988" y="486"/>
                  </a:lnTo>
                  <a:lnTo>
                    <a:pt x="1000" y="501"/>
                  </a:lnTo>
                  <a:lnTo>
                    <a:pt x="1012" y="517"/>
                  </a:lnTo>
                  <a:lnTo>
                    <a:pt x="1024" y="534"/>
                  </a:lnTo>
                  <a:lnTo>
                    <a:pt x="1033" y="553"/>
                  </a:lnTo>
                  <a:lnTo>
                    <a:pt x="1043" y="572"/>
                  </a:lnTo>
                  <a:lnTo>
                    <a:pt x="1050" y="592"/>
                  </a:lnTo>
                  <a:lnTo>
                    <a:pt x="1053" y="602"/>
                  </a:lnTo>
                  <a:lnTo>
                    <a:pt x="1054" y="612"/>
                  </a:lnTo>
                  <a:lnTo>
                    <a:pt x="1056" y="621"/>
                  </a:lnTo>
                  <a:lnTo>
                    <a:pt x="1056" y="632"/>
                  </a:lnTo>
                  <a:lnTo>
                    <a:pt x="1056" y="642"/>
                  </a:lnTo>
                  <a:lnTo>
                    <a:pt x="1054" y="652"/>
                  </a:lnTo>
                  <a:lnTo>
                    <a:pt x="1052" y="662"/>
                  </a:lnTo>
                  <a:lnTo>
                    <a:pt x="1049" y="671"/>
                  </a:lnTo>
                  <a:lnTo>
                    <a:pt x="1049" y="683"/>
                  </a:lnTo>
                  <a:lnTo>
                    <a:pt x="1046" y="714"/>
                  </a:lnTo>
                  <a:lnTo>
                    <a:pt x="1043" y="734"/>
                  </a:lnTo>
                  <a:lnTo>
                    <a:pt x="1040" y="755"/>
                  </a:lnTo>
                  <a:lnTo>
                    <a:pt x="1034" y="777"/>
                  </a:lnTo>
                  <a:lnTo>
                    <a:pt x="1028" y="800"/>
                  </a:lnTo>
                  <a:lnTo>
                    <a:pt x="1024" y="812"/>
                  </a:lnTo>
                  <a:lnTo>
                    <a:pt x="1019" y="823"/>
                  </a:lnTo>
                  <a:lnTo>
                    <a:pt x="1014" y="833"/>
                  </a:lnTo>
                  <a:lnTo>
                    <a:pt x="1007" y="843"/>
                  </a:lnTo>
                  <a:lnTo>
                    <a:pt x="1001" y="852"/>
                  </a:lnTo>
                  <a:lnTo>
                    <a:pt x="994" y="861"/>
                  </a:lnTo>
                  <a:lnTo>
                    <a:pt x="987" y="869"/>
                  </a:lnTo>
                  <a:lnTo>
                    <a:pt x="978" y="875"/>
                  </a:lnTo>
                  <a:lnTo>
                    <a:pt x="969" y="882"/>
                  </a:lnTo>
                  <a:lnTo>
                    <a:pt x="958" y="886"/>
                  </a:lnTo>
                  <a:lnTo>
                    <a:pt x="947" y="889"/>
                  </a:lnTo>
                  <a:lnTo>
                    <a:pt x="936" y="891"/>
                  </a:lnTo>
                  <a:lnTo>
                    <a:pt x="923" y="892"/>
                  </a:lnTo>
                  <a:lnTo>
                    <a:pt x="910" y="889"/>
                  </a:lnTo>
                  <a:lnTo>
                    <a:pt x="896" y="886"/>
                  </a:lnTo>
                  <a:lnTo>
                    <a:pt x="881" y="882"/>
                  </a:lnTo>
                  <a:lnTo>
                    <a:pt x="870" y="891"/>
                  </a:lnTo>
                  <a:lnTo>
                    <a:pt x="859" y="897"/>
                  </a:lnTo>
                  <a:lnTo>
                    <a:pt x="849" y="901"/>
                  </a:lnTo>
                  <a:lnTo>
                    <a:pt x="839" y="904"/>
                  </a:lnTo>
                  <a:lnTo>
                    <a:pt x="832" y="905"/>
                  </a:lnTo>
                  <a:lnTo>
                    <a:pt x="823" y="905"/>
                  </a:lnTo>
                  <a:lnTo>
                    <a:pt x="817" y="903"/>
                  </a:lnTo>
                  <a:lnTo>
                    <a:pt x="809" y="899"/>
                  </a:lnTo>
                  <a:lnTo>
                    <a:pt x="802" y="895"/>
                  </a:lnTo>
                  <a:lnTo>
                    <a:pt x="796" y="891"/>
                  </a:lnTo>
                  <a:lnTo>
                    <a:pt x="790" y="884"/>
                  </a:lnTo>
                  <a:lnTo>
                    <a:pt x="785" y="879"/>
                  </a:lnTo>
                  <a:lnTo>
                    <a:pt x="774" y="864"/>
                  </a:lnTo>
                  <a:lnTo>
                    <a:pt x="763" y="850"/>
                  </a:lnTo>
                  <a:lnTo>
                    <a:pt x="752" y="837"/>
                  </a:lnTo>
                  <a:lnTo>
                    <a:pt x="740" y="826"/>
                  </a:lnTo>
                  <a:lnTo>
                    <a:pt x="734" y="822"/>
                  </a:lnTo>
                  <a:lnTo>
                    <a:pt x="727" y="820"/>
                  </a:lnTo>
                  <a:lnTo>
                    <a:pt x="721" y="818"/>
                  </a:lnTo>
                  <a:lnTo>
                    <a:pt x="713" y="816"/>
                  </a:lnTo>
                  <a:lnTo>
                    <a:pt x="704" y="818"/>
                  </a:lnTo>
                  <a:lnTo>
                    <a:pt x="696" y="821"/>
                  </a:lnTo>
                  <a:lnTo>
                    <a:pt x="687" y="825"/>
                  </a:lnTo>
                  <a:lnTo>
                    <a:pt x="677" y="832"/>
                  </a:lnTo>
                  <a:lnTo>
                    <a:pt x="666" y="840"/>
                  </a:lnTo>
                  <a:lnTo>
                    <a:pt x="655" y="851"/>
                  </a:lnTo>
                  <a:lnTo>
                    <a:pt x="642" y="866"/>
                  </a:lnTo>
                  <a:lnTo>
                    <a:pt x="629" y="882"/>
                  </a:lnTo>
                  <a:lnTo>
                    <a:pt x="623" y="882"/>
                  </a:lnTo>
                  <a:lnTo>
                    <a:pt x="605" y="886"/>
                  </a:lnTo>
                  <a:lnTo>
                    <a:pt x="594" y="889"/>
                  </a:lnTo>
                  <a:lnTo>
                    <a:pt x="583" y="895"/>
                  </a:lnTo>
                  <a:lnTo>
                    <a:pt x="578" y="898"/>
                  </a:lnTo>
                  <a:lnTo>
                    <a:pt x="573" y="903"/>
                  </a:lnTo>
                  <a:lnTo>
                    <a:pt x="568" y="908"/>
                  </a:lnTo>
                  <a:lnTo>
                    <a:pt x="564" y="913"/>
                  </a:lnTo>
                  <a:lnTo>
                    <a:pt x="559" y="920"/>
                  </a:lnTo>
                  <a:lnTo>
                    <a:pt x="556" y="927"/>
                  </a:lnTo>
                  <a:lnTo>
                    <a:pt x="553" y="934"/>
                  </a:lnTo>
                  <a:lnTo>
                    <a:pt x="551" y="943"/>
                  </a:lnTo>
                  <a:lnTo>
                    <a:pt x="548" y="953"/>
                  </a:lnTo>
                  <a:lnTo>
                    <a:pt x="547" y="964"/>
                  </a:lnTo>
                  <a:lnTo>
                    <a:pt x="548" y="976"/>
                  </a:lnTo>
                  <a:lnTo>
                    <a:pt x="549" y="988"/>
                  </a:lnTo>
                  <a:lnTo>
                    <a:pt x="552" y="1002"/>
                  </a:lnTo>
                  <a:lnTo>
                    <a:pt x="555" y="1017"/>
                  </a:lnTo>
                  <a:lnTo>
                    <a:pt x="560" y="1033"/>
                  </a:lnTo>
                  <a:lnTo>
                    <a:pt x="567" y="1051"/>
                  </a:lnTo>
                  <a:lnTo>
                    <a:pt x="575" y="1069"/>
                  </a:lnTo>
                  <a:lnTo>
                    <a:pt x="584" y="1089"/>
                  </a:lnTo>
                  <a:lnTo>
                    <a:pt x="595" y="1111"/>
                  </a:lnTo>
                  <a:lnTo>
                    <a:pt x="608" y="1134"/>
                  </a:lnTo>
                  <a:lnTo>
                    <a:pt x="604" y="1130"/>
                  </a:lnTo>
                  <a:lnTo>
                    <a:pt x="593" y="1124"/>
                  </a:lnTo>
                  <a:lnTo>
                    <a:pt x="585" y="1119"/>
                  </a:lnTo>
                  <a:lnTo>
                    <a:pt x="576" y="1117"/>
                  </a:lnTo>
                  <a:lnTo>
                    <a:pt x="565" y="1115"/>
                  </a:lnTo>
                  <a:lnTo>
                    <a:pt x="553" y="1115"/>
                  </a:lnTo>
                  <a:lnTo>
                    <a:pt x="546" y="1116"/>
                  </a:lnTo>
                  <a:lnTo>
                    <a:pt x="540" y="1117"/>
                  </a:lnTo>
                  <a:lnTo>
                    <a:pt x="532" y="1119"/>
                  </a:lnTo>
                  <a:lnTo>
                    <a:pt x="526" y="1123"/>
                  </a:lnTo>
                  <a:lnTo>
                    <a:pt x="518" y="1126"/>
                  </a:lnTo>
                  <a:lnTo>
                    <a:pt x="509" y="1130"/>
                  </a:lnTo>
                  <a:lnTo>
                    <a:pt x="502" y="1136"/>
                  </a:lnTo>
                  <a:lnTo>
                    <a:pt x="493" y="1142"/>
                  </a:lnTo>
                  <a:lnTo>
                    <a:pt x="484" y="1150"/>
                  </a:lnTo>
                  <a:lnTo>
                    <a:pt x="475" y="1159"/>
                  </a:lnTo>
                  <a:lnTo>
                    <a:pt x="467" y="1169"/>
                  </a:lnTo>
                  <a:lnTo>
                    <a:pt x="458" y="1179"/>
                  </a:lnTo>
                  <a:lnTo>
                    <a:pt x="448" y="1193"/>
                  </a:lnTo>
                  <a:lnTo>
                    <a:pt x="438" y="1207"/>
                  </a:lnTo>
                  <a:lnTo>
                    <a:pt x="429" y="1222"/>
                  </a:lnTo>
                  <a:lnTo>
                    <a:pt x="420" y="1238"/>
                  </a:lnTo>
                  <a:lnTo>
                    <a:pt x="400" y="1220"/>
                  </a:lnTo>
                  <a:lnTo>
                    <a:pt x="377" y="1197"/>
                  </a:lnTo>
                  <a:lnTo>
                    <a:pt x="354" y="1174"/>
                  </a:lnTo>
                  <a:lnTo>
                    <a:pt x="336" y="1154"/>
                  </a:lnTo>
                  <a:lnTo>
                    <a:pt x="329" y="1134"/>
                  </a:lnTo>
                  <a:lnTo>
                    <a:pt x="322" y="1113"/>
                  </a:lnTo>
                  <a:lnTo>
                    <a:pt x="313" y="1094"/>
                  </a:lnTo>
                  <a:lnTo>
                    <a:pt x="303" y="1076"/>
                  </a:lnTo>
                  <a:lnTo>
                    <a:pt x="292" y="1058"/>
                  </a:lnTo>
                  <a:lnTo>
                    <a:pt x="281" y="1042"/>
                  </a:lnTo>
                  <a:lnTo>
                    <a:pt x="269" y="1026"/>
                  </a:lnTo>
                  <a:lnTo>
                    <a:pt x="256" y="1010"/>
                  </a:lnTo>
                  <a:lnTo>
                    <a:pt x="229" y="981"/>
                  </a:lnTo>
                  <a:lnTo>
                    <a:pt x="202" y="953"/>
                  </a:lnTo>
                  <a:lnTo>
                    <a:pt x="172" y="925"/>
                  </a:lnTo>
                  <a:lnTo>
                    <a:pt x="144" y="897"/>
                  </a:lnTo>
                  <a:lnTo>
                    <a:pt x="116" y="870"/>
                  </a:lnTo>
                  <a:lnTo>
                    <a:pt x="90" y="840"/>
                  </a:lnTo>
                  <a:lnTo>
                    <a:pt x="77" y="825"/>
                  </a:lnTo>
                  <a:lnTo>
                    <a:pt x="65" y="810"/>
                  </a:lnTo>
                  <a:lnTo>
                    <a:pt x="54" y="794"/>
                  </a:lnTo>
                  <a:lnTo>
                    <a:pt x="44" y="777"/>
                  </a:lnTo>
                  <a:lnTo>
                    <a:pt x="34" y="760"/>
                  </a:lnTo>
                  <a:lnTo>
                    <a:pt x="25" y="741"/>
                  </a:lnTo>
                  <a:lnTo>
                    <a:pt x="18" y="722"/>
                  </a:lnTo>
                  <a:lnTo>
                    <a:pt x="11" y="701"/>
                  </a:lnTo>
                  <a:lnTo>
                    <a:pt x="7" y="680"/>
                  </a:lnTo>
                  <a:lnTo>
                    <a:pt x="2" y="657"/>
                  </a:lnTo>
                  <a:lnTo>
                    <a:pt x="0" y="634"/>
                  </a:lnTo>
                  <a:lnTo>
                    <a:pt x="0" y="609"/>
                  </a:lnTo>
                  <a:lnTo>
                    <a:pt x="0" y="594"/>
                  </a:lnTo>
                  <a:lnTo>
                    <a:pt x="2" y="580"/>
                  </a:lnTo>
                  <a:lnTo>
                    <a:pt x="5" y="566"/>
                  </a:lnTo>
                  <a:lnTo>
                    <a:pt x="9" y="554"/>
                  </a:lnTo>
                  <a:lnTo>
                    <a:pt x="13" y="542"/>
                  </a:lnTo>
                  <a:lnTo>
                    <a:pt x="19" y="530"/>
                  </a:lnTo>
                  <a:lnTo>
                    <a:pt x="24" y="519"/>
                  </a:lnTo>
                  <a:lnTo>
                    <a:pt x="32" y="509"/>
                  </a:lnTo>
                  <a:lnTo>
                    <a:pt x="46" y="489"/>
                  </a:lnTo>
                  <a:lnTo>
                    <a:pt x="62" y="472"/>
                  </a:lnTo>
                  <a:lnTo>
                    <a:pt x="80" y="456"/>
                  </a:lnTo>
                  <a:lnTo>
                    <a:pt x="97" y="438"/>
                  </a:lnTo>
                  <a:lnTo>
                    <a:pt x="112" y="422"/>
                  </a:lnTo>
                  <a:lnTo>
                    <a:pt x="128" y="404"/>
                  </a:lnTo>
                  <a:lnTo>
                    <a:pt x="134" y="395"/>
                  </a:lnTo>
                  <a:lnTo>
                    <a:pt x="141" y="385"/>
                  </a:lnTo>
                  <a:lnTo>
                    <a:pt x="145" y="375"/>
                  </a:lnTo>
                  <a:lnTo>
                    <a:pt x="151" y="364"/>
                  </a:lnTo>
                  <a:lnTo>
                    <a:pt x="154" y="353"/>
                  </a:lnTo>
                  <a:lnTo>
                    <a:pt x="156" y="341"/>
                  </a:lnTo>
                  <a:lnTo>
                    <a:pt x="158" y="328"/>
                  </a:lnTo>
                  <a:lnTo>
                    <a:pt x="158" y="315"/>
                  </a:lnTo>
                  <a:lnTo>
                    <a:pt x="157" y="301"/>
                  </a:lnTo>
                  <a:lnTo>
                    <a:pt x="155" y="286"/>
                  </a:lnTo>
                  <a:lnTo>
                    <a:pt x="152" y="269"/>
                  </a:lnTo>
                  <a:lnTo>
                    <a:pt x="146" y="252"/>
                  </a:lnTo>
                  <a:lnTo>
                    <a:pt x="193" y="256"/>
                  </a:lnTo>
                  <a:lnTo>
                    <a:pt x="237" y="258"/>
                  </a:lnTo>
                  <a:lnTo>
                    <a:pt x="276" y="261"/>
                  </a:lnTo>
                  <a:lnTo>
                    <a:pt x="312" y="262"/>
                  </a:lnTo>
                  <a:lnTo>
                    <a:pt x="344" y="262"/>
                  </a:lnTo>
                  <a:lnTo>
                    <a:pt x="372" y="261"/>
                  </a:lnTo>
                  <a:lnTo>
                    <a:pt x="398" y="259"/>
                  </a:lnTo>
                  <a:lnTo>
                    <a:pt x="420" y="257"/>
                  </a:lnTo>
                  <a:lnTo>
                    <a:pt x="439" y="254"/>
                  </a:lnTo>
                  <a:lnTo>
                    <a:pt x="457" y="251"/>
                  </a:lnTo>
                  <a:lnTo>
                    <a:pt x="471" y="246"/>
                  </a:lnTo>
                  <a:lnTo>
                    <a:pt x="483" y="241"/>
                  </a:lnTo>
                  <a:lnTo>
                    <a:pt x="493" y="235"/>
                  </a:lnTo>
                  <a:lnTo>
                    <a:pt x="500" y="228"/>
                  </a:lnTo>
                  <a:lnTo>
                    <a:pt x="507" y="221"/>
                  </a:lnTo>
                  <a:lnTo>
                    <a:pt x="511" y="213"/>
                  </a:lnTo>
                  <a:lnTo>
                    <a:pt x="514" y="204"/>
                  </a:lnTo>
                  <a:lnTo>
                    <a:pt x="515" y="195"/>
                  </a:lnTo>
                  <a:lnTo>
                    <a:pt x="516" y="185"/>
                  </a:lnTo>
                  <a:lnTo>
                    <a:pt x="515" y="174"/>
                  </a:lnTo>
                  <a:lnTo>
                    <a:pt x="510" y="152"/>
                  </a:lnTo>
                  <a:lnTo>
                    <a:pt x="504" y="125"/>
                  </a:lnTo>
                  <a:lnTo>
                    <a:pt x="496" y="97"/>
                  </a:lnTo>
                  <a:lnTo>
                    <a:pt x="490" y="68"/>
                  </a:lnTo>
                  <a:lnTo>
                    <a:pt x="486" y="51"/>
                  </a:lnTo>
                  <a:lnTo>
                    <a:pt x="484" y="35"/>
                  </a:lnTo>
                  <a:lnTo>
                    <a:pt x="483" y="17"/>
                  </a:lnTo>
                  <a:lnTo>
                    <a:pt x="482" y="0"/>
                  </a:lnTo>
                  <a:lnTo>
                    <a:pt x="797" y="22"/>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12"/>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Freeform 13"/>
            <p:cNvSpPr/>
            <p:nvPr/>
          </p:nvSpPr>
          <p:spPr>
            <a:xfrm>
              <a:off x="4433760" y="2546280"/>
              <a:ext cx="639360" cy="931680"/>
            </a:xfrm>
            <a:custGeom>
              <a:avLst/>
              <a:gdLst>
                <a:gd name="textAreaLeft" fmla="*/ 0 w 639360"/>
                <a:gd name="textAreaRight" fmla="*/ 639720 w 639360"/>
                <a:gd name="textAreaTop" fmla="*/ 0 h 931680"/>
                <a:gd name="textAreaBottom" fmla="*/ 932040 h 931680"/>
              </a:gdLst>
              <a:ahLst/>
              <a:rect l="textAreaLeft" t="textAreaTop" r="textAreaRight" b="textAreaBottom"/>
              <a:pathLst>
                <a:path w="1762" h="3105">
                  <a:moveTo>
                    <a:pt x="252" y="84"/>
                  </a:moveTo>
                  <a:lnTo>
                    <a:pt x="231" y="335"/>
                  </a:lnTo>
                  <a:lnTo>
                    <a:pt x="247" y="363"/>
                  </a:lnTo>
                  <a:lnTo>
                    <a:pt x="263" y="388"/>
                  </a:lnTo>
                  <a:lnTo>
                    <a:pt x="276" y="412"/>
                  </a:lnTo>
                  <a:lnTo>
                    <a:pt x="289" y="434"/>
                  </a:lnTo>
                  <a:lnTo>
                    <a:pt x="299" y="454"/>
                  </a:lnTo>
                  <a:lnTo>
                    <a:pt x="309" y="475"/>
                  </a:lnTo>
                  <a:lnTo>
                    <a:pt x="316" y="494"/>
                  </a:lnTo>
                  <a:lnTo>
                    <a:pt x="324" y="511"/>
                  </a:lnTo>
                  <a:lnTo>
                    <a:pt x="329" y="527"/>
                  </a:lnTo>
                  <a:lnTo>
                    <a:pt x="334" y="543"/>
                  </a:lnTo>
                  <a:lnTo>
                    <a:pt x="337" y="557"/>
                  </a:lnTo>
                  <a:lnTo>
                    <a:pt x="340" y="571"/>
                  </a:lnTo>
                  <a:lnTo>
                    <a:pt x="342" y="584"/>
                  </a:lnTo>
                  <a:lnTo>
                    <a:pt x="343" y="596"/>
                  </a:lnTo>
                  <a:lnTo>
                    <a:pt x="343" y="608"/>
                  </a:lnTo>
                  <a:lnTo>
                    <a:pt x="343" y="619"/>
                  </a:lnTo>
                  <a:lnTo>
                    <a:pt x="341" y="640"/>
                  </a:lnTo>
                  <a:lnTo>
                    <a:pt x="338" y="659"/>
                  </a:lnTo>
                  <a:lnTo>
                    <a:pt x="334" y="678"/>
                  </a:lnTo>
                  <a:lnTo>
                    <a:pt x="328" y="695"/>
                  </a:lnTo>
                  <a:lnTo>
                    <a:pt x="323" y="714"/>
                  </a:lnTo>
                  <a:lnTo>
                    <a:pt x="318" y="733"/>
                  </a:lnTo>
                  <a:lnTo>
                    <a:pt x="316" y="754"/>
                  </a:lnTo>
                  <a:lnTo>
                    <a:pt x="315" y="776"/>
                  </a:lnTo>
                  <a:lnTo>
                    <a:pt x="316" y="912"/>
                  </a:lnTo>
                  <a:lnTo>
                    <a:pt x="318" y="1023"/>
                  </a:lnTo>
                  <a:lnTo>
                    <a:pt x="318" y="1072"/>
                  </a:lnTo>
                  <a:lnTo>
                    <a:pt x="317" y="1116"/>
                  </a:lnTo>
                  <a:lnTo>
                    <a:pt x="316" y="1137"/>
                  </a:lnTo>
                  <a:lnTo>
                    <a:pt x="314" y="1157"/>
                  </a:lnTo>
                  <a:lnTo>
                    <a:pt x="312" y="1177"/>
                  </a:lnTo>
                  <a:lnTo>
                    <a:pt x="310" y="1196"/>
                  </a:lnTo>
                  <a:lnTo>
                    <a:pt x="306" y="1214"/>
                  </a:lnTo>
                  <a:lnTo>
                    <a:pt x="302" y="1233"/>
                  </a:lnTo>
                  <a:lnTo>
                    <a:pt x="298" y="1250"/>
                  </a:lnTo>
                  <a:lnTo>
                    <a:pt x="292" y="1267"/>
                  </a:lnTo>
                  <a:lnTo>
                    <a:pt x="286" y="1285"/>
                  </a:lnTo>
                  <a:lnTo>
                    <a:pt x="279" y="1302"/>
                  </a:lnTo>
                  <a:lnTo>
                    <a:pt x="270" y="1320"/>
                  </a:lnTo>
                  <a:lnTo>
                    <a:pt x="262" y="1337"/>
                  </a:lnTo>
                  <a:lnTo>
                    <a:pt x="251" y="1355"/>
                  </a:lnTo>
                  <a:lnTo>
                    <a:pt x="240" y="1372"/>
                  </a:lnTo>
                  <a:lnTo>
                    <a:pt x="228" y="1391"/>
                  </a:lnTo>
                  <a:lnTo>
                    <a:pt x="214" y="1409"/>
                  </a:lnTo>
                  <a:lnTo>
                    <a:pt x="200" y="1428"/>
                  </a:lnTo>
                  <a:lnTo>
                    <a:pt x="183" y="1448"/>
                  </a:lnTo>
                  <a:lnTo>
                    <a:pt x="166" y="1468"/>
                  </a:lnTo>
                  <a:lnTo>
                    <a:pt x="147" y="1490"/>
                  </a:lnTo>
                  <a:lnTo>
                    <a:pt x="135" y="1502"/>
                  </a:lnTo>
                  <a:lnTo>
                    <a:pt x="124" y="1515"/>
                  </a:lnTo>
                  <a:lnTo>
                    <a:pt x="115" y="1529"/>
                  </a:lnTo>
                  <a:lnTo>
                    <a:pt x="106" y="1543"/>
                  </a:lnTo>
                  <a:lnTo>
                    <a:pt x="97" y="1557"/>
                  </a:lnTo>
                  <a:lnTo>
                    <a:pt x="89" y="1574"/>
                  </a:lnTo>
                  <a:lnTo>
                    <a:pt x="83" y="1589"/>
                  </a:lnTo>
                  <a:lnTo>
                    <a:pt x="76" y="1605"/>
                  </a:lnTo>
                  <a:lnTo>
                    <a:pt x="65" y="1638"/>
                  </a:lnTo>
                  <a:lnTo>
                    <a:pt x="56" y="1672"/>
                  </a:lnTo>
                  <a:lnTo>
                    <a:pt x="48" y="1706"/>
                  </a:lnTo>
                  <a:lnTo>
                    <a:pt x="42" y="1738"/>
                  </a:lnTo>
                  <a:lnTo>
                    <a:pt x="32" y="1800"/>
                  </a:lnTo>
                  <a:lnTo>
                    <a:pt x="23" y="1853"/>
                  </a:lnTo>
                  <a:lnTo>
                    <a:pt x="19" y="1873"/>
                  </a:lnTo>
                  <a:lnTo>
                    <a:pt x="13" y="1890"/>
                  </a:lnTo>
                  <a:lnTo>
                    <a:pt x="10" y="1897"/>
                  </a:lnTo>
                  <a:lnTo>
                    <a:pt x="7" y="1903"/>
                  </a:lnTo>
                  <a:lnTo>
                    <a:pt x="3" y="1906"/>
                  </a:lnTo>
                  <a:lnTo>
                    <a:pt x="0" y="1909"/>
                  </a:lnTo>
                  <a:lnTo>
                    <a:pt x="15" y="1931"/>
                  </a:lnTo>
                  <a:lnTo>
                    <a:pt x="31" y="1950"/>
                  </a:lnTo>
                  <a:lnTo>
                    <a:pt x="45" y="1966"/>
                  </a:lnTo>
                  <a:lnTo>
                    <a:pt x="58" y="1980"/>
                  </a:lnTo>
                  <a:lnTo>
                    <a:pt x="69" y="1993"/>
                  </a:lnTo>
                  <a:lnTo>
                    <a:pt x="76" y="2006"/>
                  </a:lnTo>
                  <a:lnTo>
                    <a:pt x="80" y="2013"/>
                  </a:lnTo>
                  <a:lnTo>
                    <a:pt x="82" y="2021"/>
                  </a:lnTo>
                  <a:lnTo>
                    <a:pt x="83" y="2027"/>
                  </a:lnTo>
                  <a:lnTo>
                    <a:pt x="84" y="2035"/>
                  </a:lnTo>
                  <a:lnTo>
                    <a:pt x="87" y="2037"/>
                  </a:lnTo>
                  <a:lnTo>
                    <a:pt x="98" y="2041"/>
                  </a:lnTo>
                  <a:lnTo>
                    <a:pt x="115" y="2049"/>
                  </a:lnTo>
                  <a:lnTo>
                    <a:pt x="136" y="2057"/>
                  </a:lnTo>
                  <a:lnTo>
                    <a:pt x="161" y="2064"/>
                  </a:lnTo>
                  <a:lnTo>
                    <a:pt x="190" y="2071"/>
                  </a:lnTo>
                  <a:lnTo>
                    <a:pt x="205" y="2073"/>
                  </a:lnTo>
                  <a:lnTo>
                    <a:pt x="220" y="2075"/>
                  </a:lnTo>
                  <a:lnTo>
                    <a:pt x="235" y="2076"/>
                  </a:lnTo>
                  <a:lnTo>
                    <a:pt x="252" y="2077"/>
                  </a:lnTo>
                  <a:lnTo>
                    <a:pt x="249" y="2082"/>
                  </a:lnTo>
                  <a:lnTo>
                    <a:pt x="245" y="2086"/>
                  </a:lnTo>
                  <a:lnTo>
                    <a:pt x="244" y="2091"/>
                  </a:lnTo>
                  <a:lnTo>
                    <a:pt x="243" y="2097"/>
                  </a:lnTo>
                  <a:lnTo>
                    <a:pt x="242" y="2110"/>
                  </a:lnTo>
                  <a:lnTo>
                    <a:pt x="244" y="2124"/>
                  </a:lnTo>
                  <a:lnTo>
                    <a:pt x="246" y="2141"/>
                  </a:lnTo>
                  <a:lnTo>
                    <a:pt x="249" y="2160"/>
                  </a:lnTo>
                  <a:lnTo>
                    <a:pt x="251" y="2181"/>
                  </a:lnTo>
                  <a:lnTo>
                    <a:pt x="252" y="2203"/>
                  </a:lnTo>
                  <a:lnTo>
                    <a:pt x="252" y="2234"/>
                  </a:lnTo>
                  <a:lnTo>
                    <a:pt x="254" y="2267"/>
                  </a:lnTo>
                  <a:lnTo>
                    <a:pt x="256" y="2299"/>
                  </a:lnTo>
                  <a:lnTo>
                    <a:pt x="259" y="2330"/>
                  </a:lnTo>
                  <a:lnTo>
                    <a:pt x="263" y="2362"/>
                  </a:lnTo>
                  <a:lnTo>
                    <a:pt x="268" y="2392"/>
                  </a:lnTo>
                  <a:lnTo>
                    <a:pt x="274" y="2422"/>
                  </a:lnTo>
                  <a:lnTo>
                    <a:pt x="280" y="2450"/>
                  </a:lnTo>
                  <a:lnTo>
                    <a:pt x="288" y="2476"/>
                  </a:lnTo>
                  <a:lnTo>
                    <a:pt x="295" y="2501"/>
                  </a:lnTo>
                  <a:lnTo>
                    <a:pt x="304" y="2524"/>
                  </a:lnTo>
                  <a:lnTo>
                    <a:pt x="314" y="2545"/>
                  </a:lnTo>
                  <a:lnTo>
                    <a:pt x="324" y="2563"/>
                  </a:lnTo>
                  <a:lnTo>
                    <a:pt x="334" y="2580"/>
                  </a:lnTo>
                  <a:lnTo>
                    <a:pt x="339" y="2586"/>
                  </a:lnTo>
                  <a:lnTo>
                    <a:pt x="344" y="2592"/>
                  </a:lnTo>
                  <a:lnTo>
                    <a:pt x="351" y="2597"/>
                  </a:lnTo>
                  <a:lnTo>
                    <a:pt x="356" y="2602"/>
                  </a:lnTo>
                  <a:lnTo>
                    <a:pt x="335" y="2601"/>
                  </a:lnTo>
                  <a:lnTo>
                    <a:pt x="303" y="2596"/>
                  </a:lnTo>
                  <a:lnTo>
                    <a:pt x="265" y="2593"/>
                  </a:lnTo>
                  <a:lnTo>
                    <a:pt x="226" y="2591"/>
                  </a:lnTo>
                  <a:lnTo>
                    <a:pt x="206" y="2592"/>
                  </a:lnTo>
                  <a:lnTo>
                    <a:pt x="188" y="2594"/>
                  </a:lnTo>
                  <a:lnTo>
                    <a:pt x="171" y="2597"/>
                  </a:lnTo>
                  <a:lnTo>
                    <a:pt x="156" y="2602"/>
                  </a:lnTo>
                  <a:lnTo>
                    <a:pt x="149" y="2605"/>
                  </a:lnTo>
                  <a:lnTo>
                    <a:pt x="143" y="2608"/>
                  </a:lnTo>
                  <a:lnTo>
                    <a:pt x="138" y="2613"/>
                  </a:lnTo>
                  <a:lnTo>
                    <a:pt x="134" y="2618"/>
                  </a:lnTo>
                  <a:lnTo>
                    <a:pt x="131" y="2623"/>
                  </a:lnTo>
                  <a:lnTo>
                    <a:pt x="128" y="2629"/>
                  </a:lnTo>
                  <a:lnTo>
                    <a:pt x="127" y="2636"/>
                  </a:lnTo>
                  <a:lnTo>
                    <a:pt x="125" y="2644"/>
                  </a:lnTo>
                  <a:lnTo>
                    <a:pt x="127" y="2663"/>
                  </a:lnTo>
                  <a:lnTo>
                    <a:pt x="128" y="2681"/>
                  </a:lnTo>
                  <a:lnTo>
                    <a:pt x="131" y="2698"/>
                  </a:lnTo>
                  <a:lnTo>
                    <a:pt x="135" y="2714"/>
                  </a:lnTo>
                  <a:lnTo>
                    <a:pt x="140" y="2728"/>
                  </a:lnTo>
                  <a:lnTo>
                    <a:pt x="145" y="2742"/>
                  </a:lnTo>
                  <a:lnTo>
                    <a:pt x="152" y="2756"/>
                  </a:lnTo>
                  <a:lnTo>
                    <a:pt x="158" y="2769"/>
                  </a:lnTo>
                  <a:lnTo>
                    <a:pt x="166" y="2781"/>
                  </a:lnTo>
                  <a:lnTo>
                    <a:pt x="174" y="2793"/>
                  </a:lnTo>
                  <a:lnTo>
                    <a:pt x="183" y="2804"/>
                  </a:lnTo>
                  <a:lnTo>
                    <a:pt x="192" y="2815"/>
                  </a:lnTo>
                  <a:lnTo>
                    <a:pt x="212" y="2837"/>
                  </a:lnTo>
                  <a:lnTo>
                    <a:pt x="231" y="2859"/>
                  </a:lnTo>
                  <a:lnTo>
                    <a:pt x="250" y="2881"/>
                  </a:lnTo>
                  <a:lnTo>
                    <a:pt x="269" y="2904"/>
                  </a:lnTo>
                  <a:lnTo>
                    <a:pt x="278" y="2917"/>
                  </a:lnTo>
                  <a:lnTo>
                    <a:pt x="287" y="2929"/>
                  </a:lnTo>
                  <a:lnTo>
                    <a:pt x="295" y="2943"/>
                  </a:lnTo>
                  <a:lnTo>
                    <a:pt x="303" y="2957"/>
                  </a:lnTo>
                  <a:lnTo>
                    <a:pt x="310" y="2971"/>
                  </a:lnTo>
                  <a:lnTo>
                    <a:pt x="316" y="2987"/>
                  </a:lnTo>
                  <a:lnTo>
                    <a:pt x="322" y="3004"/>
                  </a:lnTo>
                  <a:lnTo>
                    <a:pt x="327" y="3021"/>
                  </a:lnTo>
                  <a:lnTo>
                    <a:pt x="330" y="3041"/>
                  </a:lnTo>
                  <a:lnTo>
                    <a:pt x="334" y="3060"/>
                  </a:lnTo>
                  <a:lnTo>
                    <a:pt x="335" y="3082"/>
                  </a:lnTo>
                  <a:lnTo>
                    <a:pt x="336" y="3105"/>
                  </a:lnTo>
                  <a:lnTo>
                    <a:pt x="483" y="3105"/>
                  </a:lnTo>
                  <a:lnTo>
                    <a:pt x="498" y="3098"/>
                  </a:lnTo>
                  <a:lnTo>
                    <a:pt x="514" y="3091"/>
                  </a:lnTo>
                  <a:lnTo>
                    <a:pt x="532" y="3086"/>
                  </a:lnTo>
                  <a:lnTo>
                    <a:pt x="548" y="3080"/>
                  </a:lnTo>
                  <a:lnTo>
                    <a:pt x="583" y="3071"/>
                  </a:lnTo>
                  <a:lnTo>
                    <a:pt x="619" y="3064"/>
                  </a:lnTo>
                  <a:lnTo>
                    <a:pt x="689" y="3052"/>
                  </a:lnTo>
                  <a:lnTo>
                    <a:pt x="755" y="3040"/>
                  </a:lnTo>
                  <a:lnTo>
                    <a:pt x="771" y="3037"/>
                  </a:lnTo>
                  <a:lnTo>
                    <a:pt x="786" y="3032"/>
                  </a:lnTo>
                  <a:lnTo>
                    <a:pt x="800" y="3028"/>
                  </a:lnTo>
                  <a:lnTo>
                    <a:pt x="813" y="3022"/>
                  </a:lnTo>
                  <a:lnTo>
                    <a:pt x="826" y="3017"/>
                  </a:lnTo>
                  <a:lnTo>
                    <a:pt x="838" y="3011"/>
                  </a:lnTo>
                  <a:lnTo>
                    <a:pt x="850" y="3004"/>
                  </a:lnTo>
                  <a:lnTo>
                    <a:pt x="860" y="2996"/>
                  </a:lnTo>
                  <a:lnTo>
                    <a:pt x="870" y="2987"/>
                  </a:lnTo>
                  <a:lnTo>
                    <a:pt x="877" y="2978"/>
                  </a:lnTo>
                  <a:lnTo>
                    <a:pt x="885" y="2967"/>
                  </a:lnTo>
                  <a:lnTo>
                    <a:pt x="890" y="2955"/>
                  </a:lnTo>
                  <a:lnTo>
                    <a:pt x="896" y="2943"/>
                  </a:lnTo>
                  <a:lnTo>
                    <a:pt x="899" y="2928"/>
                  </a:lnTo>
                  <a:lnTo>
                    <a:pt x="901" y="2912"/>
                  </a:lnTo>
                  <a:lnTo>
                    <a:pt x="902" y="2896"/>
                  </a:lnTo>
                  <a:lnTo>
                    <a:pt x="902" y="2880"/>
                  </a:lnTo>
                  <a:lnTo>
                    <a:pt x="902" y="2864"/>
                  </a:lnTo>
                  <a:lnTo>
                    <a:pt x="902" y="2848"/>
                  </a:lnTo>
                  <a:lnTo>
                    <a:pt x="902" y="2833"/>
                  </a:lnTo>
                  <a:lnTo>
                    <a:pt x="944" y="2839"/>
                  </a:lnTo>
                  <a:lnTo>
                    <a:pt x="982" y="2842"/>
                  </a:lnTo>
                  <a:lnTo>
                    <a:pt x="1017" y="2842"/>
                  </a:lnTo>
                  <a:lnTo>
                    <a:pt x="1050" y="2840"/>
                  </a:lnTo>
                  <a:lnTo>
                    <a:pt x="1079" y="2836"/>
                  </a:lnTo>
                  <a:lnTo>
                    <a:pt x="1106" y="2828"/>
                  </a:lnTo>
                  <a:lnTo>
                    <a:pt x="1131" y="2820"/>
                  </a:lnTo>
                  <a:lnTo>
                    <a:pt x="1154" y="2809"/>
                  </a:lnTo>
                  <a:lnTo>
                    <a:pt x="1175" y="2797"/>
                  </a:lnTo>
                  <a:lnTo>
                    <a:pt x="1195" y="2783"/>
                  </a:lnTo>
                  <a:lnTo>
                    <a:pt x="1212" y="2766"/>
                  </a:lnTo>
                  <a:lnTo>
                    <a:pt x="1228" y="2750"/>
                  </a:lnTo>
                  <a:lnTo>
                    <a:pt x="1244" y="2732"/>
                  </a:lnTo>
                  <a:lnTo>
                    <a:pt x="1258" y="2714"/>
                  </a:lnTo>
                  <a:lnTo>
                    <a:pt x="1272" y="2694"/>
                  </a:lnTo>
                  <a:lnTo>
                    <a:pt x="1285" y="2675"/>
                  </a:lnTo>
                  <a:lnTo>
                    <a:pt x="1310" y="2635"/>
                  </a:lnTo>
                  <a:lnTo>
                    <a:pt x="1335" y="2596"/>
                  </a:lnTo>
                  <a:lnTo>
                    <a:pt x="1348" y="2578"/>
                  </a:lnTo>
                  <a:lnTo>
                    <a:pt x="1361" y="2559"/>
                  </a:lnTo>
                  <a:lnTo>
                    <a:pt x="1377" y="2542"/>
                  </a:lnTo>
                  <a:lnTo>
                    <a:pt x="1392" y="2525"/>
                  </a:lnTo>
                  <a:lnTo>
                    <a:pt x="1408" y="2510"/>
                  </a:lnTo>
                  <a:lnTo>
                    <a:pt x="1427" y="2497"/>
                  </a:lnTo>
                  <a:lnTo>
                    <a:pt x="1446" y="2485"/>
                  </a:lnTo>
                  <a:lnTo>
                    <a:pt x="1467" y="2474"/>
                  </a:lnTo>
                  <a:lnTo>
                    <a:pt x="1490" y="2466"/>
                  </a:lnTo>
                  <a:lnTo>
                    <a:pt x="1516" y="2460"/>
                  </a:lnTo>
                  <a:lnTo>
                    <a:pt x="1543" y="2457"/>
                  </a:lnTo>
                  <a:lnTo>
                    <a:pt x="1574" y="2454"/>
                  </a:lnTo>
                  <a:lnTo>
                    <a:pt x="1574" y="2434"/>
                  </a:lnTo>
                  <a:lnTo>
                    <a:pt x="1559" y="2406"/>
                  </a:lnTo>
                  <a:lnTo>
                    <a:pt x="1547" y="2379"/>
                  </a:lnTo>
                  <a:lnTo>
                    <a:pt x="1536" y="2352"/>
                  </a:lnTo>
                  <a:lnTo>
                    <a:pt x="1527" y="2325"/>
                  </a:lnTo>
                  <a:lnTo>
                    <a:pt x="1511" y="2272"/>
                  </a:lnTo>
                  <a:lnTo>
                    <a:pt x="1497" y="2221"/>
                  </a:lnTo>
                  <a:lnTo>
                    <a:pt x="1490" y="2197"/>
                  </a:lnTo>
                  <a:lnTo>
                    <a:pt x="1482" y="2174"/>
                  </a:lnTo>
                  <a:lnTo>
                    <a:pt x="1474" y="2151"/>
                  </a:lnTo>
                  <a:lnTo>
                    <a:pt x="1464" y="2130"/>
                  </a:lnTo>
                  <a:lnTo>
                    <a:pt x="1458" y="2120"/>
                  </a:lnTo>
                  <a:lnTo>
                    <a:pt x="1453" y="2110"/>
                  </a:lnTo>
                  <a:lnTo>
                    <a:pt x="1446" y="2100"/>
                  </a:lnTo>
                  <a:lnTo>
                    <a:pt x="1440" y="2090"/>
                  </a:lnTo>
                  <a:lnTo>
                    <a:pt x="1432" y="2082"/>
                  </a:lnTo>
                  <a:lnTo>
                    <a:pt x="1423" y="2073"/>
                  </a:lnTo>
                  <a:lnTo>
                    <a:pt x="1415" y="2064"/>
                  </a:lnTo>
                  <a:lnTo>
                    <a:pt x="1406" y="2057"/>
                  </a:lnTo>
                  <a:lnTo>
                    <a:pt x="1420" y="2040"/>
                  </a:lnTo>
                  <a:lnTo>
                    <a:pt x="1432" y="2025"/>
                  </a:lnTo>
                  <a:lnTo>
                    <a:pt x="1443" y="2009"/>
                  </a:lnTo>
                  <a:lnTo>
                    <a:pt x="1451" y="1992"/>
                  </a:lnTo>
                  <a:lnTo>
                    <a:pt x="1458" y="1976"/>
                  </a:lnTo>
                  <a:lnTo>
                    <a:pt x="1464" y="1960"/>
                  </a:lnTo>
                  <a:lnTo>
                    <a:pt x="1468" y="1942"/>
                  </a:lnTo>
                  <a:lnTo>
                    <a:pt x="1471" y="1925"/>
                  </a:lnTo>
                  <a:lnTo>
                    <a:pt x="1476" y="1889"/>
                  </a:lnTo>
                  <a:lnTo>
                    <a:pt x="1479" y="1850"/>
                  </a:lnTo>
                  <a:lnTo>
                    <a:pt x="1483" y="1808"/>
                  </a:lnTo>
                  <a:lnTo>
                    <a:pt x="1490" y="1762"/>
                  </a:lnTo>
                  <a:lnTo>
                    <a:pt x="1493" y="1749"/>
                  </a:lnTo>
                  <a:lnTo>
                    <a:pt x="1499" y="1735"/>
                  </a:lnTo>
                  <a:lnTo>
                    <a:pt x="1504" y="1723"/>
                  </a:lnTo>
                  <a:lnTo>
                    <a:pt x="1509" y="1710"/>
                  </a:lnTo>
                  <a:lnTo>
                    <a:pt x="1516" y="1698"/>
                  </a:lnTo>
                  <a:lnTo>
                    <a:pt x="1523" y="1686"/>
                  </a:lnTo>
                  <a:lnTo>
                    <a:pt x="1530" y="1675"/>
                  </a:lnTo>
                  <a:lnTo>
                    <a:pt x="1538" y="1664"/>
                  </a:lnTo>
                  <a:lnTo>
                    <a:pt x="1554" y="1642"/>
                  </a:lnTo>
                  <a:lnTo>
                    <a:pt x="1572" y="1623"/>
                  </a:lnTo>
                  <a:lnTo>
                    <a:pt x="1590" y="1604"/>
                  </a:lnTo>
                  <a:lnTo>
                    <a:pt x="1610" y="1587"/>
                  </a:lnTo>
                  <a:lnTo>
                    <a:pt x="1629" y="1570"/>
                  </a:lnTo>
                  <a:lnTo>
                    <a:pt x="1650" y="1555"/>
                  </a:lnTo>
                  <a:lnTo>
                    <a:pt x="1670" y="1542"/>
                  </a:lnTo>
                  <a:lnTo>
                    <a:pt x="1690" y="1529"/>
                  </a:lnTo>
                  <a:lnTo>
                    <a:pt x="1729" y="1507"/>
                  </a:lnTo>
                  <a:lnTo>
                    <a:pt x="1762" y="1490"/>
                  </a:lnTo>
                  <a:lnTo>
                    <a:pt x="1762" y="776"/>
                  </a:lnTo>
                  <a:lnTo>
                    <a:pt x="420" y="0"/>
                  </a:lnTo>
                  <a:lnTo>
                    <a:pt x="398" y="1"/>
                  </a:lnTo>
                  <a:lnTo>
                    <a:pt x="379" y="3"/>
                  </a:lnTo>
                  <a:lnTo>
                    <a:pt x="363" y="6"/>
                  </a:lnTo>
                  <a:lnTo>
                    <a:pt x="349" y="11"/>
                  </a:lnTo>
                  <a:lnTo>
                    <a:pt x="336" y="14"/>
                  </a:lnTo>
                  <a:lnTo>
                    <a:pt x="322" y="17"/>
                  </a:lnTo>
                  <a:lnTo>
                    <a:pt x="309" y="19"/>
                  </a:lnTo>
                  <a:lnTo>
                    <a:pt x="293" y="20"/>
                  </a:lnTo>
                  <a:lnTo>
                    <a:pt x="285" y="30"/>
                  </a:lnTo>
                  <a:lnTo>
                    <a:pt x="265" y="52"/>
                  </a:lnTo>
                  <a:lnTo>
                    <a:pt x="255" y="64"/>
                  </a:lnTo>
                  <a:lnTo>
                    <a:pt x="250" y="74"/>
                  </a:lnTo>
                  <a:lnTo>
                    <a:pt x="247" y="78"/>
                  </a:lnTo>
                  <a:lnTo>
                    <a:pt x="247" y="82"/>
                  </a:lnTo>
                  <a:lnTo>
                    <a:pt x="249" y="83"/>
                  </a:lnTo>
                  <a:lnTo>
                    <a:pt x="252" y="84"/>
                  </a:lnTo>
                </a:path>
              </a:pathLst>
            </a:custGeom>
            <a:noFill/>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16"/>
            <p:cNvSpPr/>
            <p:nvPr/>
          </p:nvSpPr>
          <p:spPr>
            <a:xfrm>
              <a:off x="2533680" y="3179520"/>
              <a:ext cx="200160" cy="109440"/>
            </a:xfrm>
            <a:custGeom>
              <a:avLst/>
              <a:gdLst>
                <a:gd name="textAreaLeft" fmla="*/ 0 w 200160"/>
                <a:gd name="textAreaRight" fmla="*/ 200520 w 200160"/>
                <a:gd name="textAreaTop" fmla="*/ 0 h 109440"/>
                <a:gd name="textAreaBottom" fmla="*/ 109800 h 109440"/>
              </a:gdLst>
              <a:ahLst/>
              <a:rect l="textAreaLeft" t="textAreaTop" r="textAreaRight" b="textAreaBottom"/>
              <a:pathLst>
                <a:path w="546" h="365">
                  <a:moveTo>
                    <a:pt x="546" y="30"/>
                  </a:moveTo>
                  <a:lnTo>
                    <a:pt x="533" y="52"/>
                  </a:lnTo>
                  <a:lnTo>
                    <a:pt x="520" y="76"/>
                  </a:lnTo>
                  <a:lnTo>
                    <a:pt x="506" y="99"/>
                  </a:lnTo>
                  <a:lnTo>
                    <a:pt x="490" y="123"/>
                  </a:lnTo>
                  <a:lnTo>
                    <a:pt x="475" y="146"/>
                  </a:lnTo>
                  <a:lnTo>
                    <a:pt x="458" y="169"/>
                  </a:lnTo>
                  <a:lnTo>
                    <a:pt x="440" y="191"/>
                  </a:lnTo>
                  <a:lnTo>
                    <a:pt x="423" y="213"/>
                  </a:lnTo>
                  <a:lnTo>
                    <a:pt x="403" y="234"/>
                  </a:lnTo>
                  <a:lnTo>
                    <a:pt x="383" y="255"/>
                  </a:lnTo>
                  <a:lnTo>
                    <a:pt x="363" y="275"/>
                  </a:lnTo>
                  <a:lnTo>
                    <a:pt x="342" y="294"/>
                  </a:lnTo>
                  <a:lnTo>
                    <a:pt x="320" y="313"/>
                  </a:lnTo>
                  <a:lnTo>
                    <a:pt x="298" y="331"/>
                  </a:lnTo>
                  <a:lnTo>
                    <a:pt x="276" y="349"/>
                  </a:lnTo>
                  <a:lnTo>
                    <a:pt x="252" y="365"/>
                  </a:lnTo>
                  <a:lnTo>
                    <a:pt x="244" y="353"/>
                  </a:lnTo>
                  <a:lnTo>
                    <a:pt x="237" y="341"/>
                  </a:lnTo>
                  <a:lnTo>
                    <a:pt x="232" y="329"/>
                  </a:lnTo>
                  <a:lnTo>
                    <a:pt x="227" y="318"/>
                  </a:lnTo>
                  <a:lnTo>
                    <a:pt x="218" y="295"/>
                  </a:lnTo>
                  <a:lnTo>
                    <a:pt x="210" y="273"/>
                  </a:lnTo>
                  <a:lnTo>
                    <a:pt x="201" y="252"/>
                  </a:lnTo>
                  <a:lnTo>
                    <a:pt x="193" y="232"/>
                  </a:lnTo>
                  <a:lnTo>
                    <a:pt x="187" y="222"/>
                  </a:lnTo>
                  <a:lnTo>
                    <a:pt x="182" y="214"/>
                  </a:lnTo>
                  <a:lnTo>
                    <a:pt x="175" y="205"/>
                  </a:lnTo>
                  <a:lnTo>
                    <a:pt x="168" y="197"/>
                  </a:lnTo>
                  <a:lnTo>
                    <a:pt x="122" y="152"/>
                  </a:lnTo>
                  <a:lnTo>
                    <a:pt x="91" y="121"/>
                  </a:lnTo>
                  <a:lnTo>
                    <a:pt x="72" y="104"/>
                  </a:lnTo>
                  <a:lnTo>
                    <a:pt x="60" y="95"/>
                  </a:lnTo>
                  <a:lnTo>
                    <a:pt x="51" y="91"/>
                  </a:lnTo>
                  <a:lnTo>
                    <a:pt x="41" y="87"/>
                  </a:lnTo>
                  <a:lnTo>
                    <a:pt x="25" y="83"/>
                  </a:lnTo>
                  <a:lnTo>
                    <a:pt x="0" y="71"/>
                  </a:lnTo>
                  <a:lnTo>
                    <a:pt x="63" y="50"/>
                  </a:lnTo>
                  <a:lnTo>
                    <a:pt x="84" y="39"/>
                  </a:lnTo>
                  <a:lnTo>
                    <a:pt x="106" y="30"/>
                  </a:lnTo>
                  <a:lnTo>
                    <a:pt x="128" y="21"/>
                  </a:lnTo>
                  <a:lnTo>
                    <a:pt x="154" y="14"/>
                  </a:lnTo>
                  <a:lnTo>
                    <a:pt x="179" y="9"/>
                  </a:lnTo>
                  <a:lnTo>
                    <a:pt x="207" y="4"/>
                  </a:lnTo>
                  <a:lnTo>
                    <a:pt x="235" y="2"/>
                  </a:lnTo>
                  <a:lnTo>
                    <a:pt x="265" y="0"/>
                  </a:lnTo>
                  <a:lnTo>
                    <a:pt x="296" y="0"/>
                  </a:lnTo>
                  <a:lnTo>
                    <a:pt x="328" y="1"/>
                  </a:lnTo>
                  <a:lnTo>
                    <a:pt x="362" y="2"/>
                  </a:lnTo>
                  <a:lnTo>
                    <a:pt x="397" y="6"/>
                  </a:lnTo>
                  <a:lnTo>
                    <a:pt x="433" y="10"/>
                  </a:lnTo>
                  <a:lnTo>
                    <a:pt x="468" y="15"/>
                  </a:lnTo>
                  <a:lnTo>
                    <a:pt x="507" y="22"/>
                  </a:lnTo>
                  <a:lnTo>
                    <a:pt x="546" y="30"/>
                  </a:lnTo>
                  <a:close/>
                </a:path>
              </a:pathLst>
            </a:custGeom>
            <a:solidFill>
              <a:srgbClr val="dede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Freeform 22"/>
            <p:cNvSpPr/>
            <p:nvPr/>
          </p:nvSpPr>
          <p:spPr>
            <a:xfrm>
              <a:off x="2520360" y="3119040"/>
              <a:ext cx="204120" cy="38160"/>
            </a:xfrm>
            <a:custGeom>
              <a:avLst/>
              <a:gdLst>
                <a:gd name="textAreaLeft" fmla="*/ 0 w 204120"/>
                <a:gd name="textAreaRight" fmla="*/ 204480 w 204120"/>
                <a:gd name="textAreaTop" fmla="*/ 0 h 38160"/>
                <a:gd name="textAreaBottom" fmla="*/ 38520 h 38160"/>
              </a:gdLst>
              <a:ahLst/>
              <a:rect l="textAreaLeft" t="textAreaTop" r="textAreaRight" b="textAreaBottom"/>
              <a:pathLst>
                <a:path w="566" h="126">
                  <a:moveTo>
                    <a:pt x="0" y="64"/>
                  </a:moveTo>
                  <a:lnTo>
                    <a:pt x="53" y="48"/>
                  </a:lnTo>
                  <a:lnTo>
                    <a:pt x="101" y="35"/>
                  </a:lnTo>
                  <a:lnTo>
                    <a:pt x="145" y="24"/>
                  </a:lnTo>
                  <a:lnTo>
                    <a:pt x="189" y="16"/>
                  </a:lnTo>
                  <a:lnTo>
                    <a:pt x="233" y="9"/>
                  </a:lnTo>
                  <a:lnTo>
                    <a:pt x="277" y="4"/>
                  </a:lnTo>
                  <a:lnTo>
                    <a:pt x="325" y="2"/>
                  </a:lnTo>
                  <a:lnTo>
                    <a:pt x="378" y="0"/>
                  </a:lnTo>
                  <a:lnTo>
                    <a:pt x="416" y="0"/>
                  </a:lnTo>
                  <a:lnTo>
                    <a:pt x="452" y="2"/>
                  </a:lnTo>
                  <a:lnTo>
                    <a:pt x="468" y="3"/>
                  </a:lnTo>
                  <a:lnTo>
                    <a:pt x="483" y="5"/>
                  </a:lnTo>
                  <a:lnTo>
                    <a:pt x="498" y="7"/>
                  </a:lnTo>
                  <a:lnTo>
                    <a:pt x="512" y="10"/>
                  </a:lnTo>
                  <a:lnTo>
                    <a:pt x="524" y="16"/>
                  </a:lnTo>
                  <a:lnTo>
                    <a:pt x="534" y="21"/>
                  </a:lnTo>
                  <a:lnTo>
                    <a:pt x="544" y="28"/>
                  </a:lnTo>
                  <a:lnTo>
                    <a:pt x="552" y="35"/>
                  </a:lnTo>
                  <a:lnTo>
                    <a:pt x="555" y="41"/>
                  </a:lnTo>
                  <a:lnTo>
                    <a:pt x="558" y="45"/>
                  </a:lnTo>
                  <a:lnTo>
                    <a:pt x="561" y="51"/>
                  </a:lnTo>
                  <a:lnTo>
                    <a:pt x="563" y="56"/>
                  </a:lnTo>
                  <a:lnTo>
                    <a:pt x="566" y="69"/>
                  </a:lnTo>
                  <a:lnTo>
                    <a:pt x="566" y="84"/>
                  </a:lnTo>
                  <a:lnTo>
                    <a:pt x="555" y="88"/>
                  </a:lnTo>
                  <a:lnTo>
                    <a:pt x="543" y="90"/>
                  </a:lnTo>
                  <a:lnTo>
                    <a:pt x="531" y="92"/>
                  </a:lnTo>
                  <a:lnTo>
                    <a:pt x="519" y="93"/>
                  </a:lnTo>
                  <a:lnTo>
                    <a:pt x="494" y="93"/>
                  </a:lnTo>
                  <a:lnTo>
                    <a:pt x="469" y="92"/>
                  </a:lnTo>
                  <a:lnTo>
                    <a:pt x="443" y="90"/>
                  </a:lnTo>
                  <a:lnTo>
                    <a:pt x="416" y="88"/>
                  </a:lnTo>
                  <a:lnTo>
                    <a:pt x="387" y="85"/>
                  </a:lnTo>
                  <a:lnTo>
                    <a:pt x="357" y="84"/>
                  </a:lnTo>
                  <a:lnTo>
                    <a:pt x="331" y="84"/>
                  </a:lnTo>
                  <a:lnTo>
                    <a:pt x="306" y="85"/>
                  </a:lnTo>
                  <a:lnTo>
                    <a:pt x="282" y="88"/>
                  </a:lnTo>
                  <a:lnTo>
                    <a:pt x="260" y="91"/>
                  </a:lnTo>
                  <a:lnTo>
                    <a:pt x="218" y="97"/>
                  </a:lnTo>
                  <a:lnTo>
                    <a:pt x="178" y="105"/>
                  </a:lnTo>
                  <a:lnTo>
                    <a:pt x="139" y="113"/>
                  </a:lnTo>
                  <a:lnTo>
                    <a:pt x="97" y="119"/>
                  </a:lnTo>
                  <a:lnTo>
                    <a:pt x="75" y="123"/>
                  </a:lnTo>
                  <a:lnTo>
                    <a:pt x="52" y="125"/>
                  </a:lnTo>
                  <a:lnTo>
                    <a:pt x="27" y="126"/>
                  </a:lnTo>
                  <a:lnTo>
                    <a:pt x="0" y="126"/>
                  </a:lnTo>
                  <a:lnTo>
                    <a:pt x="0" y="111"/>
                  </a:lnTo>
                  <a:lnTo>
                    <a:pt x="0" y="94"/>
                  </a:lnTo>
                  <a:lnTo>
                    <a:pt x="0" y="79"/>
                  </a:lnTo>
                  <a:lnTo>
                    <a:pt x="0" y="64"/>
                  </a:lnTo>
                  <a:close/>
                </a:path>
              </a:pathLst>
            </a:custGeom>
            <a:solidFill>
              <a:srgbClr val="dededd"/>
            </a:solidFill>
            <a:ln w="0">
              <a:noFill/>
            </a:ln>
          </p:spPr>
          <p:style>
            <a:lnRef idx="0"/>
            <a:fillRef idx="0"/>
            <a:effectRef idx="0"/>
            <a:fontRef idx="minor"/>
          </p:style>
          <p:txBody>
            <a:bodyPr lIns="90000" rIns="90000" tIns="-8280" bIns="-8280" anchor="t">
              <a:noAutofit/>
            </a:bodyPr>
            <a:p>
              <a:endParaRPr b="0" lang="en-US" sz="1800" spc="-1" strike="noStrike">
                <a:solidFill>
                  <a:srgbClr val="000000"/>
                </a:solidFill>
                <a:latin typeface="Arial"/>
              </a:endParaRPr>
            </a:p>
          </p:txBody>
        </p:sp>
        <p:sp>
          <p:nvSpPr>
            <p:cNvPr id="153" name="Line 24"/>
            <p:cNvSpPr/>
            <p:nvPr/>
          </p:nvSpPr>
          <p:spPr>
            <a:xfrm flipH="1" flipV="1">
              <a:off x="4647600" y="5862240"/>
              <a:ext cx="12960" cy="44640"/>
            </a:xfrm>
            <a:prstGeom prst="line">
              <a:avLst/>
            </a:prstGeom>
            <a:ln w="0">
              <a:solidFill>
                <a:srgbClr val="949393"/>
              </a:solid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54" name="Line 25"/>
            <p:cNvSpPr/>
            <p:nvPr/>
          </p:nvSpPr>
          <p:spPr>
            <a:xfrm flipV="1">
              <a:off x="4335480" y="4740120"/>
              <a:ext cx="1800" cy="1000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27"/>
            <p:cNvSpPr/>
            <p:nvPr/>
          </p:nvSpPr>
          <p:spPr>
            <a:xfrm>
              <a:off x="6477840" y="1704600"/>
              <a:ext cx="1800" cy="39261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27"/>
            <p:cNvSpPr/>
            <p:nvPr/>
          </p:nvSpPr>
          <p:spPr>
            <a:xfrm>
              <a:off x="4571640" y="1857240"/>
              <a:ext cx="180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27"/>
            <p:cNvSpPr/>
            <p:nvPr/>
          </p:nvSpPr>
          <p:spPr>
            <a:xfrm>
              <a:off x="2575080" y="1904760"/>
              <a:ext cx="1440" cy="39258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27"/>
            <p:cNvSpPr/>
            <p:nvPr/>
          </p:nvSpPr>
          <p:spPr>
            <a:xfrm flipH="1">
              <a:off x="2211480" y="1750680"/>
              <a:ext cx="467604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9" name="Group 65"/>
            <p:cNvGrpSpPr/>
            <p:nvPr/>
          </p:nvGrpSpPr>
          <p:grpSpPr>
            <a:xfrm>
              <a:off x="1848600" y="1155600"/>
              <a:ext cx="1503000" cy="1139760"/>
              <a:chOff x="1848600" y="1155600"/>
              <a:chExt cx="1503000" cy="1139760"/>
            </a:xfrm>
          </p:grpSpPr>
          <p:grpSp>
            <p:nvGrpSpPr>
              <p:cNvPr id="160" name="Group 66"/>
              <p:cNvGrpSpPr/>
              <p:nvPr/>
            </p:nvGrpSpPr>
            <p:grpSpPr>
              <a:xfrm>
                <a:off x="1848600" y="1155600"/>
                <a:ext cx="1475640" cy="1139760"/>
                <a:chOff x="1848600" y="1155600"/>
                <a:chExt cx="1475640" cy="1139760"/>
              </a:xfrm>
            </p:grpSpPr>
            <p:grpSp>
              <p:nvGrpSpPr>
                <p:cNvPr id="161" name="Group 67"/>
                <p:cNvGrpSpPr/>
                <p:nvPr/>
              </p:nvGrpSpPr>
              <p:grpSpPr>
                <a:xfrm>
                  <a:off x="1909800" y="1155600"/>
                  <a:ext cx="1372320" cy="1139760"/>
                  <a:chOff x="1909800" y="1155600"/>
                  <a:chExt cx="1372320" cy="1139760"/>
                </a:xfrm>
              </p:grpSpPr>
              <p:sp>
                <p:nvSpPr>
                  <p:cNvPr id="162" name="Freeform 68"/>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69"/>
                  <p:cNvSpPr/>
                  <p:nvPr/>
                </p:nvSpPr>
                <p:spPr>
                  <a:xfrm>
                    <a:off x="1909800" y="1155600"/>
                    <a:ext cx="1372320" cy="1139760"/>
                  </a:xfrm>
                  <a:custGeom>
                    <a:avLst/>
                    <a:gdLst>
                      <a:gd name="textAreaLeft" fmla="*/ 0 w 1372320"/>
                      <a:gd name="textAreaRight" fmla="*/ 1372680 w 137232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6"/>
                        </a:lnTo>
                        <a:lnTo>
                          <a:pt x="2371" y="3735"/>
                        </a:lnTo>
                        <a:lnTo>
                          <a:pt x="2461" y="3709"/>
                        </a:lnTo>
                        <a:lnTo>
                          <a:pt x="2548" y="3680"/>
                        </a:lnTo>
                        <a:lnTo>
                          <a:pt x="2634" y="3646"/>
                        </a:lnTo>
                        <a:lnTo>
                          <a:pt x="2718" y="3608"/>
                        </a:lnTo>
                        <a:lnTo>
                          <a:pt x="2800" y="3565"/>
                        </a:lnTo>
                        <a:lnTo>
                          <a:pt x="2880" y="3520"/>
                        </a:lnTo>
                        <a:lnTo>
                          <a:pt x="2957" y="3471"/>
                        </a:lnTo>
                        <a:lnTo>
                          <a:pt x="3031" y="3417"/>
                        </a:lnTo>
                        <a:lnTo>
                          <a:pt x="3103" y="3360"/>
                        </a:lnTo>
                        <a:lnTo>
                          <a:pt x="3172" y="3302"/>
                        </a:lnTo>
                        <a:lnTo>
                          <a:pt x="3238" y="3238"/>
                        </a:lnTo>
                        <a:lnTo>
                          <a:pt x="3301" y="3172"/>
                        </a:lnTo>
                        <a:lnTo>
                          <a:pt x="3360" y="3103"/>
                        </a:lnTo>
                        <a:lnTo>
                          <a:pt x="3417" y="3031"/>
                        </a:lnTo>
                        <a:lnTo>
                          <a:pt x="3470" y="2957"/>
                        </a:lnTo>
                        <a:lnTo>
                          <a:pt x="3519" y="2880"/>
                        </a:lnTo>
                        <a:lnTo>
                          <a:pt x="3565" y="2801"/>
                        </a:lnTo>
                        <a:lnTo>
                          <a:pt x="3608" y="2720"/>
                        </a:lnTo>
                        <a:lnTo>
                          <a:pt x="3646" y="2635"/>
                        </a:lnTo>
                        <a:lnTo>
                          <a:pt x="3679" y="2548"/>
                        </a:lnTo>
                        <a:lnTo>
                          <a:pt x="3709"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09" y="1334"/>
                        </a:lnTo>
                        <a:lnTo>
                          <a:pt x="3679" y="1246"/>
                        </a:lnTo>
                        <a:lnTo>
                          <a:pt x="3646" y="1160"/>
                        </a:lnTo>
                        <a:lnTo>
                          <a:pt x="3608" y="1076"/>
                        </a:lnTo>
                        <a:lnTo>
                          <a:pt x="3565" y="994"/>
                        </a:lnTo>
                        <a:lnTo>
                          <a:pt x="3519" y="915"/>
                        </a:lnTo>
                        <a:lnTo>
                          <a:pt x="3470" y="838"/>
                        </a:lnTo>
                        <a:lnTo>
                          <a:pt x="3417" y="763"/>
                        </a:lnTo>
                        <a:lnTo>
                          <a:pt x="3360" y="692"/>
                        </a:lnTo>
                        <a:lnTo>
                          <a:pt x="3301" y="622"/>
                        </a:lnTo>
                        <a:lnTo>
                          <a:pt x="3238" y="557"/>
                        </a:lnTo>
                        <a:lnTo>
                          <a:pt x="3172" y="494"/>
                        </a:lnTo>
                        <a:lnTo>
                          <a:pt x="3103" y="434"/>
                        </a:lnTo>
                        <a:lnTo>
                          <a:pt x="3031" y="378"/>
                        </a:lnTo>
                        <a:lnTo>
                          <a:pt x="2957" y="325"/>
                        </a:lnTo>
                        <a:lnTo>
                          <a:pt x="2880" y="276"/>
                        </a:lnTo>
                        <a:lnTo>
                          <a:pt x="2800" y="230"/>
                        </a:lnTo>
                        <a:lnTo>
                          <a:pt x="2718" y="187"/>
                        </a:lnTo>
                        <a:lnTo>
                          <a:pt x="2634" y="149"/>
                        </a:lnTo>
                        <a:lnTo>
                          <a:pt x="2548" y="116"/>
                        </a:lnTo>
                        <a:lnTo>
                          <a:pt x="2461"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7"/>
                        </a:lnTo>
                        <a:lnTo>
                          <a:pt x="994" y="230"/>
                        </a:lnTo>
                        <a:lnTo>
                          <a:pt x="915" y="276"/>
                        </a:lnTo>
                        <a:lnTo>
                          <a:pt x="838" y="325"/>
                        </a:lnTo>
                        <a:lnTo>
                          <a:pt x="763" y="378"/>
                        </a:lnTo>
                        <a:lnTo>
                          <a:pt x="692" y="434"/>
                        </a:lnTo>
                        <a:lnTo>
                          <a:pt x="623" y="494"/>
                        </a:lnTo>
                        <a:lnTo>
                          <a:pt x="557" y="557"/>
                        </a:lnTo>
                        <a:lnTo>
                          <a:pt x="494" y="622"/>
                        </a:lnTo>
                        <a:lnTo>
                          <a:pt x="434" y="692"/>
                        </a:lnTo>
                        <a:lnTo>
                          <a:pt x="378" y="763"/>
                        </a:lnTo>
                        <a:lnTo>
                          <a:pt x="325" y="838"/>
                        </a:lnTo>
                        <a:lnTo>
                          <a:pt x="276" y="915"/>
                        </a:lnTo>
                        <a:lnTo>
                          <a:pt x="230" y="994"/>
                        </a:lnTo>
                        <a:lnTo>
                          <a:pt x="188" y="1076"/>
                        </a:lnTo>
                        <a:lnTo>
                          <a:pt x="150" y="1160"/>
                        </a:lnTo>
                        <a:lnTo>
                          <a:pt x="116"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6" y="2548"/>
                        </a:lnTo>
                        <a:lnTo>
                          <a:pt x="150" y="2635"/>
                        </a:lnTo>
                        <a:lnTo>
                          <a:pt x="188" y="2720"/>
                        </a:lnTo>
                        <a:lnTo>
                          <a:pt x="230" y="2801"/>
                        </a:lnTo>
                        <a:lnTo>
                          <a:pt x="276" y="2880"/>
                        </a:lnTo>
                        <a:lnTo>
                          <a:pt x="325" y="2957"/>
                        </a:lnTo>
                        <a:lnTo>
                          <a:pt x="378" y="3031"/>
                        </a:lnTo>
                        <a:lnTo>
                          <a:pt x="434" y="3103"/>
                        </a:lnTo>
                        <a:lnTo>
                          <a:pt x="494" y="3172"/>
                        </a:lnTo>
                        <a:lnTo>
                          <a:pt x="557" y="3238"/>
                        </a:lnTo>
                        <a:lnTo>
                          <a:pt x="623" y="3302"/>
                        </a:lnTo>
                        <a:lnTo>
                          <a:pt x="692" y="3360"/>
                        </a:lnTo>
                        <a:lnTo>
                          <a:pt x="763" y="3417"/>
                        </a:lnTo>
                        <a:lnTo>
                          <a:pt x="838" y="3471"/>
                        </a:lnTo>
                        <a:lnTo>
                          <a:pt x="915" y="3520"/>
                        </a:lnTo>
                        <a:lnTo>
                          <a:pt x="994" y="3565"/>
                        </a:lnTo>
                        <a:lnTo>
                          <a:pt x="1076" y="3608"/>
                        </a:lnTo>
                        <a:lnTo>
                          <a:pt x="1160" y="3646"/>
                        </a:lnTo>
                        <a:lnTo>
                          <a:pt x="1246" y="3680"/>
                        </a:lnTo>
                        <a:lnTo>
                          <a:pt x="1334" y="3709"/>
                        </a:lnTo>
                        <a:lnTo>
                          <a:pt x="1425" y="3735"/>
                        </a:lnTo>
                        <a:lnTo>
                          <a:pt x="1516" y="3756"/>
                        </a:lnTo>
                        <a:lnTo>
                          <a:pt x="1609" y="3774"/>
                        </a:lnTo>
                        <a:lnTo>
                          <a:pt x="1704" y="3786"/>
                        </a:lnTo>
                        <a:lnTo>
                          <a:pt x="1800" y="3793"/>
                        </a:lnTo>
                        <a:lnTo>
                          <a:pt x="1898" y="3795"/>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4" name="Text Box 70"/>
                <p:cNvSpPr/>
                <p:nvPr/>
              </p:nvSpPr>
              <p:spPr>
                <a:xfrm>
                  <a:off x="1848600" y="1418400"/>
                  <a:ext cx="1475640" cy="36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1"/>
              <p:cNvSpPr/>
              <p:nvPr/>
            </p:nvSpPr>
            <p:spPr>
              <a:xfrm>
                <a:off x="1875600" y="1628640"/>
                <a:ext cx="147600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рганизация</a:t>
                </a:r>
                <a:endParaRPr b="0" lang="en-US" sz="1200" spc="-1" strike="noStrike">
                  <a:solidFill>
                    <a:srgbClr val="000000"/>
                  </a:solidFill>
                  <a:latin typeface="Arial"/>
                </a:endParaRPr>
              </a:p>
            </p:txBody>
          </p:sp>
        </p:grpSp>
        <p:grpSp>
          <p:nvGrpSpPr>
            <p:cNvPr id="166" name="Group 72"/>
            <p:cNvGrpSpPr/>
            <p:nvPr/>
          </p:nvGrpSpPr>
          <p:grpSpPr>
            <a:xfrm>
              <a:off x="3821400" y="1155600"/>
              <a:ext cx="1476360" cy="1139760"/>
              <a:chOff x="3821400" y="1155600"/>
              <a:chExt cx="1476360" cy="1139760"/>
            </a:xfrm>
          </p:grpSpPr>
          <p:sp>
            <p:nvSpPr>
              <p:cNvPr id="167" name="Freeform 73"/>
              <p:cNvSpPr/>
              <p:nvPr/>
            </p:nvSpPr>
            <p:spPr>
              <a:xfrm>
                <a:off x="3870000" y="1155600"/>
                <a:ext cx="1373400" cy="1139760"/>
              </a:xfrm>
              <a:custGeom>
                <a:avLst/>
                <a:gdLst>
                  <a:gd name="textAreaLeft" fmla="*/ 0 w 1373400"/>
                  <a:gd name="textAreaRight" fmla="*/ 1373760 w 1373400"/>
                  <a:gd name="textAreaTop" fmla="*/ 0 h 1139760"/>
                  <a:gd name="textAreaBottom" fmla="*/ 1140120 h 1139760"/>
                </a:gdLst>
                <a:ahLst/>
                <a:rect l="textAreaLeft" t="textAreaTop" r="textAreaRight" b="textAreaBottom"/>
                <a:pathLst>
                  <a:path w="3795" h="3795">
                    <a:moveTo>
                      <a:pt x="1897" y="3795"/>
                    </a:moveTo>
                    <a:lnTo>
                      <a:pt x="1994" y="3793"/>
                    </a:lnTo>
                    <a:lnTo>
                      <a:pt x="2090" y="3786"/>
                    </a:lnTo>
                    <a:lnTo>
                      <a:pt x="2185" y="3774"/>
                    </a:lnTo>
                    <a:lnTo>
                      <a:pt x="2279" y="3756"/>
                    </a:lnTo>
                    <a:lnTo>
                      <a:pt x="2370" y="3735"/>
                    </a:lnTo>
                    <a:lnTo>
                      <a:pt x="2460" y="3709"/>
                    </a:lnTo>
                    <a:lnTo>
                      <a:pt x="2548" y="3680"/>
                    </a:lnTo>
                    <a:lnTo>
                      <a:pt x="2634" y="3646"/>
                    </a:lnTo>
                    <a:lnTo>
                      <a:pt x="2718" y="3608"/>
                    </a:lnTo>
                    <a:lnTo>
                      <a:pt x="2800" y="3565"/>
                    </a:lnTo>
                    <a:lnTo>
                      <a:pt x="2879" y="3520"/>
                    </a:lnTo>
                    <a:lnTo>
                      <a:pt x="2956" y="3471"/>
                    </a:lnTo>
                    <a:lnTo>
                      <a:pt x="3031" y="3417"/>
                    </a:lnTo>
                    <a:lnTo>
                      <a:pt x="3103" y="3360"/>
                    </a:lnTo>
                    <a:lnTo>
                      <a:pt x="3171" y="3302"/>
                    </a:lnTo>
                    <a:lnTo>
                      <a:pt x="3238" y="3238"/>
                    </a:lnTo>
                    <a:lnTo>
                      <a:pt x="3300" y="3172"/>
                    </a:lnTo>
                    <a:lnTo>
                      <a:pt x="3360" y="3103"/>
                    </a:lnTo>
                    <a:lnTo>
                      <a:pt x="3416" y="3031"/>
                    </a:lnTo>
                    <a:lnTo>
                      <a:pt x="3470" y="2957"/>
                    </a:lnTo>
                    <a:lnTo>
                      <a:pt x="3519" y="2880"/>
                    </a:lnTo>
                    <a:lnTo>
                      <a:pt x="3565" y="2801"/>
                    </a:lnTo>
                    <a:lnTo>
                      <a:pt x="3606" y="2720"/>
                    </a:lnTo>
                    <a:lnTo>
                      <a:pt x="3644" y="2635"/>
                    </a:lnTo>
                    <a:lnTo>
                      <a:pt x="3679" y="2548"/>
                    </a:lnTo>
                    <a:lnTo>
                      <a:pt x="3708" y="2461"/>
                    </a:lnTo>
                    <a:lnTo>
                      <a:pt x="3735" y="2371"/>
                    </a:lnTo>
                    <a:lnTo>
                      <a:pt x="3755" y="2279"/>
                    </a:lnTo>
                    <a:lnTo>
                      <a:pt x="3772" y="2185"/>
                    </a:lnTo>
                    <a:lnTo>
                      <a:pt x="3785" y="2091"/>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5"/>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6"/>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6"/>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5"/>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1"/>
                    </a:lnTo>
                    <a:lnTo>
                      <a:pt x="22" y="2185"/>
                    </a:lnTo>
                    <a:lnTo>
                      <a:pt x="38" y="2279"/>
                    </a:lnTo>
                    <a:lnTo>
                      <a:pt x="60" y="2371"/>
                    </a:lnTo>
                    <a:lnTo>
                      <a:pt x="85" y="2461"/>
                    </a:lnTo>
                    <a:lnTo>
                      <a:pt x="115" y="2548"/>
                    </a:lnTo>
                    <a:lnTo>
                      <a:pt x="149" y="2635"/>
                    </a:lnTo>
                    <a:lnTo>
                      <a:pt x="187" y="2720"/>
                    </a:lnTo>
                    <a:lnTo>
                      <a:pt x="229" y="2801"/>
                    </a:lnTo>
                    <a:lnTo>
                      <a:pt x="274" y="2880"/>
                    </a:lnTo>
                    <a:lnTo>
                      <a:pt x="325" y="2957"/>
                    </a:lnTo>
                    <a:lnTo>
                      <a:pt x="377" y="3031"/>
                    </a:lnTo>
                    <a:lnTo>
                      <a:pt x="434" y="3103"/>
                    </a:lnTo>
                    <a:lnTo>
                      <a:pt x="494" y="3172"/>
                    </a:lnTo>
                    <a:lnTo>
                      <a:pt x="557" y="3238"/>
                    </a:lnTo>
                    <a:lnTo>
                      <a:pt x="622" y="3302"/>
                    </a:lnTo>
                    <a:lnTo>
                      <a:pt x="691" y="3360"/>
                    </a:lnTo>
                    <a:lnTo>
                      <a:pt x="763" y="3417"/>
                    </a:lnTo>
                    <a:lnTo>
                      <a:pt x="837" y="3471"/>
                    </a:lnTo>
                    <a:lnTo>
                      <a:pt x="914" y="3520"/>
                    </a:lnTo>
                    <a:lnTo>
                      <a:pt x="994" y="3565"/>
                    </a:lnTo>
                    <a:lnTo>
                      <a:pt x="1075" y="3608"/>
                    </a:lnTo>
                    <a:lnTo>
                      <a:pt x="1159" y="3646"/>
                    </a:lnTo>
                    <a:lnTo>
                      <a:pt x="1245" y="3680"/>
                    </a:lnTo>
                    <a:lnTo>
                      <a:pt x="1334" y="3709"/>
                    </a:lnTo>
                    <a:lnTo>
                      <a:pt x="1423" y="3735"/>
                    </a:lnTo>
                    <a:lnTo>
                      <a:pt x="1516" y="3756"/>
                    </a:lnTo>
                    <a:lnTo>
                      <a:pt x="1608" y="3774"/>
                    </a:lnTo>
                    <a:lnTo>
                      <a:pt x="1703" y="3786"/>
                    </a:lnTo>
                    <a:lnTo>
                      <a:pt x="1799" y="3793"/>
                    </a:lnTo>
                    <a:lnTo>
                      <a:pt x="1897" y="3795"/>
                    </a:lnTo>
                    <a:close/>
                  </a:path>
                </a:pathLst>
              </a:custGeom>
              <a:solidFill>
                <a:srgbClr val="00007d"/>
              </a:solidFill>
              <a:ln w="9360">
                <a:solidFill>
                  <a:srgbClr val="000099"/>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Text Box 74"/>
              <p:cNvSpPr/>
              <p:nvPr/>
            </p:nvSpPr>
            <p:spPr>
              <a:xfrm>
                <a:off x="3821400" y="162864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ерсонал</a:t>
                </a:r>
                <a:endParaRPr b="0" lang="en-US" sz="1200" spc="-1" strike="noStrike">
                  <a:solidFill>
                    <a:srgbClr val="000000"/>
                  </a:solidFill>
                  <a:latin typeface="Arial"/>
                </a:endParaRPr>
              </a:p>
            </p:txBody>
          </p:sp>
        </p:grpSp>
        <p:grpSp>
          <p:nvGrpSpPr>
            <p:cNvPr id="169" name="Group 75"/>
            <p:cNvGrpSpPr/>
            <p:nvPr/>
          </p:nvGrpSpPr>
          <p:grpSpPr>
            <a:xfrm>
              <a:off x="5727600" y="1155600"/>
              <a:ext cx="1476360" cy="1139760"/>
              <a:chOff x="5727600" y="1155600"/>
              <a:chExt cx="1476360" cy="1139760"/>
            </a:xfrm>
          </p:grpSpPr>
          <p:grpSp>
            <p:nvGrpSpPr>
              <p:cNvPr id="170" name="Group 76"/>
              <p:cNvGrpSpPr/>
              <p:nvPr/>
            </p:nvGrpSpPr>
            <p:grpSpPr>
              <a:xfrm>
                <a:off x="5781600" y="1155600"/>
                <a:ext cx="1373040" cy="1139760"/>
                <a:chOff x="5781600" y="1155600"/>
                <a:chExt cx="1373040" cy="1139760"/>
              </a:xfrm>
            </p:grpSpPr>
            <p:sp>
              <p:nvSpPr>
                <p:cNvPr id="171" name="Freeform 77"/>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78"/>
                <p:cNvSpPr/>
                <p:nvPr/>
              </p:nvSpPr>
              <p:spPr>
                <a:xfrm>
                  <a:off x="5781600" y="1155600"/>
                  <a:ext cx="1373040" cy="1139760"/>
                </a:xfrm>
                <a:custGeom>
                  <a:avLst/>
                  <a:gdLst>
                    <a:gd name="textAreaLeft" fmla="*/ 0 w 1373040"/>
                    <a:gd name="textAreaRight" fmla="*/ 1373400 w 137304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6"/>
                      </a:lnTo>
                      <a:lnTo>
                        <a:pt x="2371" y="3735"/>
                      </a:lnTo>
                      <a:lnTo>
                        <a:pt x="2461" y="3709"/>
                      </a:lnTo>
                      <a:lnTo>
                        <a:pt x="2549" y="3680"/>
                      </a:lnTo>
                      <a:lnTo>
                        <a:pt x="2635" y="3646"/>
                      </a:lnTo>
                      <a:lnTo>
                        <a:pt x="2719" y="3608"/>
                      </a:lnTo>
                      <a:lnTo>
                        <a:pt x="2801" y="3565"/>
                      </a:lnTo>
                      <a:lnTo>
                        <a:pt x="2880" y="3520"/>
                      </a:lnTo>
                      <a:lnTo>
                        <a:pt x="2958" y="3471"/>
                      </a:lnTo>
                      <a:lnTo>
                        <a:pt x="3032" y="3417"/>
                      </a:lnTo>
                      <a:lnTo>
                        <a:pt x="3104" y="3360"/>
                      </a:lnTo>
                      <a:lnTo>
                        <a:pt x="3172" y="3302"/>
                      </a:lnTo>
                      <a:lnTo>
                        <a:pt x="3238" y="3238"/>
                      </a:lnTo>
                      <a:lnTo>
                        <a:pt x="3301" y="3172"/>
                      </a:lnTo>
                      <a:lnTo>
                        <a:pt x="3361" y="3103"/>
                      </a:lnTo>
                      <a:lnTo>
                        <a:pt x="3418" y="3031"/>
                      </a:lnTo>
                      <a:lnTo>
                        <a:pt x="3470" y="2957"/>
                      </a:lnTo>
                      <a:lnTo>
                        <a:pt x="3520" y="2880"/>
                      </a:lnTo>
                      <a:lnTo>
                        <a:pt x="3566" y="2801"/>
                      </a:lnTo>
                      <a:lnTo>
                        <a:pt x="3607" y="2720"/>
                      </a:lnTo>
                      <a:lnTo>
                        <a:pt x="3645" y="2635"/>
                      </a:lnTo>
                      <a:lnTo>
                        <a:pt x="3679" y="2548"/>
                      </a:lnTo>
                      <a:lnTo>
                        <a:pt x="3710" y="2461"/>
                      </a:lnTo>
                      <a:lnTo>
                        <a:pt x="3735" y="2371"/>
                      </a:lnTo>
                      <a:lnTo>
                        <a:pt x="3756" y="2279"/>
                      </a:lnTo>
                      <a:lnTo>
                        <a:pt x="3773" y="2185"/>
                      </a:lnTo>
                      <a:lnTo>
                        <a:pt x="3785" y="2091"/>
                      </a:lnTo>
                      <a:lnTo>
                        <a:pt x="3792" y="1995"/>
                      </a:lnTo>
                      <a:lnTo>
                        <a:pt x="3795" y="1898"/>
                      </a:lnTo>
                      <a:lnTo>
                        <a:pt x="3792" y="1801"/>
                      </a:lnTo>
                      <a:lnTo>
                        <a:pt x="3785" y="1704"/>
                      </a:lnTo>
                      <a:lnTo>
                        <a:pt x="3773" y="1609"/>
                      </a:lnTo>
                      <a:lnTo>
                        <a:pt x="3756" y="1516"/>
                      </a:lnTo>
                      <a:lnTo>
                        <a:pt x="3735" y="1425"/>
                      </a:lnTo>
                      <a:lnTo>
                        <a:pt x="3710" y="1334"/>
                      </a:lnTo>
                      <a:lnTo>
                        <a:pt x="3679" y="1246"/>
                      </a:lnTo>
                      <a:lnTo>
                        <a:pt x="3645" y="1160"/>
                      </a:lnTo>
                      <a:lnTo>
                        <a:pt x="3607" y="1076"/>
                      </a:lnTo>
                      <a:lnTo>
                        <a:pt x="3566" y="994"/>
                      </a:lnTo>
                      <a:lnTo>
                        <a:pt x="3520" y="915"/>
                      </a:lnTo>
                      <a:lnTo>
                        <a:pt x="3470" y="838"/>
                      </a:lnTo>
                      <a:lnTo>
                        <a:pt x="3418" y="763"/>
                      </a:lnTo>
                      <a:lnTo>
                        <a:pt x="3361" y="692"/>
                      </a:lnTo>
                      <a:lnTo>
                        <a:pt x="3301" y="622"/>
                      </a:lnTo>
                      <a:lnTo>
                        <a:pt x="3238" y="557"/>
                      </a:lnTo>
                      <a:lnTo>
                        <a:pt x="3172" y="494"/>
                      </a:lnTo>
                      <a:lnTo>
                        <a:pt x="3104" y="434"/>
                      </a:lnTo>
                      <a:lnTo>
                        <a:pt x="3032" y="378"/>
                      </a:lnTo>
                      <a:lnTo>
                        <a:pt x="2958" y="325"/>
                      </a:lnTo>
                      <a:lnTo>
                        <a:pt x="2880" y="276"/>
                      </a:lnTo>
                      <a:lnTo>
                        <a:pt x="2801" y="230"/>
                      </a:lnTo>
                      <a:lnTo>
                        <a:pt x="2719" y="187"/>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7"/>
                      </a:lnTo>
                      <a:lnTo>
                        <a:pt x="995" y="230"/>
                      </a:lnTo>
                      <a:lnTo>
                        <a:pt x="915" y="276"/>
                      </a:lnTo>
                      <a:lnTo>
                        <a:pt x="838" y="325"/>
                      </a:lnTo>
                      <a:lnTo>
                        <a:pt x="764" y="378"/>
                      </a:lnTo>
                      <a:lnTo>
                        <a:pt x="692" y="434"/>
                      </a:lnTo>
                      <a:lnTo>
                        <a:pt x="623" y="494"/>
                      </a:lnTo>
                      <a:lnTo>
                        <a:pt x="557" y="557"/>
                      </a:lnTo>
                      <a:lnTo>
                        <a:pt x="495" y="622"/>
                      </a:lnTo>
                      <a:lnTo>
                        <a:pt x="435" y="692"/>
                      </a:lnTo>
                      <a:lnTo>
                        <a:pt x="378" y="763"/>
                      </a:lnTo>
                      <a:lnTo>
                        <a:pt x="325" y="838"/>
                      </a:lnTo>
                      <a:lnTo>
                        <a:pt x="276" y="915"/>
                      </a:lnTo>
                      <a:lnTo>
                        <a:pt x="230" y="994"/>
                      </a:lnTo>
                      <a:lnTo>
                        <a:pt x="187" y="1076"/>
                      </a:lnTo>
                      <a:lnTo>
                        <a:pt x="150" y="1160"/>
                      </a:lnTo>
                      <a:lnTo>
                        <a:pt x="115" y="1246"/>
                      </a:lnTo>
                      <a:lnTo>
                        <a:pt x="86" y="1334"/>
                      </a:lnTo>
                      <a:lnTo>
                        <a:pt x="60" y="1425"/>
                      </a:lnTo>
                      <a:lnTo>
                        <a:pt x="39" y="1516"/>
                      </a:lnTo>
                      <a:lnTo>
                        <a:pt x="23" y="1609"/>
                      </a:lnTo>
                      <a:lnTo>
                        <a:pt x="10" y="1704"/>
                      </a:lnTo>
                      <a:lnTo>
                        <a:pt x="3" y="1801"/>
                      </a:lnTo>
                      <a:lnTo>
                        <a:pt x="0" y="1898"/>
                      </a:lnTo>
                      <a:lnTo>
                        <a:pt x="3" y="1995"/>
                      </a:lnTo>
                      <a:lnTo>
                        <a:pt x="10" y="2091"/>
                      </a:lnTo>
                      <a:lnTo>
                        <a:pt x="23" y="2185"/>
                      </a:lnTo>
                      <a:lnTo>
                        <a:pt x="39" y="2279"/>
                      </a:lnTo>
                      <a:lnTo>
                        <a:pt x="60" y="2371"/>
                      </a:lnTo>
                      <a:lnTo>
                        <a:pt x="86" y="2461"/>
                      </a:lnTo>
                      <a:lnTo>
                        <a:pt x="115" y="2548"/>
                      </a:lnTo>
                      <a:lnTo>
                        <a:pt x="150" y="2635"/>
                      </a:lnTo>
                      <a:lnTo>
                        <a:pt x="187" y="2720"/>
                      </a:lnTo>
                      <a:lnTo>
                        <a:pt x="230" y="2801"/>
                      </a:lnTo>
                      <a:lnTo>
                        <a:pt x="276" y="2880"/>
                      </a:lnTo>
                      <a:lnTo>
                        <a:pt x="325" y="2957"/>
                      </a:lnTo>
                      <a:lnTo>
                        <a:pt x="378" y="3031"/>
                      </a:lnTo>
                      <a:lnTo>
                        <a:pt x="435" y="3103"/>
                      </a:lnTo>
                      <a:lnTo>
                        <a:pt x="495" y="3172"/>
                      </a:lnTo>
                      <a:lnTo>
                        <a:pt x="557" y="3238"/>
                      </a:lnTo>
                      <a:lnTo>
                        <a:pt x="623" y="3302"/>
                      </a:lnTo>
                      <a:lnTo>
                        <a:pt x="692" y="3360"/>
                      </a:lnTo>
                      <a:lnTo>
                        <a:pt x="764" y="3417"/>
                      </a:lnTo>
                      <a:lnTo>
                        <a:pt x="838" y="3471"/>
                      </a:lnTo>
                      <a:lnTo>
                        <a:pt x="915" y="3520"/>
                      </a:lnTo>
                      <a:lnTo>
                        <a:pt x="995" y="3565"/>
                      </a:lnTo>
                      <a:lnTo>
                        <a:pt x="1077" y="3608"/>
                      </a:lnTo>
                      <a:lnTo>
                        <a:pt x="1161" y="3646"/>
                      </a:lnTo>
                      <a:lnTo>
                        <a:pt x="1247" y="3680"/>
                      </a:lnTo>
                      <a:lnTo>
                        <a:pt x="1335" y="3709"/>
                      </a:lnTo>
                      <a:lnTo>
                        <a:pt x="1424" y="3735"/>
                      </a:lnTo>
                      <a:lnTo>
                        <a:pt x="1516" y="3756"/>
                      </a:lnTo>
                      <a:lnTo>
                        <a:pt x="1610" y="3774"/>
                      </a:lnTo>
                      <a:lnTo>
                        <a:pt x="1704" y="3786"/>
                      </a:lnTo>
                      <a:lnTo>
                        <a:pt x="1800" y="3793"/>
                      </a:lnTo>
                      <a:lnTo>
                        <a:pt x="1897" y="3795"/>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 name="Text Box 79"/>
              <p:cNvSpPr/>
              <p:nvPr/>
            </p:nvSpPr>
            <p:spPr>
              <a:xfrm>
                <a:off x="5727600" y="1629360"/>
                <a:ext cx="147636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орудование</a:t>
                </a:r>
                <a:endParaRPr b="0" lang="en-US" sz="1200" spc="-1" strike="noStrike">
                  <a:solidFill>
                    <a:srgbClr val="000000"/>
                  </a:solidFill>
                  <a:latin typeface="Arial"/>
                </a:endParaRPr>
              </a:p>
            </p:txBody>
          </p:sp>
        </p:grpSp>
        <p:sp>
          <p:nvSpPr>
            <p:cNvPr id="174" name="Line 27"/>
            <p:cNvSpPr/>
            <p:nvPr/>
          </p:nvSpPr>
          <p:spPr>
            <a:xfrm flipH="1">
              <a:off x="2302560" y="30463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Group 130"/>
            <p:cNvGrpSpPr/>
            <p:nvPr/>
          </p:nvGrpSpPr>
          <p:grpSpPr>
            <a:xfrm>
              <a:off x="1848600" y="2438280"/>
              <a:ext cx="1382040" cy="1139760"/>
              <a:chOff x="1848600" y="2438280"/>
              <a:chExt cx="1382040" cy="1139760"/>
            </a:xfrm>
          </p:grpSpPr>
          <p:sp>
            <p:nvSpPr>
              <p:cNvPr id="176" name="Freeform 46"/>
              <p:cNvSpPr/>
              <p:nvPr/>
            </p:nvSpPr>
            <p:spPr>
              <a:xfrm>
                <a:off x="1854000" y="2438280"/>
                <a:ext cx="1376640" cy="1139760"/>
              </a:xfrm>
              <a:custGeom>
                <a:avLst/>
                <a:gdLst>
                  <a:gd name="textAreaLeft" fmla="*/ 0 w 1376640"/>
                  <a:gd name="textAreaRight" fmla="*/ 1377000 w 1376640"/>
                  <a:gd name="textAreaTop" fmla="*/ 0 h 1139760"/>
                  <a:gd name="textAreaBottom" fmla="*/ 1140120 h 1139760"/>
                </a:gdLst>
                <a:ahLst/>
                <a:rect l="textAreaLeft" t="textAreaTop" r="textAreaRight" b="textAreaBottom"/>
                <a:pathLst>
                  <a:path w="3795" h="3795">
                    <a:moveTo>
                      <a:pt x="1898" y="3795"/>
                    </a:moveTo>
                    <a:lnTo>
                      <a:pt x="1995" y="3792"/>
                    </a:lnTo>
                    <a:lnTo>
                      <a:pt x="2091" y="3786"/>
                    </a:lnTo>
                    <a:lnTo>
                      <a:pt x="2185" y="3774"/>
                    </a:lnTo>
                    <a:lnTo>
                      <a:pt x="2279" y="3756"/>
                    </a:lnTo>
                    <a:lnTo>
                      <a:pt x="2371" y="3736"/>
                    </a:lnTo>
                    <a:lnTo>
                      <a:pt x="2460" y="3709"/>
                    </a:lnTo>
                    <a:lnTo>
                      <a:pt x="2548" y="3680"/>
                    </a:lnTo>
                    <a:lnTo>
                      <a:pt x="2634" y="3645"/>
                    </a:lnTo>
                    <a:lnTo>
                      <a:pt x="2718" y="3608"/>
                    </a:lnTo>
                    <a:lnTo>
                      <a:pt x="2800" y="3566"/>
                    </a:lnTo>
                    <a:lnTo>
                      <a:pt x="2880" y="3520"/>
                    </a:lnTo>
                    <a:lnTo>
                      <a:pt x="2957" y="3471"/>
                    </a:lnTo>
                    <a:lnTo>
                      <a:pt x="3031" y="3417"/>
                    </a:lnTo>
                    <a:lnTo>
                      <a:pt x="3103" y="3361"/>
                    </a:lnTo>
                    <a:lnTo>
                      <a:pt x="3172" y="3301"/>
                    </a:lnTo>
                    <a:lnTo>
                      <a:pt x="3238" y="3239"/>
                    </a:lnTo>
                    <a:lnTo>
                      <a:pt x="3300" y="3172"/>
                    </a:lnTo>
                    <a:lnTo>
                      <a:pt x="3360" y="3103"/>
                    </a:lnTo>
                    <a:lnTo>
                      <a:pt x="3417" y="3031"/>
                    </a:lnTo>
                    <a:lnTo>
                      <a:pt x="3470" y="2957"/>
                    </a:lnTo>
                    <a:lnTo>
                      <a:pt x="3519" y="2880"/>
                    </a:lnTo>
                    <a:lnTo>
                      <a:pt x="3565" y="2800"/>
                    </a:lnTo>
                    <a:lnTo>
                      <a:pt x="3608" y="2719"/>
                    </a:lnTo>
                    <a:lnTo>
                      <a:pt x="3646" y="2635"/>
                    </a:lnTo>
                    <a:lnTo>
                      <a:pt x="3680" y="2549"/>
                    </a:lnTo>
                    <a:lnTo>
                      <a:pt x="3709"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09" y="1334"/>
                    </a:lnTo>
                    <a:lnTo>
                      <a:pt x="3680" y="1246"/>
                    </a:lnTo>
                    <a:lnTo>
                      <a:pt x="3646" y="1160"/>
                    </a:lnTo>
                    <a:lnTo>
                      <a:pt x="3608" y="1076"/>
                    </a:lnTo>
                    <a:lnTo>
                      <a:pt x="3565" y="994"/>
                    </a:lnTo>
                    <a:lnTo>
                      <a:pt x="3519" y="915"/>
                    </a:lnTo>
                    <a:lnTo>
                      <a:pt x="3470" y="837"/>
                    </a:lnTo>
                    <a:lnTo>
                      <a:pt x="3417" y="763"/>
                    </a:lnTo>
                    <a:lnTo>
                      <a:pt x="3360" y="691"/>
                    </a:lnTo>
                    <a:lnTo>
                      <a:pt x="3300" y="623"/>
                    </a:lnTo>
                    <a:lnTo>
                      <a:pt x="3238" y="557"/>
                    </a:lnTo>
                    <a:lnTo>
                      <a:pt x="3172" y="494"/>
                    </a:lnTo>
                    <a:lnTo>
                      <a:pt x="3103" y="434"/>
                    </a:lnTo>
                    <a:lnTo>
                      <a:pt x="3031" y="377"/>
                    </a:lnTo>
                    <a:lnTo>
                      <a:pt x="2957" y="325"/>
                    </a:lnTo>
                    <a:lnTo>
                      <a:pt x="2880" y="275"/>
                    </a:lnTo>
                    <a:lnTo>
                      <a:pt x="2800" y="229"/>
                    </a:lnTo>
                    <a:lnTo>
                      <a:pt x="2718" y="188"/>
                    </a:lnTo>
                    <a:lnTo>
                      <a:pt x="2634" y="149"/>
                    </a:lnTo>
                    <a:lnTo>
                      <a:pt x="2548" y="116"/>
                    </a:lnTo>
                    <a:lnTo>
                      <a:pt x="2460" y="85"/>
                    </a:lnTo>
                    <a:lnTo>
                      <a:pt x="2371" y="60"/>
                    </a:lnTo>
                    <a:lnTo>
                      <a:pt x="2279" y="38"/>
                    </a:lnTo>
                    <a:lnTo>
                      <a:pt x="2185" y="22"/>
                    </a:lnTo>
                    <a:lnTo>
                      <a:pt x="2091" y="10"/>
                    </a:lnTo>
                    <a:lnTo>
                      <a:pt x="1995" y="2"/>
                    </a:lnTo>
                    <a:lnTo>
                      <a:pt x="1898" y="0"/>
                    </a:lnTo>
                    <a:lnTo>
                      <a:pt x="1800" y="2"/>
                    </a:lnTo>
                    <a:lnTo>
                      <a:pt x="1704" y="10"/>
                    </a:lnTo>
                    <a:lnTo>
                      <a:pt x="1609" y="22"/>
                    </a:lnTo>
                    <a:lnTo>
                      <a:pt x="1516" y="38"/>
                    </a:lnTo>
                    <a:lnTo>
                      <a:pt x="1425" y="60"/>
                    </a:lnTo>
                    <a:lnTo>
                      <a:pt x="1334" y="85"/>
                    </a:lnTo>
                    <a:lnTo>
                      <a:pt x="1246" y="116"/>
                    </a:lnTo>
                    <a:lnTo>
                      <a:pt x="1160" y="149"/>
                    </a:lnTo>
                    <a:lnTo>
                      <a:pt x="1076" y="188"/>
                    </a:lnTo>
                    <a:lnTo>
                      <a:pt x="994" y="229"/>
                    </a:lnTo>
                    <a:lnTo>
                      <a:pt x="915" y="275"/>
                    </a:lnTo>
                    <a:lnTo>
                      <a:pt x="838" y="325"/>
                    </a:lnTo>
                    <a:lnTo>
                      <a:pt x="763" y="377"/>
                    </a:lnTo>
                    <a:lnTo>
                      <a:pt x="691" y="434"/>
                    </a:lnTo>
                    <a:lnTo>
                      <a:pt x="623" y="494"/>
                    </a:lnTo>
                    <a:lnTo>
                      <a:pt x="557" y="557"/>
                    </a:lnTo>
                    <a:lnTo>
                      <a:pt x="494" y="623"/>
                    </a:lnTo>
                    <a:lnTo>
                      <a:pt x="434" y="691"/>
                    </a:lnTo>
                    <a:lnTo>
                      <a:pt x="377" y="763"/>
                    </a:lnTo>
                    <a:lnTo>
                      <a:pt x="325" y="837"/>
                    </a:lnTo>
                    <a:lnTo>
                      <a:pt x="275" y="915"/>
                    </a:lnTo>
                    <a:lnTo>
                      <a:pt x="229" y="994"/>
                    </a:lnTo>
                    <a:lnTo>
                      <a:pt x="188" y="1076"/>
                    </a:lnTo>
                    <a:lnTo>
                      <a:pt x="150" y="1160"/>
                    </a:lnTo>
                    <a:lnTo>
                      <a:pt x="116" y="1246"/>
                    </a:lnTo>
                    <a:lnTo>
                      <a:pt x="85" y="1334"/>
                    </a:lnTo>
                    <a:lnTo>
                      <a:pt x="60" y="1424"/>
                    </a:lnTo>
                    <a:lnTo>
                      <a:pt x="39" y="1516"/>
                    </a:lnTo>
                    <a:lnTo>
                      <a:pt x="22" y="1609"/>
                    </a:lnTo>
                    <a:lnTo>
                      <a:pt x="10" y="1704"/>
                    </a:lnTo>
                    <a:lnTo>
                      <a:pt x="3" y="1800"/>
                    </a:lnTo>
                    <a:lnTo>
                      <a:pt x="0" y="1898"/>
                    </a:lnTo>
                    <a:lnTo>
                      <a:pt x="3" y="1995"/>
                    </a:lnTo>
                    <a:lnTo>
                      <a:pt x="10" y="2091"/>
                    </a:lnTo>
                    <a:lnTo>
                      <a:pt x="22" y="2186"/>
                    </a:lnTo>
                    <a:lnTo>
                      <a:pt x="39" y="2279"/>
                    </a:lnTo>
                    <a:lnTo>
                      <a:pt x="60" y="2371"/>
                    </a:lnTo>
                    <a:lnTo>
                      <a:pt x="85" y="2460"/>
                    </a:lnTo>
                    <a:lnTo>
                      <a:pt x="116" y="2549"/>
                    </a:lnTo>
                    <a:lnTo>
                      <a:pt x="150" y="2635"/>
                    </a:lnTo>
                    <a:lnTo>
                      <a:pt x="188" y="2719"/>
                    </a:lnTo>
                    <a:lnTo>
                      <a:pt x="229" y="2800"/>
                    </a:lnTo>
                    <a:lnTo>
                      <a:pt x="275" y="2880"/>
                    </a:lnTo>
                    <a:lnTo>
                      <a:pt x="325" y="2957"/>
                    </a:lnTo>
                    <a:lnTo>
                      <a:pt x="377" y="3031"/>
                    </a:lnTo>
                    <a:lnTo>
                      <a:pt x="434" y="3103"/>
                    </a:lnTo>
                    <a:lnTo>
                      <a:pt x="494" y="3172"/>
                    </a:lnTo>
                    <a:lnTo>
                      <a:pt x="557" y="3239"/>
                    </a:lnTo>
                    <a:lnTo>
                      <a:pt x="623" y="3301"/>
                    </a:lnTo>
                    <a:lnTo>
                      <a:pt x="691" y="3361"/>
                    </a:lnTo>
                    <a:lnTo>
                      <a:pt x="763" y="3417"/>
                    </a:lnTo>
                    <a:lnTo>
                      <a:pt x="838" y="3471"/>
                    </a:lnTo>
                    <a:lnTo>
                      <a:pt x="915" y="3520"/>
                    </a:lnTo>
                    <a:lnTo>
                      <a:pt x="994" y="3566"/>
                    </a:lnTo>
                    <a:lnTo>
                      <a:pt x="1076" y="3608"/>
                    </a:lnTo>
                    <a:lnTo>
                      <a:pt x="1160" y="3645"/>
                    </a:lnTo>
                    <a:lnTo>
                      <a:pt x="1246" y="3680"/>
                    </a:lnTo>
                    <a:lnTo>
                      <a:pt x="1334" y="3709"/>
                    </a:lnTo>
                    <a:lnTo>
                      <a:pt x="1425" y="3736"/>
                    </a:lnTo>
                    <a:lnTo>
                      <a:pt x="1516" y="3756"/>
                    </a:lnTo>
                    <a:lnTo>
                      <a:pt x="1609" y="3774"/>
                    </a:lnTo>
                    <a:lnTo>
                      <a:pt x="1704" y="3786"/>
                    </a:lnTo>
                    <a:lnTo>
                      <a:pt x="1800" y="3792"/>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Text Box 47"/>
              <p:cNvSpPr/>
              <p:nvPr/>
            </p:nvSpPr>
            <p:spPr>
              <a:xfrm>
                <a:off x="1848600" y="2713320"/>
                <a:ext cx="138204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Закупка и</a:t>
                </a:r>
                <a:r>
                  <a:rPr b="1" lang="en-US" sz="1200" spc="-1" strike="noStrike">
                    <a:solidFill>
                      <a:srgbClr val="ffffff"/>
                    </a:solidFill>
                    <a:latin typeface="Arial"/>
                  </a:rPr>
                  <a:t> </a:t>
                </a:r>
                <a:br>
                  <a:rPr sz="1200"/>
                </a:br>
                <a:r>
                  <a:rPr b="1" lang="ru-RU" sz="1200" spc="-1" strike="noStrike">
                    <a:solidFill>
                      <a:srgbClr val="ffffff"/>
                    </a:solidFill>
                    <a:latin typeface="Arial"/>
                  </a:rPr>
                  <a:t>инвентарный учет</a:t>
                </a:r>
                <a:endParaRPr b="0" lang="en-US" sz="1200" spc="-1" strike="noStrike">
                  <a:solidFill>
                    <a:srgbClr val="000000"/>
                  </a:solidFill>
                  <a:latin typeface="Arial"/>
                </a:endParaRPr>
              </a:p>
            </p:txBody>
          </p:sp>
        </p:grpSp>
        <p:sp>
          <p:nvSpPr>
            <p:cNvPr id="178" name="Freeform 31"/>
            <p:cNvSpPr/>
            <p:nvPr/>
          </p:nvSpPr>
          <p:spPr>
            <a:xfrm>
              <a:off x="3879720" y="2498400"/>
              <a:ext cx="1373040" cy="1141560"/>
            </a:xfrm>
            <a:custGeom>
              <a:avLst/>
              <a:gdLst>
                <a:gd name="textAreaLeft" fmla="*/ 0 w 1373040"/>
                <a:gd name="textAreaRight" fmla="*/ 1373400 w 1373040"/>
                <a:gd name="textAreaTop" fmla="*/ 0 h 1141560"/>
                <a:gd name="textAreaBottom" fmla="*/ 1141920 h 1141560"/>
              </a:gdLst>
              <a:ahLst/>
              <a:rect l="textAreaLeft" t="textAreaTop" r="textAreaRight" b="textAreaBottom"/>
              <a:pathLst>
                <a:path w="3795" h="3795">
                  <a:moveTo>
                    <a:pt x="1897" y="3795"/>
                  </a:moveTo>
                  <a:lnTo>
                    <a:pt x="1994" y="3793"/>
                  </a:lnTo>
                  <a:lnTo>
                    <a:pt x="2090" y="3785"/>
                  </a:lnTo>
                  <a:lnTo>
                    <a:pt x="2185" y="3773"/>
                  </a:lnTo>
                  <a:lnTo>
                    <a:pt x="2279" y="3756"/>
                  </a:lnTo>
                  <a:lnTo>
                    <a:pt x="2370" y="3735"/>
                  </a:lnTo>
                  <a:lnTo>
                    <a:pt x="2460" y="3709"/>
                  </a:lnTo>
                  <a:lnTo>
                    <a:pt x="2548" y="3680"/>
                  </a:lnTo>
                  <a:lnTo>
                    <a:pt x="2634" y="3646"/>
                  </a:lnTo>
                  <a:lnTo>
                    <a:pt x="2718" y="3608"/>
                  </a:lnTo>
                  <a:lnTo>
                    <a:pt x="2800" y="3565"/>
                  </a:lnTo>
                  <a:lnTo>
                    <a:pt x="2879" y="3520"/>
                  </a:lnTo>
                  <a:lnTo>
                    <a:pt x="2956" y="3470"/>
                  </a:lnTo>
                  <a:lnTo>
                    <a:pt x="3031" y="3417"/>
                  </a:lnTo>
                  <a:lnTo>
                    <a:pt x="3103" y="3361"/>
                  </a:lnTo>
                  <a:lnTo>
                    <a:pt x="3171" y="3302"/>
                  </a:lnTo>
                  <a:lnTo>
                    <a:pt x="3238" y="3238"/>
                  </a:lnTo>
                  <a:lnTo>
                    <a:pt x="3300" y="3173"/>
                  </a:lnTo>
                  <a:lnTo>
                    <a:pt x="3360" y="3103"/>
                  </a:lnTo>
                  <a:lnTo>
                    <a:pt x="3416" y="3031"/>
                  </a:lnTo>
                  <a:lnTo>
                    <a:pt x="3470" y="2957"/>
                  </a:lnTo>
                  <a:lnTo>
                    <a:pt x="3519" y="2881"/>
                  </a:lnTo>
                  <a:lnTo>
                    <a:pt x="3565" y="2801"/>
                  </a:lnTo>
                  <a:lnTo>
                    <a:pt x="3606" y="2719"/>
                  </a:lnTo>
                  <a:lnTo>
                    <a:pt x="3644" y="2636"/>
                  </a:lnTo>
                  <a:lnTo>
                    <a:pt x="3679" y="2549"/>
                  </a:lnTo>
                  <a:lnTo>
                    <a:pt x="3708" y="2461"/>
                  </a:lnTo>
                  <a:lnTo>
                    <a:pt x="3735" y="2371"/>
                  </a:lnTo>
                  <a:lnTo>
                    <a:pt x="3755" y="2279"/>
                  </a:lnTo>
                  <a:lnTo>
                    <a:pt x="3772" y="2185"/>
                  </a:lnTo>
                  <a:lnTo>
                    <a:pt x="3785" y="2092"/>
                  </a:lnTo>
                  <a:lnTo>
                    <a:pt x="3791" y="1995"/>
                  </a:lnTo>
                  <a:lnTo>
                    <a:pt x="3795" y="1898"/>
                  </a:lnTo>
                  <a:lnTo>
                    <a:pt x="3791" y="1801"/>
                  </a:lnTo>
                  <a:lnTo>
                    <a:pt x="3785" y="1704"/>
                  </a:lnTo>
                  <a:lnTo>
                    <a:pt x="3772" y="1609"/>
                  </a:lnTo>
                  <a:lnTo>
                    <a:pt x="3755" y="1516"/>
                  </a:lnTo>
                  <a:lnTo>
                    <a:pt x="3735" y="1425"/>
                  </a:lnTo>
                  <a:lnTo>
                    <a:pt x="3708" y="1334"/>
                  </a:lnTo>
                  <a:lnTo>
                    <a:pt x="3679" y="1246"/>
                  </a:lnTo>
                  <a:lnTo>
                    <a:pt x="3644" y="1160"/>
                  </a:lnTo>
                  <a:lnTo>
                    <a:pt x="3606" y="1076"/>
                  </a:lnTo>
                  <a:lnTo>
                    <a:pt x="3565" y="994"/>
                  </a:lnTo>
                  <a:lnTo>
                    <a:pt x="3519" y="914"/>
                  </a:lnTo>
                  <a:lnTo>
                    <a:pt x="3470" y="838"/>
                  </a:lnTo>
                  <a:lnTo>
                    <a:pt x="3416" y="763"/>
                  </a:lnTo>
                  <a:lnTo>
                    <a:pt x="3360" y="692"/>
                  </a:lnTo>
                  <a:lnTo>
                    <a:pt x="3300" y="622"/>
                  </a:lnTo>
                  <a:lnTo>
                    <a:pt x="3238" y="557"/>
                  </a:lnTo>
                  <a:lnTo>
                    <a:pt x="3171" y="494"/>
                  </a:lnTo>
                  <a:lnTo>
                    <a:pt x="3103" y="434"/>
                  </a:lnTo>
                  <a:lnTo>
                    <a:pt x="3031" y="378"/>
                  </a:lnTo>
                  <a:lnTo>
                    <a:pt x="2956" y="325"/>
                  </a:lnTo>
                  <a:lnTo>
                    <a:pt x="2879" y="276"/>
                  </a:lnTo>
                  <a:lnTo>
                    <a:pt x="2800" y="230"/>
                  </a:lnTo>
                  <a:lnTo>
                    <a:pt x="2718" y="187"/>
                  </a:lnTo>
                  <a:lnTo>
                    <a:pt x="2634" y="149"/>
                  </a:lnTo>
                  <a:lnTo>
                    <a:pt x="2548" y="115"/>
                  </a:lnTo>
                  <a:lnTo>
                    <a:pt x="2460" y="85"/>
                  </a:lnTo>
                  <a:lnTo>
                    <a:pt x="2370" y="60"/>
                  </a:lnTo>
                  <a:lnTo>
                    <a:pt x="2279" y="38"/>
                  </a:lnTo>
                  <a:lnTo>
                    <a:pt x="2185" y="22"/>
                  </a:lnTo>
                  <a:lnTo>
                    <a:pt x="2090" y="10"/>
                  </a:lnTo>
                  <a:lnTo>
                    <a:pt x="1994" y="2"/>
                  </a:lnTo>
                  <a:lnTo>
                    <a:pt x="1897" y="0"/>
                  </a:lnTo>
                  <a:lnTo>
                    <a:pt x="1799" y="2"/>
                  </a:lnTo>
                  <a:lnTo>
                    <a:pt x="1703" y="10"/>
                  </a:lnTo>
                  <a:lnTo>
                    <a:pt x="1608" y="22"/>
                  </a:lnTo>
                  <a:lnTo>
                    <a:pt x="1516" y="38"/>
                  </a:lnTo>
                  <a:lnTo>
                    <a:pt x="1423" y="60"/>
                  </a:lnTo>
                  <a:lnTo>
                    <a:pt x="1334" y="85"/>
                  </a:lnTo>
                  <a:lnTo>
                    <a:pt x="1245" y="115"/>
                  </a:lnTo>
                  <a:lnTo>
                    <a:pt x="1159" y="149"/>
                  </a:lnTo>
                  <a:lnTo>
                    <a:pt x="1075" y="187"/>
                  </a:lnTo>
                  <a:lnTo>
                    <a:pt x="994" y="230"/>
                  </a:lnTo>
                  <a:lnTo>
                    <a:pt x="914" y="276"/>
                  </a:lnTo>
                  <a:lnTo>
                    <a:pt x="837" y="325"/>
                  </a:lnTo>
                  <a:lnTo>
                    <a:pt x="763" y="378"/>
                  </a:lnTo>
                  <a:lnTo>
                    <a:pt x="691" y="434"/>
                  </a:lnTo>
                  <a:lnTo>
                    <a:pt x="622" y="494"/>
                  </a:lnTo>
                  <a:lnTo>
                    <a:pt x="557" y="557"/>
                  </a:lnTo>
                  <a:lnTo>
                    <a:pt x="494" y="622"/>
                  </a:lnTo>
                  <a:lnTo>
                    <a:pt x="434" y="692"/>
                  </a:lnTo>
                  <a:lnTo>
                    <a:pt x="377" y="763"/>
                  </a:lnTo>
                  <a:lnTo>
                    <a:pt x="325" y="838"/>
                  </a:lnTo>
                  <a:lnTo>
                    <a:pt x="274" y="914"/>
                  </a:lnTo>
                  <a:lnTo>
                    <a:pt x="229" y="994"/>
                  </a:lnTo>
                  <a:lnTo>
                    <a:pt x="187" y="1076"/>
                  </a:lnTo>
                  <a:lnTo>
                    <a:pt x="149" y="1160"/>
                  </a:lnTo>
                  <a:lnTo>
                    <a:pt x="115" y="1246"/>
                  </a:lnTo>
                  <a:lnTo>
                    <a:pt x="85" y="1334"/>
                  </a:lnTo>
                  <a:lnTo>
                    <a:pt x="60" y="1425"/>
                  </a:lnTo>
                  <a:lnTo>
                    <a:pt x="38" y="1516"/>
                  </a:lnTo>
                  <a:lnTo>
                    <a:pt x="22" y="1609"/>
                  </a:lnTo>
                  <a:lnTo>
                    <a:pt x="10" y="1704"/>
                  </a:lnTo>
                  <a:lnTo>
                    <a:pt x="2" y="1801"/>
                  </a:lnTo>
                  <a:lnTo>
                    <a:pt x="0" y="1898"/>
                  </a:lnTo>
                  <a:lnTo>
                    <a:pt x="2" y="1995"/>
                  </a:lnTo>
                  <a:lnTo>
                    <a:pt x="10" y="2092"/>
                  </a:lnTo>
                  <a:lnTo>
                    <a:pt x="22" y="2185"/>
                  </a:lnTo>
                  <a:lnTo>
                    <a:pt x="38" y="2279"/>
                  </a:lnTo>
                  <a:lnTo>
                    <a:pt x="60" y="2371"/>
                  </a:lnTo>
                  <a:lnTo>
                    <a:pt x="85" y="2461"/>
                  </a:lnTo>
                  <a:lnTo>
                    <a:pt x="115" y="2549"/>
                  </a:lnTo>
                  <a:lnTo>
                    <a:pt x="149" y="2636"/>
                  </a:lnTo>
                  <a:lnTo>
                    <a:pt x="187" y="2719"/>
                  </a:lnTo>
                  <a:lnTo>
                    <a:pt x="229" y="2801"/>
                  </a:lnTo>
                  <a:lnTo>
                    <a:pt x="274" y="2881"/>
                  </a:lnTo>
                  <a:lnTo>
                    <a:pt x="325" y="2957"/>
                  </a:lnTo>
                  <a:lnTo>
                    <a:pt x="377" y="3031"/>
                  </a:lnTo>
                  <a:lnTo>
                    <a:pt x="434" y="3103"/>
                  </a:lnTo>
                  <a:lnTo>
                    <a:pt x="494" y="3173"/>
                  </a:lnTo>
                  <a:lnTo>
                    <a:pt x="557" y="3238"/>
                  </a:lnTo>
                  <a:lnTo>
                    <a:pt x="622" y="3302"/>
                  </a:lnTo>
                  <a:lnTo>
                    <a:pt x="691" y="3361"/>
                  </a:lnTo>
                  <a:lnTo>
                    <a:pt x="763" y="3417"/>
                  </a:lnTo>
                  <a:lnTo>
                    <a:pt x="837" y="3470"/>
                  </a:lnTo>
                  <a:lnTo>
                    <a:pt x="914" y="3520"/>
                  </a:lnTo>
                  <a:lnTo>
                    <a:pt x="994" y="3565"/>
                  </a:lnTo>
                  <a:lnTo>
                    <a:pt x="1075" y="3608"/>
                  </a:lnTo>
                  <a:lnTo>
                    <a:pt x="1159" y="3646"/>
                  </a:lnTo>
                  <a:lnTo>
                    <a:pt x="1245" y="3680"/>
                  </a:lnTo>
                  <a:lnTo>
                    <a:pt x="1334" y="3709"/>
                  </a:lnTo>
                  <a:lnTo>
                    <a:pt x="1423" y="3735"/>
                  </a:lnTo>
                  <a:lnTo>
                    <a:pt x="1516" y="3756"/>
                  </a:lnTo>
                  <a:lnTo>
                    <a:pt x="1608" y="3773"/>
                  </a:lnTo>
                  <a:lnTo>
                    <a:pt x="1703" y="3785"/>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Text Box 43"/>
            <p:cNvSpPr/>
            <p:nvPr/>
          </p:nvSpPr>
          <p:spPr>
            <a:xfrm>
              <a:off x="3885480" y="2815920"/>
              <a:ext cx="136872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Контроль процессов</a:t>
              </a:r>
              <a:endParaRPr b="0" lang="en-US" sz="1200" spc="-1" strike="noStrike">
                <a:solidFill>
                  <a:srgbClr val="000000"/>
                </a:solidFill>
                <a:latin typeface="Arial"/>
              </a:endParaRPr>
            </a:p>
          </p:txBody>
        </p:sp>
        <p:grpSp>
          <p:nvGrpSpPr>
            <p:cNvPr id="180" name="Group 135"/>
            <p:cNvGrpSpPr/>
            <p:nvPr/>
          </p:nvGrpSpPr>
          <p:grpSpPr>
            <a:xfrm>
              <a:off x="5751720" y="2455560"/>
              <a:ext cx="1393200" cy="1139760"/>
              <a:chOff x="5751720" y="2455560"/>
              <a:chExt cx="1393200" cy="1139760"/>
            </a:xfrm>
          </p:grpSpPr>
          <p:sp>
            <p:nvSpPr>
              <p:cNvPr id="181" name="Freeform 48"/>
              <p:cNvSpPr/>
              <p:nvPr/>
            </p:nvSpPr>
            <p:spPr>
              <a:xfrm>
                <a:off x="5751720" y="245556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2"/>
                    </a:lnTo>
                    <a:lnTo>
                      <a:pt x="2091" y="3786"/>
                    </a:lnTo>
                    <a:lnTo>
                      <a:pt x="2186" y="3774"/>
                    </a:lnTo>
                    <a:lnTo>
                      <a:pt x="2279" y="3756"/>
                    </a:lnTo>
                    <a:lnTo>
                      <a:pt x="2371" y="3736"/>
                    </a:lnTo>
                    <a:lnTo>
                      <a:pt x="2461" y="3709"/>
                    </a:lnTo>
                    <a:lnTo>
                      <a:pt x="2549" y="3680"/>
                    </a:lnTo>
                    <a:lnTo>
                      <a:pt x="2635" y="3645"/>
                    </a:lnTo>
                    <a:lnTo>
                      <a:pt x="2719" y="3608"/>
                    </a:lnTo>
                    <a:lnTo>
                      <a:pt x="2801" y="3566"/>
                    </a:lnTo>
                    <a:lnTo>
                      <a:pt x="2880" y="3520"/>
                    </a:lnTo>
                    <a:lnTo>
                      <a:pt x="2958" y="3471"/>
                    </a:lnTo>
                    <a:lnTo>
                      <a:pt x="3032" y="3417"/>
                    </a:lnTo>
                    <a:lnTo>
                      <a:pt x="3104" y="3361"/>
                    </a:lnTo>
                    <a:lnTo>
                      <a:pt x="3172" y="3301"/>
                    </a:lnTo>
                    <a:lnTo>
                      <a:pt x="3238" y="3239"/>
                    </a:lnTo>
                    <a:lnTo>
                      <a:pt x="3301" y="3172"/>
                    </a:lnTo>
                    <a:lnTo>
                      <a:pt x="3361" y="3103"/>
                    </a:lnTo>
                    <a:lnTo>
                      <a:pt x="3418" y="3031"/>
                    </a:lnTo>
                    <a:lnTo>
                      <a:pt x="3470" y="2957"/>
                    </a:lnTo>
                    <a:lnTo>
                      <a:pt x="3520" y="2880"/>
                    </a:lnTo>
                    <a:lnTo>
                      <a:pt x="3566" y="2800"/>
                    </a:lnTo>
                    <a:lnTo>
                      <a:pt x="3607" y="2719"/>
                    </a:lnTo>
                    <a:lnTo>
                      <a:pt x="3645" y="2635"/>
                    </a:lnTo>
                    <a:lnTo>
                      <a:pt x="3679" y="2549"/>
                    </a:lnTo>
                    <a:lnTo>
                      <a:pt x="3710" y="2460"/>
                    </a:lnTo>
                    <a:lnTo>
                      <a:pt x="3735" y="2371"/>
                    </a:lnTo>
                    <a:lnTo>
                      <a:pt x="3756" y="2279"/>
                    </a:lnTo>
                    <a:lnTo>
                      <a:pt x="3773" y="2186"/>
                    </a:lnTo>
                    <a:lnTo>
                      <a:pt x="3785" y="2091"/>
                    </a:lnTo>
                    <a:lnTo>
                      <a:pt x="3792" y="1995"/>
                    </a:lnTo>
                    <a:lnTo>
                      <a:pt x="3795" y="1898"/>
                    </a:lnTo>
                    <a:lnTo>
                      <a:pt x="3792" y="1800"/>
                    </a:lnTo>
                    <a:lnTo>
                      <a:pt x="3785" y="1704"/>
                    </a:lnTo>
                    <a:lnTo>
                      <a:pt x="3773" y="1609"/>
                    </a:lnTo>
                    <a:lnTo>
                      <a:pt x="3756" y="1516"/>
                    </a:lnTo>
                    <a:lnTo>
                      <a:pt x="3735" y="1424"/>
                    </a:lnTo>
                    <a:lnTo>
                      <a:pt x="3710" y="1334"/>
                    </a:lnTo>
                    <a:lnTo>
                      <a:pt x="3679" y="1246"/>
                    </a:lnTo>
                    <a:lnTo>
                      <a:pt x="3645" y="1160"/>
                    </a:lnTo>
                    <a:lnTo>
                      <a:pt x="3607" y="1076"/>
                    </a:lnTo>
                    <a:lnTo>
                      <a:pt x="3566" y="994"/>
                    </a:lnTo>
                    <a:lnTo>
                      <a:pt x="3520" y="915"/>
                    </a:lnTo>
                    <a:lnTo>
                      <a:pt x="3470" y="837"/>
                    </a:lnTo>
                    <a:lnTo>
                      <a:pt x="3418" y="763"/>
                    </a:lnTo>
                    <a:lnTo>
                      <a:pt x="3361" y="691"/>
                    </a:lnTo>
                    <a:lnTo>
                      <a:pt x="3301" y="623"/>
                    </a:lnTo>
                    <a:lnTo>
                      <a:pt x="3238" y="557"/>
                    </a:lnTo>
                    <a:lnTo>
                      <a:pt x="3172" y="494"/>
                    </a:lnTo>
                    <a:lnTo>
                      <a:pt x="3104" y="434"/>
                    </a:lnTo>
                    <a:lnTo>
                      <a:pt x="3032" y="377"/>
                    </a:lnTo>
                    <a:lnTo>
                      <a:pt x="2958" y="325"/>
                    </a:lnTo>
                    <a:lnTo>
                      <a:pt x="2880" y="275"/>
                    </a:lnTo>
                    <a:lnTo>
                      <a:pt x="2801" y="229"/>
                    </a:lnTo>
                    <a:lnTo>
                      <a:pt x="2719" y="188"/>
                    </a:lnTo>
                    <a:lnTo>
                      <a:pt x="2635" y="149"/>
                    </a:lnTo>
                    <a:lnTo>
                      <a:pt x="2549" y="116"/>
                    </a:lnTo>
                    <a:lnTo>
                      <a:pt x="2461" y="85"/>
                    </a:lnTo>
                    <a:lnTo>
                      <a:pt x="2371" y="60"/>
                    </a:lnTo>
                    <a:lnTo>
                      <a:pt x="2279" y="38"/>
                    </a:lnTo>
                    <a:lnTo>
                      <a:pt x="2186" y="22"/>
                    </a:lnTo>
                    <a:lnTo>
                      <a:pt x="2091" y="10"/>
                    </a:lnTo>
                    <a:lnTo>
                      <a:pt x="1995" y="2"/>
                    </a:lnTo>
                    <a:lnTo>
                      <a:pt x="1897" y="0"/>
                    </a:lnTo>
                    <a:lnTo>
                      <a:pt x="1800" y="2"/>
                    </a:lnTo>
                    <a:lnTo>
                      <a:pt x="1704" y="10"/>
                    </a:lnTo>
                    <a:lnTo>
                      <a:pt x="1610" y="22"/>
                    </a:lnTo>
                    <a:lnTo>
                      <a:pt x="1516" y="38"/>
                    </a:lnTo>
                    <a:lnTo>
                      <a:pt x="1424" y="60"/>
                    </a:lnTo>
                    <a:lnTo>
                      <a:pt x="1335" y="85"/>
                    </a:lnTo>
                    <a:lnTo>
                      <a:pt x="1247" y="116"/>
                    </a:lnTo>
                    <a:lnTo>
                      <a:pt x="1161" y="149"/>
                    </a:lnTo>
                    <a:lnTo>
                      <a:pt x="1077" y="188"/>
                    </a:lnTo>
                    <a:lnTo>
                      <a:pt x="995" y="229"/>
                    </a:lnTo>
                    <a:lnTo>
                      <a:pt x="915" y="275"/>
                    </a:lnTo>
                    <a:lnTo>
                      <a:pt x="838" y="325"/>
                    </a:lnTo>
                    <a:lnTo>
                      <a:pt x="764" y="377"/>
                    </a:lnTo>
                    <a:lnTo>
                      <a:pt x="692" y="434"/>
                    </a:lnTo>
                    <a:lnTo>
                      <a:pt x="623" y="494"/>
                    </a:lnTo>
                    <a:lnTo>
                      <a:pt x="557" y="557"/>
                    </a:lnTo>
                    <a:lnTo>
                      <a:pt x="495" y="623"/>
                    </a:lnTo>
                    <a:lnTo>
                      <a:pt x="435" y="691"/>
                    </a:lnTo>
                    <a:lnTo>
                      <a:pt x="378" y="763"/>
                    </a:lnTo>
                    <a:lnTo>
                      <a:pt x="325" y="837"/>
                    </a:lnTo>
                    <a:lnTo>
                      <a:pt x="276" y="915"/>
                    </a:lnTo>
                    <a:lnTo>
                      <a:pt x="230" y="994"/>
                    </a:lnTo>
                    <a:lnTo>
                      <a:pt x="187" y="1076"/>
                    </a:lnTo>
                    <a:lnTo>
                      <a:pt x="150" y="1160"/>
                    </a:lnTo>
                    <a:lnTo>
                      <a:pt x="115" y="1246"/>
                    </a:lnTo>
                    <a:lnTo>
                      <a:pt x="86" y="1334"/>
                    </a:lnTo>
                    <a:lnTo>
                      <a:pt x="60" y="1424"/>
                    </a:lnTo>
                    <a:lnTo>
                      <a:pt x="39" y="1516"/>
                    </a:lnTo>
                    <a:lnTo>
                      <a:pt x="23" y="1609"/>
                    </a:lnTo>
                    <a:lnTo>
                      <a:pt x="10" y="1704"/>
                    </a:lnTo>
                    <a:lnTo>
                      <a:pt x="3" y="1800"/>
                    </a:lnTo>
                    <a:lnTo>
                      <a:pt x="0" y="1898"/>
                    </a:lnTo>
                    <a:lnTo>
                      <a:pt x="3" y="1995"/>
                    </a:lnTo>
                    <a:lnTo>
                      <a:pt x="10" y="2091"/>
                    </a:lnTo>
                    <a:lnTo>
                      <a:pt x="23" y="2186"/>
                    </a:lnTo>
                    <a:lnTo>
                      <a:pt x="39" y="2279"/>
                    </a:lnTo>
                    <a:lnTo>
                      <a:pt x="60" y="2371"/>
                    </a:lnTo>
                    <a:lnTo>
                      <a:pt x="86" y="2460"/>
                    </a:lnTo>
                    <a:lnTo>
                      <a:pt x="115" y="2549"/>
                    </a:lnTo>
                    <a:lnTo>
                      <a:pt x="150" y="2635"/>
                    </a:lnTo>
                    <a:lnTo>
                      <a:pt x="187" y="2719"/>
                    </a:lnTo>
                    <a:lnTo>
                      <a:pt x="230" y="2800"/>
                    </a:lnTo>
                    <a:lnTo>
                      <a:pt x="276" y="2880"/>
                    </a:lnTo>
                    <a:lnTo>
                      <a:pt x="325" y="2957"/>
                    </a:lnTo>
                    <a:lnTo>
                      <a:pt x="378" y="3031"/>
                    </a:lnTo>
                    <a:lnTo>
                      <a:pt x="435" y="3103"/>
                    </a:lnTo>
                    <a:lnTo>
                      <a:pt x="495" y="3172"/>
                    </a:lnTo>
                    <a:lnTo>
                      <a:pt x="557" y="3239"/>
                    </a:lnTo>
                    <a:lnTo>
                      <a:pt x="623" y="3301"/>
                    </a:lnTo>
                    <a:lnTo>
                      <a:pt x="692" y="3361"/>
                    </a:lnTo>
                    <a:lnTo>
                      <a:pt x="764" y="3417"/>
                    </a:lnTo>
                    <a:lnTo>
                      <a:pt x="838" y="3471"/>
                    </a:lnTo>
                    <a:lnTo>
                      <a:pt x="915" y="3520"/>
                    </a:lnTo>
                    <a:lnTo>
                      <a:pt x="995" y="3566"/>
                    </a:lnTo>
                    <a:lnTo>
                      <a:pt x="1077" y="3608"/>
                    </a:lnTo>
                    <a:lnTo>
                      <a:pt x="1161" y="3645"/>
                    </a:lnTo>
                    <a:lnTo>
                      <a:pt x="1247" y="3680"/>
                    </a:lnTo>
                    <a:lnTo>
                      <a:pt x="1335" y="3709"/>
                    </a:lnTo>
                    <a:lnTo>
                      <a:pt x="1424" y="3736"/>
                    </a:lnTo>
                    <a:lnTo>
                      <a:pt x="1516" y="3756"/>
                    </a:lnTo>
                    <a:lnTo>
                      <a:pt x="1610" y="3774"/>
                    </a:lnTo>
                    <a:lnTo>
                      <a:pt x="1704" y="3786"/>
                    </a:lnTo>
                    <a:lnTo>
                      <a:pt x="1800" y="3792"/>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Text Box 55"/>
              <p:cNvSpPr/>
              <p:nvPr/>
            </p:nvSpPr>
            <p:spPr>
              <a:xfrm>
                <a:off x="5759280" y="2818440"/>
                <a:ext cx="138564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информацией</a:t>
                </a:r>
                <a:endParaRPr b="0" lang="en-US" sz="1200" spc="-1" strike="noStrike">
                  <a:solidFill>
                    <a:srgbClr val="000000"/>
                  </a:solidFill>
                  <a:latin typeface="Arial"/>
                </a:endParaRPr>
              </a:p>
            </p:txBody>
          </p:sp>
        </p:grpSp>
        <p:sp>
          <p:nvSpPr>
            <p:cNvPr id="183" name="Line 27"/>
            <p:cNvSpPr/>
            <p:nvPr/>
          </p:nvSpPr>
          <p:spPr>
            <a:xfrm flipH="1">
              <a:off x="2211480" y="426708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Group 139"/>
            <p:cNvGrpSpPr/>
            <p:nvPr/>
          </p:nvGrpSpPr>
          <p:grpSpPr>
            <a:xfrm>
              <a:off x="1848600" y="3740040"/>
              <a:ext cx="1434600" cy="1141200"/>
              <a:chOff x="1848600" y="3740040"/>
              <a:chExt cx="1434600" cy="1141200"/>
            </a:xfrm>
          </p:grpSpPr>
          <p:sp>
            <p:nvSpPr>
              <p:cNvPr id="185" name="Freeform 81"/>
              <p:cNvSpPr/>
              <p:nvPr/>
            </p:nvSpPr>
            <p:spPr>
              <a:xfrm>
                <a:off x="1886400" y="3740040"/>
                <a:ext cx="1373760" cy="1141200"/>
              </a:xfrm>
              <a:custGeom>
                <a:avLst/>
                <a:gdLst>
                  <a:gd name="textAreaLeft" fmla="*/ 0 w 1373760"/>
                  <a:gd name="textAreaRight" fmla="*/ 1373760 w 1373760"/>
                  <a:gd name="textAreaTop" fmla="*/ 0 h 1141200"/>
                  <a:gd name="textAreaBottom" fmla="*/ 1141560 h 114120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6"/>
                    </a:lnTo>
                    <a:lnTo>
                      <a:pt x="2880" y="3521"/>
                    </a:lnTo>
                    <a:lnTo>
                      <a:pt x="2957" y="3471"/>
                    </a:lnTo>
                    <a:lnTo>
                      <a:pt x="3031" y="3418"/>
                    </a:lnTo>
                    <a:lnTo>
                      <a:pt x="3103" y="3362"/>
                    </a:lnTo>
                    <a:lnTo>
                      <a:pt x="3172" y="3302"/>
                    </a:lnTo>
                    <a:lnTo>
                      <a:pt x="3238" y="3238"/>
                    </a:lnTo>
                    <a:lnTo>
                      <a:pt x="3301" y="3173"/>
                    </a:lnTo>
                    <a:lnTo>
                      <a:pt x="3360" y="3104"/>
                    </a:lnTo>
                    <a:lnTo>
                      <a:pt x="3417" y="3032"/>
                    </a:lnTo>
                    <a:lnTo>
                      <a:pt x="3470" y="2958"/>
                    </a:lnTo>
                    <a:lnTo>
                      <a:pt x="3519" y="2881"/>
                    </a:lnTo>
                    <a:lnTo>
                      <a:pt x="3565" y="2801"/>
                    </a:lnTo>
                    <a:lnTo>
                      <a:pt x="3608" y="2720"/>
                    </a:lnTo>
                    <a:lnTo>
                      <a:pt x="3646" y="2636"/>
                    </a:lnTo>
                    <a:lnTo>
                      <a:pt x="3679" y="2550"/>
                    </a:lnTo>
                    <a:lnTo>
                      <a:pt x="3709" y="2461"/>
                    </a:lnTo>
                    <a:lnTo>
                      <a:pt x="3735" y="2372"/>
                    </a:lnTo>
                    <a:lnTo>
                      <a:pt x="3756" y="2279"/>
                    </a:lnTo>
                    <a:lnTo>
                      <a:pt x="3773" y="2187"/>
                    </a:lnTo>
                    <a:lnTo>
                      <a:pt x="3785" y="2092"/>
                    </a:lnTo>
                    <a:lnTo>
                      <a:pt x="3793" y="1996"/>
                    </a:lnTo>
                    <a:lnTo>
                      <a:pt x="3795" y="1898"/>
                    </a:lnTo>
                    <a:lnTo>
                      <a:pt x="3793" y="1801"/>
                    </a:lnTo>
                    <a:lnTo>
                      <a:pt x="3785" y="1705"/>
                    </a:lnTo>
                    <a:lnTo>
                      <a:pt x="3773" y="1610"/>
                    </a:lnTo>
                    <a:lnTo>
                      <a:pt x="3756" y="1516"/>
                    </a:lnTo>
                    <a:lnTo>
                      <a:pt x="3735" y="1425"/>
                    </a:lnTo>
                    <a:lnTo>
                      <a:pt x="3709" y="1335"/>
                    </a:lnTo>
                    <a:lnTo>
                      <a:pt x="3679" y="1247"/>
                    </a:lnTo>
                    <a:lnTo>
                      <a:pt x="3646" y="1161"/>
                    </a:lnTo>
                    <a:lnTo>
                      <a:pt x="3608" y="1077"/>
                    </a:lnTo>
                    <a:lnTo>
                      <a:pt x="3565" y="995"/>
                    </a:lnTo>
                    <a:lnTo>
                      <a:pt x="3519" y="916"/>
                    </a:lnTo>
                    <a:lnTo>
                      <a:pt x="3470" y="838"/>
                    </a:lnTo>
                    <a:lnTo>
                      <a:pt x="3417" y="764"/>
                    </a:lnTo>
                    <a:lnTo>
                      <a:pt x="3360" y="692"/>
                    </a:lnTo>
                    <a:lnTo>
                      <a:pt x="3301" y="623"/>
                    </a:lnTo>
                    <a:lnTo>
                      <a:pt x="3238" y="557"/>
                    </a:lnTo>
                    <a:lnTo>
                      <a:pt x="3172" y="495"/>
                    </a:lnTo>
                    <a:lnTo>
                      <a:pt x="3103" y="435"/>
                    </a:lnTo>
                    <a:lnTo>
                      <a:pt x="3031" y="378"/>
                    </a:lnTo>
                    <a:lnTo>
                      <a:pt x="2957" y="325"/>
                    </a:lnTo>
                    <a:lnTo>
                      <a:pt x="2880" y="276"/>
                    </a:lnTo>
                    <a:lnTo>
                      <a:pt x="2801" y="230"/>
                    </a:lnTo>
                    <a:lnTo>
                      <a:pt x="2719" y="187"/>
                    </a:lnTo>
                    <a:lnTo>
                      <a:pt x="2634" y="150"/>
                    </a:lnTo>
                    <a:lnTo>
                      <a:pt x="2548" y="116"/>
                    </a:lnTo>
                    <a:lnTo>
                      <a:pt x="2461" y="86"/>
                    </a:lnTo>
                    <a:lnTo>
                      <a:pt x="2371" y="60"/>
                    </a:lnTo>
                    <a:lnTo>
                      <a:pt x="2279" y="39"/>
                    </a:lnTo>
                    <a:lnTo>
                      <a:pt x="2185" y="22"/>
                    </a:lnTo>
                    <a:lnTo>
                      <a:pt x="2091" y="10"/>
                    </a:lnTo>
                    <a:lnTo>
                      <a:pt x="1995" y="3"/>
                    </a:lnTo>
                    <a:lnTo>
                      <a:pt x="1898" y="0"/>
                    </a:lnTo>
                    <a:lnTo>
                      <a:pt x="1801" y="3"/>
                    </a:lnTo>
                    <a:lnTo>
                      <a:pt x="1704" y="10"/>
                    </a:lnTo>
                    <a:lnTo>
                      <a:pt x="1609" y="22"/>
                    </a:lnTo>
                    <a:lnTo>
                      <a:pt x="1516" y="39"/>
                    </a:lnTo>
                    <a:lnTo>
                      <a:pt x="1425" y="60"/>
                    </a:lnTo>
                    <a:lnTo>
                      <a:pt x="1334" y="86"/>
                    </a:lnTo>
                    <a:lnTo>
                      <a:pt x="1246" y="116"/>
                    </a:lnTo>
                    <a:lnTo>
                      <a:pt x="1160" y="150"/>
                    </a:lnTo>
                    <a:lnTo>
                      <a:pt x="1076" y="187"/>
                    </a:lnTo>
                    <a:lnTo>
                      <a:pt x="994" y="230"/>
                    </a:lnTo>
                    <a:lnTo>
                      <a:pt x="915" y="276"/>
                    </a:lnTo>
                    <a:lnTo>
                      <a:pt x="838" y="325"/>
                    </a:lnTo>
                    <a:lnTo>
                      <a:pt x="763" y="378"/>
                    </a:lnTo>
                    <a:lnTo>
                      <a:pt x="692" y="435"/>
                    </a:lnTo>
                    <a:lnTo>
                      <a:pt x="623" y="495"/>
                    </a:lnTo>
                    <a:lnTo>
                      <a:pt x="557" y="557"/>
                    </a:lnTo>
                    <a:lnTo>
                      <a:pt x="494" y="623"/>
                    </a:lnTo>
                    <a:lnTo>
                      <a:pt x="434" y="692"/>
                    </a:lnTo>
                    <a:lnTo>
                      <a:pt x="378" y="764"/>
                    </a:lnTo>
                    <a:lnTo>
                      <a:pt x="325" y="838"/>
                    </a:lnTo>
                    <a:lnTo>
                      <a:pt x="276" y="916"/>
                    </a:lnTo>
                    <a:lnTo>
                      <a:pt x="230" y="995"/>
                    </a:lnTo>
                    <a:lnTo>
                      <a:pt x="188" y="1077"/>
                    </a:lnTo>
                    <a:lnTo>
                      <a:pt x="150"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50" y="2636"/>
                    </a:lnTo>
                    <a:lnTo>
                      <a:pt x="188" y="2720"/>
                    </a:lnTo>
                    <a:lnTo>
                      <a:pt x="230" y="2801"/>
                    </a:lnTo>
                    <a:lnTo>
                      <a:pt x="276" y="2881"/>
                    </a:lnTo>
                    <a:lnTo>
                      <a:pt x="325" y="2958"/>
                    </a:lnTo>
                    <a:lnTo>
                      <a:pt x="378" y="3032"/>
                    </a:lnTo>
                    <a:lnTo>
                      <a:pt x="434" y="3104"/>
                    </a:lnTo>
                    <a:lnTo>
                      <a:pt x="494" y="3173"/>
                    </a:lnTo>
                    <a:lnTo>
                      <a:pt x="557" y="3238"/>
                    </a:lnTo>
                    <a:lnTo>
                      <a:pt x="623" y="3302"/>
                    </a:lnTo>
                    <a:lnTo>
                      <a:pt x="692" y="3362"/>
                    </a:lnTo>
                    <a:lnTo>
                      <a:pt x="763" y="3418"/>
                    </a:lnTo>
                    <a:lnTo>
                      <a:pt x="838" y="3471"/>
                    </a:lnTo>
                    <a:lnTo>
                      <a:pt x="915" y="3521"/>
                    </a:lnTo>
                    <a:lnTo>
                      <a:pt x="994" y="3566"/>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82"/>
              <p:cNvSpPr/>
              <p:nvPr/>
            </p:nvSpPr>
            <p:spPr>
              <a:xfrm>
                <a:off x="1848600" y="4039920"/>
                <a:ext cx="14346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Документы</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и записи</a:t>
                </a:r>
                <a:endParaRPr b="0" lang="en-US" sz="1200" spc="-1" strike="noStrike">
                  <a:solidFill>
                    <a:srgbClr val="000000"/>
                  </a:solidFill>
                  <a:latin typeface="Arial"/>
                </a:endParaRPr>
              </a:p>
            </p:txBody>
          </p:sp>
        </p:grpSp>
        <p:grpSp>
          <p:nvGrpSpPr>
            <p:cNvPr id="187" name="Group 142"/>
            <p:cNvGrpSpPr/>
            <p:nvPr/>
          </p:nvGrpSpPr>
          <p:grpSpPr>
            <a:xfrm>
              <a:off x="3798720" y="3740040"/>
              <a:ext cx="1476360" cy="1141200"/>
              <a:chOff x="3798720" y="3740040"/>
              <a:chExt cx="1476360" cy="1141200"/>
            </a:xfrm>
          </p:grpSpPr>
          <p:sp>
            <p:nvSpPr>
              <p:cNvPr id="188" name="Freeform 30"/>
              <p:cNvSpPr/>
              <p:nvPr/>
            </p:nvSpPr>
            <p:spPr>
              <a:xfrm>
                <a:off x="3853440" y="3740040"/>
                <a:ext cx="1374480" cy="1141200"/>
              </a:xfrm>
              <a:custGeom>
                <a:avLst/>
                <a:gdLst>
                  <a:gd name="textAreaLeft" fmla="*/ 0 w 1374480"/>
                  <a:gd name="textAreaRight" fmla="*/ 1374840 w 1374480"/>
                  <a:gd name="textAreaTop" fmla="*/ 0 h 1141200"/>
                  <a:gd name="textAreaBottom" fmla="*/ 1141560 h 114120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6"/>
                    </a:lnTo>
                    <a:lnTo>
                      <a:pt x="2879" y="3521"/>
                    </a:lnTo>
                    <a:lnTo>
                      <a:pt x="2957" y="3471"/>
                    </a:lnTo>
                    <a:lnTo>
                      <a:pt x="3031" y="3418"/>
                    </a:lnTo>
                    <a:lnTo>
                      <a:pt x="3103" y="3362"/>
                    </a:lnTo>
                    <a:lnTo>
                      <a:pt x="3171" y="3302"/>
                    </a:lnTo>
                    <a:lnTo>
                      <a:pt x="3238" y="3238"/>
                    </a:lnTo>
                    <a:lnTo>
                      <a:pt x="3300" y="3173"/>
                    </a:lnTo>
                    <a:lnTo>
                      <a:pt x="3360" y="3104"/>
                    </a:lnTo>
                    <a:lnTo>
                      <a:pt x="3417" y="3032"/>
                    </a:lnTo>
                    <a:lnTo>
                      <a:pt x="3470" y="2958"/>
                    </a:lnTo>
                    <a:lnTo>
                      <a:pt x="3519" y="2881"/>
                    </a:lnTo>
                    <a:lnTo>
                      <a:pt x="3565" y="2801"/>
                    </a:lnTo>
                    <a:lnTo>
                      <a:pt x="3606" y="2720"/>
                    </a:lnTo>
                    <a:lnTo>
                      <a:pt x="3644" y="2636"/>
                    </a:lnTo>
                    <a:lnTo>
                      <a:pt x="3679" y="2550"/>
                    </a:lnTo>
                    <a:lnTo>
                      <a:pt x="3709" y="2461"/>
                    </a:lnTo>
                    <a:lnTo>
                      <a:pt x="3735" y="2372"/>
                    </a:lnTo>
                    <a:lnTo>
                      <a:pt x="3756" y="2279"/>
                    </a:lnTo>
                    <a:lnTo>
                      <a:pt x="3772" y="2187"/>
                    </a:lnTo>
                    <a:lnTo>
                      <a:pt x="3785" y="2092"/>
                    </a:lnTo>
                    <a:lnTo>
                      <a:pt x="3792" y="1996"/>
                    </a:lnTo>
                    <a:lnTo>
                      <a:pt x="3795" y="1898"/>
                    </a:lnTo>
                    <a:lnTo>
                      <a:pt x="3792" y="1801"/>
                    </a:lnTo>
                    <a:lnTo>
                      <a:pt x="3785" y="1705"/>
                    </a:lnTo>
                    <a:lnTo>
                      <a:pt x="3772" y="1610"/>
                    </a:lnTo>
                    <a:lnTo>
                      <a:pt x="3756" y="1516"/>
                    </a:lnTo>
                    <a:lnTo>
                      <a:pt x="3735" y="1425"/>
                    </a:lnTo>
                    <a:lnTo>
                      <a:pt x="3709" y="1335"/>
                    </a:lnTo>
                    <a:lnTo>
                      <a:pt x="3679" y="1247"/>
                    </a:lnTo>
                    <a:lnTo>
                      <a:pt x="3644" y="1161"/>
                    </a:lnTo>
                    <a:lnTo>
                      <a:pt x="3606" y="1077"/>
                    </a:lnTo>
                    <a:lnTo>
                      <a:pt x="3565" y="995"/>
                    </a:lnTo>
                    <a:lnTo>
                      <a:pt x="3519" y="916"/>
                    </a:lnTo>
                    <a:lnTo>
                      <a:pt x="3470" y="838"/>
                    </a:lnTo>
                    <a:lnTo>
                      <a:pt x="3417" y="764"/>
                    </a:lnTo>
                    <a:lnTo>
                      <a:pt x="3360" y="692"/>
                    </a:lnTo>
                    <a:lnTo>
                      <a:pt x="3300" y="623"/>
                    </a:lnTo>
                    <a:lnTo>
                      <a:pt x="3238" y="557"/>
                    </a:lnTo>
                    <a:lnTo>
                      <a:pt x="3171" y="495"/>
                    </a:lnTo>
                    <a:lnTo>
                      <a:pt x="3103" y="435"/>
                    </a:lnTo>
                    <a:lnTo>
                      <a:pt x="3031" y="378"/>
                    </a:lnTo>
                    <a:lnTo>
                      <a:pt x="2957" y="325"/>
                    </a:lnTo>
                    <a:lnTo>
                      <a:pt x="2879" y="276"/>
                    </a:lnTo>
                    <a:lnTo>
                      <a:pt x="2800" y="230"/>
                    </a:lnTo>
                    <a:lnTo>
                      <a:pt x="2718" y="187"/>
                    </a:lnTo>
                    <a:lnTo>
                      <a:pt x="2634" y="150"/>
                    </a:lnTo>
                    <a:lnTo>
                      <a:pt x="2548" y="116"/>
                    </a:lnTo>
                    <a:lnTo>
                      <a:pt x="2460" y="86"/>
                    </a:lnTo>
                    <a:lnTo>
                      <a:pt x="2370" y="60"/>
                    </a:lnTo>
                    <a:lnTo>
                      <a:pt x="2279" y="39"/>
                    </a:lnTo>
                    <a:lnTo>
                      <a:pt x="2185" y="22"/>
                    </a:lnTo>
                    <a:lnTo>
                      <a:pt x="2090" y="10"/>
                    </a:lnTo>
                    <a:lnTo>
                      <a:pt x="1994" y="3"/>
                    </a:lnTo>
                    <a:lnTo>
                      <a:pt x="1897" y="0"/>
                    </a:lnTo>
                    <a:lnTo>
                      <a:pt x="1799" y="3"/>
                    </a:lnTo>
                    <a:lnTo>
                      <a:pt x="1703" y="10"/>
                    </a:lnTo>
                    <a:lnTo>
                      <a:pt x="1609" y="22"/>
                    </a:lnTo>
                    <a:lnTo>
                      <a:pt x="1516" y="39"/>
                    </a:lnTo>
                    <a:lnTo>
                      <a:pt x="1423" y="60"/>
                    </a:lnTo>
                    <a:lnTo>
                      <a:pt x="1334" y="86"/>
                    </a:lnTo>
                    <a:lnTo>
                      <a:pt x="1246" y="116"/>
                    </a:lnTo>
                    <a:lnTo>
                      <a:pt x="1160" y="150"/>
                    </a:lnTo>
                    <a:lnTo>
                      <a:pt x="1076" y="187"/>
                    </a:lnTo>
                    <a:lnTo>
                      <a:pt x="994" y="230"/>
                    </a:lnTo>
                    <a:lnTo>
                      <a:pt x="914" y="276"/>
                    </a:lnTo>
                    <a:lnTo>
                      <a:pt x="837" y="325"/>
                    </a:lnTo>
                    <a:lnTo>
                      <a:pt x="763" y="378"/>
                    </a:lnTo>
                    <a:lnTo>
                      <a:pt x="691" y="435"/>
                    </a:lnTo>
                    <a:lnTo>
                      <a:pt x="622" y="495"/>
                    </a:lnTo>
                    <a:lnTo>
                      <a:pt x="557" y="557"/>
                    </a:lnTo>
                    <a:lnTo>
                      <a:pt x="494" y="623"/>
                    </a:lnTo>
                    <a:lnTo>
                      <a:pt x="434" y="692"/>
                    </a:lnTo>
                    <a:lnTo>
                      <a:pt x="377" y="764"/>
                    </a:lnTo>
                    <a:lnTo>
                      <a:pt x="325" y="838"/>
                    </a:lnTo>
                    <a:lnTo>
                      <a:pt x="275" y="916"/>
                    </a:lnTo>
                    <a:lnTo>
                      <a:pt x="229" y="995"/>
                    </a:lnTo>
                    <a:lnTo>
                      <a:pt x="188" y="1077"/>
                    </a:lnTo>
                    <a:lnTo>
                      <a:pt x="149" y="1161"/>
                    </a:lnTo>
                    <a:lnTo>
                      <a:pt x="116" y="1247"/>
                    </a:lnTo>
                    <a:lnTo>
                      <a:pt x="85" y="1335"/>
                    </a:lnTo>
                    <a:lnTo>
                      <a:pt x="60" y="1425"/>
                    </a:lnTo>
                    <a:lnTo>
                      <a:pt x="38" y="1516"/>
                    </a:lnTo>
                    <a:lnTo>
                      <a:pt x="22" y="1610"/>
                    </a:lnTo>
                    <a:lnTo>
                      <a:pt x="10" y="1705"/>
                    </a:lnTo>
                    <a:lnTo>
                      <a:pt x="2" y="1801"/>
                    </a:lnTo>
                    <a:lnTo>
                      <a:pt x="0" y="1898"/>
                    </a:lnTo>
                    <a:lnTo>
                      <a:pt x="2" y="1996"/>
                    </a:lnTo>
                    <a:lnTo>
                      <a:pt x="10" y="2092"/>
                    </a:lnTo>
                    <a:lnTo>
                      <a:pt x="22" y="2187"/>
                    </a:lnTo>
                    <a:lnTo>
                      <a:pt x="38" y="2279"/>
                    </a:lnTo>
                    <a:lnTo>
                      <a:pt x="60" y="2372"/>
                    </a:lnTo>
                    <a:lnTo>
                      <a:pt x="85" y="2461"/>
                    </a:lnTo>
                    <a:lnTo>
                      <a:pt x="116" y="2550"/>
                    </a:lnTo>
                    <a:lnTo>
                      <a:pt x="149" y="2636"/>
                    </a:lnTo>
                    <a:lnTo>
                      <a:pt x="188" y="2720"/>
                    </a:lnTo>
                    <a:lnTo>
                      <a:pt x="229" y="2801"/>
                    </a:lnTo>
                    <a:lnTo>
                      <a:pt x="275" y="2881"/>
                    </a:lnTo>
                    <a:lnTo>
                      <a:pt x="325" y="2958"/>
                    </a:lnTo>
                    <a:lnTo>
                      <a:pt x="377" y="3032"/>
                    </a:lnTo>
                    <a:lnTo>
                      <a:pt x="434" y="3104"/>
                    </a:lnTo>
                    <a:lnTo>
                      <a:pt x="494" y="3173"/>
                    </a:lnTo>
                    <a:lnTo>
                      <a:pt x="557" y="3238"/>
                    </a:lnTo>
                    <a:lnTo>
                      <a:pt x="622" y="3302"/>
                    </a:lnTo>
                    <a:lnTo>
                      <a:pt x="691" y="3362"/>
                    </a:lnTo>
                    <a:lnTo>
                      <a:pt x="763" y="3418"/>
                    </a:lnTo>
                    <a:lnTo>
                      <a:pt x="837" y="3471"/>
                    </a:lnTo>
                    <a:lnTo>
                      <a:pt x="914" y="3521"/>
                    </a:lnTo>
                    <a:lnTo>
                      <a:pt x="994" y="3566"/>
                    </a:lnTo>
                    <a:lnTo>
                      <a:pt x="1076" y="3608"/>
                    </a:lnTo>
                    <a:lnTo>
                      <a:pt x="1160" y="3646"/>
                    </a:lnTo>
                    <a:lnTo>
                      <a:pt x="1246" y="3680"/>
                    </a:lnTo>
                    <a:lnTo>
                      <a:pt x="1334" y="3710"/>
                    </a:lnTo>
                    <a:lnTo>
                      <a:pt x="1423" y="3735"/>
                    </a:lnTo>
                    <a:lnTo>
                      <a:pt x="1516" y="3757"/>
                    </a:lnTo>
                    <a:lnTo>
                      <a:pt x="1609"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54"/>
              <p:cNvSpPr/>
              <p:nvPr/>
            </p:nvSpPr>
            <p:spPr>
              <a:xfrm>
                <a:off x="3798720" y="396432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правление нештатными ситуациями</a:t>
                </a:r>
                <a:endParaRPr b="0" lang="en-US" sz="1200" spc="-1" strike="noStrike">
                  <a:solidFill>
                    <a:srgbClr val="000000"/>
                  </a:solidFill>
                  <a:latin typeface="Arial"/>
                </a:endParaRPr>
              </a:p>
            </p:txBody>
          </p:sp>
        </p:grpSp>
        <p:sp>
          <p:nvSpPr>
            <p:cNvPr id="190" name="Freeform 50"/>
            <p:cNvSpPr/>
            <p:nvPr/>
          </p:nvSpPr>
          <p:spPr>
            <a:xfrm>
              <a:off x="5751720" y="3733560"/>
              <a:ext cx="1374480" cy="1141560"/>
            </a:xfrm>
            <a:custGeom>
              <a:avLst/>
              <a:gdLst>
                <a:gd name="textAreaLeft" fmla="*/ 0 w 1374480"/>
                <a:gd name="textAreaRight" fmla="*/ 1374840 w 1374480"/>
                <a:gd name="textAreaTop" fmla="*/ 0 h 1141560"/>
                <a:gd name="textAreaBottom" fmla="*/ 1141920 h 11415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6"/>
                  </a:lnTo>
                  <a:lnTo>
                    <a:pt x="2880" y="3521"/>
                  </a:lnTo>
                  <a:lnTo>
                    <a:pt x="2958" y="3471"/>
                  </a:lnTo>
                  <a:lnTo>
                    <a:pt x="3032" y="3418"/>
                  </a:lnTo>
                  <a:lnTo>
                    <a:pt x="3104" y="3362"/>
                  </a:lnTo>
                  <a:lnTo>
                    <a:pt x="3172" y="3302"/>
                  </a:lnTo>
                  <a:lnTo>
                    <a:pt x="3238" y="3238"/>
                  </a:lnTo>
                  <a:lnTo>
                    <a:pt x="3301" y="3173"/>
                  </a:lnTo>
                  <a:lnTo>
                    <a:pt x="3361" y="3104"/>
                  </a:lnTo>
                  <a:lnTo>
                    <a:pt x="3418" y="3032"/>
                  </a:lnTo>
                  <a:lnTo>
                    <a:pt x="3470" y="2958"/>
                  </a:lnTo>
                  <a:lnTo>
                    <a:pt x="3520" y="2881"/>
                  </a:lnTo>
                  <a:lnTo>
                    <a:pt x="3566" y="2801"/>
                  </a:lnTo>
                  <a:lnTo>
                    <a:pt x="3607" y="2720"/>
                  </a:lnTo>
                  <a:lnTo>
                    <a:pt x="3645" y="2636"/>
                  </a:lnTo>
                  <a:lnTo>
                    <a:pt x="3679" y="2550"/>
                  </a:lnTo>
                  <a:lnTo>
                    <a:pt x="3710" y="2461"/>
                  </a:lnTo>
                  <a:lnTo>
                    <a:pt x="3735" y="2372"/>
                  </a:lnTo>
                  <a:lnTo>
                    <a:pt x="3756" y="2279"/>
                  </a:lnTo>
                  <a:lnTo>
                    <a:pt x="3773" y="2187"/>
                  </a:lnTo>
                  <a:lnTo>
                    <a:pt x="3785" y="2092"/>
                  </a:lnTo>
                  <a:lnTo>
                    <a:pt x="3792" y="1996"/>
                  </a:lnTo>
                  <a:lnTo>
                    <a:pt x="3795" y="1898"/>
                  </a:lnTo>
                  <a:lnTo>
                    <a:pt x="3792" y="1801"/>
                  </a:lnTo>
                  <a:lnTo>
                    <a:pt x="3785" y="1705"/>
                  </a:lnTo>
                  <a:lnTo>
                    <a:pt x="3773" y="1610"/>
                  </a:lnTo>
                  <a:lnTo>
                    <a:pt x="3756" y="1516"/>
                  </a:lnTo>
                  <a:lnTo>
                    <a:pt x="3735" y="1425"/>
                  </a:lnTo>
                  <a:lnTo>
                    <a:pt x="3710" y="1335"/>
                  </a:lnTo>
                  <a:lnTo>
                    <a:pt x="3679" y="1247"/>
                  </a:lnTo>
                  <a:lnTo>
                    <a:pt x="3645" y="1161"/>
                  </a:lnTo>
                  <a:lnTo>
                    <a:pt x="3607" y="1077"/>
                  </a:lnTo>
                  <a:lnTo>
                    <a:pt x="3566" y="995"/>
                  </a:lnTo>
                  <a:lnTo>
                    <a:pt x="3520" y="916"/>
                  </a:lnTo>
                  <a:lnTo>
                    <a:pt x="3470" y="838"/>
                  </a:lnTo>
                  <a:lnTo>
                    <a:pt x="3418" y="764"/>
                  </a:lnTo>
                  <a:lnTo>
                    <a:pt x="3361" y="692"/>
                  </a:lnTo>
                  <a:lnTo>
                    <a:pt x="3301" y="623"/>
                  </a:lnTo>
                  <a:lnTo>
                    <a:pt x="3238" y="557"/>
                  </a:lnTo>
                  <a:lnTo>
                    <a:pt x="3172" y="495"/>
                  </a:lnTo>
                  <a:lnTo>
                    <a:pt x="3104" y="435"/>
                  </a:lnTo>
                  <a:lnTo>
                    <a:pt x="3032" y="378"/>
                  </a:lnTo>
                  <a:lnTo>
                    <a:pt x="2958" y="325"/>
                  </a:lnTo>
                  <a:lnTo>
                    <a:pt x="2880" y="276"/>
                  </a:lnTo>
                  <a:lnTo>
                    <a:pt x="2801" y="230"/>
                  </a:lnTo>
                  <a:lnTo>
                    <a:pt x="2719" y="187"/>
                  </a:lnTo>
                  <a:lnTo>
                    <a:pt x="2635" y="150"/>
                  </a:lnTo>
                  <a:lnTo>
                    <a:pt x="2549" y="116"/>
                  </a:lnTo>
                  <a:lnTo>
                    <a:pt x="2461" y="86"/>
                  </a:lnTo>
                  <a:lnTo>
                    <a:pt x="2371" y="60"/>
                  </a:lnTo>
                  <a:lnTo>
                    <a:pt x="2279" y="39"/>
                  </a:lnTo>
                  <a:lnTo>
                    <a:pt x="2186" y="22"/>
                  </a:lnTo>
                  <a:lnTo>
                    <a:pt x="2091" y="10"/>
                  </a:lnTo>
                  <a:lnTo>
                    <a:pt x="1995" y="3"/>
                  </a:lnTo>
                  <a:lnTo>
                    <a:pt x="1897" y="0"/>
                  </a:lnTo>
                  <a:lnTo>
                    <a:pt x="1800" y="3"/>
                  </a:lnTo>
                  <a:lnTo>
                    <a:pt x="1704" y="10"/>
                  </a:lnTo>
                  <a:lnTo>
                    <a:pt x="1610" y="22"/>
                  </a:lnTo>
                  <a:lnTo>
                    <a:pt x="1516" y="39"/>
                  </a:lnTo>
                  <a:lnTo>
                    <a:pt x="1424" y="60"/>
                  </a:lnTo>
                  <a:lnTo>
                    <a:pt x="1335" y="86"/>
                  </a:lnTo>
                  <a:lnTo>
                    <a:pt x="1247" y="116"/>
                  </a:lnTo>
                  <a:lnTo>
                    <a:pt x="1161" y="150"/>
                  </a:lnTo>
                  <a:lnTo>
                    <a:pt x="1077" y="187"/>
                  </a:lnTo>
                  <a:lnTo>
                    <a:pt x="995" y="230"/>
                  </a:lnTo>
                  <a:lnTo>
                    <a:pt x="915" y="276"/>
                  </a:lnTo>
                  <a:lnTo>
                    <a:pt x="838" y="325"/>
                  </a:lnTo>
                  <a:lnTo>
                    <a:pt x="764" y="378"/>
                  </a:lnTo>
                  <a:lnTo>
                    <a:pt x="692" y="435"/>
                  </a:lnTo>
                  <a:lnTo>
                    <a:pt x="623" y="495"/>
                  </a:lnTo>
                  <a:lnTo>
                    <a:pt x="557" y="557"/>
                  </a:lnTo>
                  <a:lnTo>
                    <a:pt x="495" y="623"/>
                  </a:lnTo>
                  <a:lnTo>
                    <a:pt x="435" y="692"/>
                  </a:lnTo>
                  <a:lnTo>
                    <a:pt x="378" y="764"/>
                  </a:lnTo>
                  <a:lnTo>
                    <a:pt x="325" y="838"/>
                  </a:lnTo>
                  <a:lnTo>
                    <a:pt x="276" y="916"/>
                  </a:lnTo>
                  <a:lnTo>
                    <a:pt x="230" y="995"/>
                  </a:lnTo>
                  <a:lnTo>
                    <a:pt x="187" y="1077"/>
                  </a:lnTo>
                  <a:lnTo>
                    <a:pt x="150" y="1161"/>
                  </a:lnTo>
                  <a:lnTo>
                    <a:pt x="115" y="1247"/>
                  </a:lnTo>
                  <a:lnTo>
                    <a:pt x="86" y="1335"/>
                  </a:lnTo>
                  <a:lnTo>
                    <a:pt x="60" y="1425"/>
                  </a:lnTo>
                  <a:lnTo>
                    <a:pt x="39" y="1516"/>
                  </a:lnTo>
                  <a:lnTo>
                    <a:pt x="23" y="1610"/>
                  </a:lnTo>
                  <a:lnTo>
                    <a:pt x="10" y="1705"/>
                  </a:lnTo>
                  <a:lnTo>
                    <a:pt x="3" y="1801"/>
                  </a:lnTo>
                  <a:lnTo>
                    <a:pt x="0" y="1898"/>
                  </a:lnTo>
                  <a:lnTo>
                    <a:pt x="3" y="1996"/>
                  </a:lnTo>
                  <a:lnTo>
                    <a:pt x="10" y="2092"/>
                  </a:lnTo>
                  <a:lnTo>
                    <a:pt x="23" y="2187"/>
                  </a:lnTo>
                  <a:lnTo>
                    <a:pt x="39" y="2279"/>
                  </a:lnTo>
                  <a:lnTo>
                    <a:pt x="60" y="2372"/>
                  </a:lnTo>
                  <a:lnTo>
                    <a:pt x="86" y="2461"/>
                  </a:lnTo>
                  <a:lnTo>
                    <a:pt x="115" y="2550"/>
                  </a:lnTo>
                  <a:lnTo>
                    <a:pt x="150" y="2636"/>
                  </a:lnTo>
                  <a:lnTo>
                    <a:pt x="187" y="2720"/>
                  </a:lnTo>
                  <a:lnTo>
                    <a:pt x="230" y="2801"/>
                  </a:lnTo>
                  <a:lnTo>
                    <a:pt x="276" y="2881"/>
                  </a:lnTo>
                  <a:lnTo>
                    <a:pt x="325" y="2958"/>
                  </a:lnTo>
                  <a:lnTo>
                    <a:pt x="378" y="3032"/>
                  </a:lnTo>
                  <a:lnTo>
                    <a:pt x="435" y="3104"/>
                  </a:lnTo>
                  <a:lnTo>
                    <a:pt x="495" y="3173"/>
                  </a:lnTo>
                  <a:lnTo>
                    <a:pt x="557" y="3238"/>
                  </a:lnTo>
                  <a:lnTo>
                    <a:pt x="623" y="3302"/>
                  </a:lnTo>
                  <a:lnTo>
                    <a:pt x="692" y="3362"/>
                  </a:lnTo>
                  <a:lnTo>
                    <a:pt x="764" y="3418"/>
                  </a:lnTo>
                  <a:lnTo>
                    <a:pt x="838" y="3471"/>
                  </a:lnTo>
                  <a:lnTo>
                    <a:pt x="915" y="3521"/>
                  </a:lnTo>
                  <a:lnTo>
                    <a:pt x="995" y="3566"/>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Text Box 51"/>
            <p:cNvSpPr/>
            <p:nvPr/>
          </p:nvSpPr>
          <p:spPr>
            <a:xfrm>
              <a:off x="5706360" y="4143240"/>
              <a:ext cx="1476720" cy="276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ценка</a:t>
              </a:r>
              <a:endParaRPr b="0" lang="en-US" sz="1200" spc="-1" strike="noStrike">
                <a:solidFill>
                  <a:srgbClr val="000000"/>
                </a:solidFill>
                <a:latin typeface="Arial"/>
              </a:endParaRPr>
            </a:p>
          </p:txBody>
        </p:sp>
        <p:sp>
          <p:nvSpPr>
            <p:cNvPr id="192" name="Line 27"/>
            <p:cNvSpPr/>
            <p:nvPr/>
          </p:nvSpPr>
          <p:spPr>
            <a:xfrm flipH="1">
              <a:off x="2302560" y="5560920"/>
              <a:ext cx="46760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93" name="Group 148"/>
            <p:cNvGrpSpPr/>
            <p:nvPr/>
          </p:nvGrpSpPr>
          <p:grpSpPr>
            <a:xfrm>
              <a:off x="1879200" y="5032080"/>
              <a:ext cx="1472400" cy="1139760"/>
              <a:chOff x="1879200" y="5032080"/>
              <a:chExt cx="1472400" cy="1139760"/>
            </a:xfrm>
          </p:grpSpPr>
          <p:sp>
            <p:nvSpPr>
              <p:cNvPr id="194" name="Freeform 57"/>
              <p:cNvSpPr/>
              <p:nvPr/>
            </p:nvSpPr>
            <p:spPr>
              <a:xfrm>
                <a:off x="1935720" y="5032080"/>
                <a:ext cx="1372680" cy="1139760"/>
              </a:xfrm>
              <a:custGeom>
                <a:avLst/>
                <a:gdLst>
                  <a:gd name="textAreaLeft" fmla="*/ 0 w 1372680"/>
                  <a:gd name="textAreaRight" fmla="*/ 1372680 w 1372680"/>
                  <a:gd name="textAreaTop" fmla="*/ 0 h 1139760"/>
                  <a:gd name="textAreaBottom" fmla="*/ 1140120 h 1139760"/>
                </a:gdLst>
                <a:ahLst/>
                <a:rect l="textAreaLeft" t="textAreaTop" r="textAreaRight" b="textAreaBottom"/>
                <a:pathLst>
                  <a:path w="3795" h="3795">
                    <a:moveTo>
                      <a:pt x="1898" y="3795"/>
                    </a:moveTo>
                    <a:lnTo>
                      <a:pt x="1995" y="3793"/>
                    </a:lnTo>
                    <a:lnTo>
                      <a:pt x="2091" y="3786"/>
                    </a:lnTo>
                    <a:lnTo>
                      <a:pt x="2185" y="3774"/>
                    </a:lnTo>
                    <a:lnTo>
                      <a:pt x="2279" y="3757"/>
                    </a:lnTo>
                    <a:lnTo>
                      <a:pt x="2371" y="3735"/>
                    </a:lnTo>
                    <a:lnTo>
                      <a:pt x="2461" y="3710"/>
                    </a:lnTo>
                    <a:lnTo>
                      <a:pt x="2548" y="3680"/>
                    </a:lnTo>
                    <a:lnTo>
                      <a:pt x="2634" y="3646"/>
                    </a:lnTo>
                    <a:lnTo>
                      <a:pt x="2719" y="3608"/>
                    </a:lnTo>
                    <a:lnTo>
                      <a:pt x="2801" y="3565"/>
                    </a:lnTo>
                    <a:lnTo>
                      <a:pt x="2880" y="3520"/>
                    </a:lnTo>
                    <a:lnTo>
                      <a:pt x="2957" y="3471"/>
                    </a:lnTo>
                    <a:lnTo>
                      <a:pt x="3031" y="3417"/>
                    </a:lnTo>
                    <a:lnTo>
                      <a:pt x="3103" y="3362"/>
                    </a:lnTo>
                    <a:lnTo>
                      <a:pt x="3172" y="3302"/>
                    </a:lnTo>
                    <a:lnTo>
                      <a:pt x="3238" y="3238"/>
                    </a:lnTo>
                    <a:lnTo>
                      <a:pt x="3301" y="3173"/>
                    </a:lnTo>
                    <a:lnTo>
                      <a:pt x="3360" y="3103"/>
                    </a:lnTo>
                    <a:lnTo>
                      <a:pt x="3417" y="3032"/>
                    </a:lnTo>
                    <a:lnTo>
                      <a:pt x="3470" y="2957"/>
                    </a:lnTo>
                    <a:lnTo>
                      <a:pt x="3519" y="2881"/>
                    </a:lnTo>
                    <a:lnTo>
                      <a:pt x="3565" y="2801"/>
                    </a:lnTo>
                    <a:lnTo>
                      <a:pt x="3608" y="2720"/>
                    </a:lnTo>
                    <a:lnTo>
                      <a:pt x="3646" y="2636"/>
                    </a:lnTo>
                    <a:lnTo>
                      <a:pt x="3679" y="2550"/>
                    </a:lnTo>
                    <a:lnTo>
                      <a:pt x="3709" y="2461"/>
                    </a:lnTo>
                    <a:lnTo>
                      <a:pt x="3735" y="2371"/>
                    </a:lnTo>
                    <a:lnTo>
                      <a:pt x="3756" y="2279"/>
                    </a:lnTo>
                    <a:lnTo>
                      <a:pt x="3773" y="2187"/>
                    </a:lnTo>
                    <a:lnTo>
                      <a:pt x="3785" y="2092"/>
                    </a:lnTo>
                    <a:lnTo>
                      <a:pt x="3793" y="1995"/>
                    </a:lnTo>
                    <a:lnTo>
                      <a:pt x="3795" y="1898"/>
                    </a:lnTo>
                    <a:lnTo>
                      <a:pt x="3793" y="1801"/>
                    </a:lnTo>
                    <a:lnTo>
                      <a:pt x="3785" y="1705"/>
                    </a:lnTo>
                    <a:lnTo>
                      <a:pt x="3773" y="1610"/>
                    </a:lnTo>
                    <a:lnTo>
                      <a:pt x="3756" y="1516"/>
                    </a:lnTo>
                    <a:lnTo>
                      <a:pt x="3735" y="1425"/>
                    </a:lnTo>
                    <a:lnTo>
                      <a:pt x="3709" y="1334"/>
                    </a:lnTo>
                    <a:lnTo>
                      <a:pt x="3679" y="1247"/>
                    </a:lnTo>
                    <a:lnTo>
                      <a:pt x="3646" y="1161"/>
                    </a:lnTo>
                    <a:lnTo>
                      <a:pt x="3608" y="1076"/>
                    </a:lnTo>
                    <a:lnTo>
                      <a:pt x="3565" y="994"/>
                    </a:lnTo>
                    <a:lnTo>
                      <a:pt x="3519" y="916"/>
                    </a:lnTo>
                    <a:lnTo>
                      <a:pt x="3470" y="838"/>
                    </a:lnTo>
                    <a:lnTo>
                      <a:pt x="3417" y="764"/>
                    </a:lnTo>
                    <a:lnTo>
                      <a:pt x="3360" y="692"/>
                    </a:lnTo>
                    <a:lnTo>
                      <a:pt x="3301" y="624"/>
                    </a:lnTo>
                    <a:lnTo>
                      <a:pt x="3238" y="557"/>
                    </a:lnTo>
                    <a:lnTo>
                      <a:pt x="3172" y="494"/>
                    </a:lnTo>
                    <a:lnTo>
                      <a:pt x="3103" y="435"/>
                    </a:lnTo>
                    <a:lnTo>
                      <a:pt x="3031" y="378"/>
                    </a:lnTo>
                    <a:lnTo>
                      <a:pt x="2957" y="325"/>
                    </a:lnTo>
                    <a:lnTo>
                      <a:pt x="2880" y="276"/>
                    </a:lnTo>
                    <a:lnTo>
                      <a:pt x="2801" y="230"/>
                    </a:lnTo>
                    <a:lnTo>
                      <a:pt x="2719" y="188"/>
                    </a:lnTo>
                    <a:lnTo>
                      <a:pt x="2634" y="149"/>
                    </a:lnTo>
                    <a:lnTo>
                      <a:pt x="2548" y="116"/>
                    </a:lnTo>
                    <a:lnTo>
                      <a:pt x="2461" y="86"/>
                    </a:lnTo>
                    <a:lnTo>
                      <a:pt x="2371" y="60"/>
                    </a:lnTo>
                    <a:lnTo>
                      <a:pt x="2279" y="39"/>
                    </a:lnTo>
                    <a:lnTo>
                      <a:pt x="2185" y="22"/>
                    </a:lnTo>
                    <a:lnTo>
                      <a:pt x="2091" y="10"/>
                    </a:lnTo>
                    <a:lnTo>
                      <a:pt x="1995" y="2"/>
                    </a:lnTo>
                    <a:lnTo>
                      <a:pt x="1898" y="0"/>
                    </a:lnTo>
                    <a:lnTo>
                      <a:pt x="1801" y="2"/>
                    </a:lnTo>
                    <a:lnTo>
                      <a:pt x="1704" y="10"/>
                    </a:lnTo>
                    <a:lnTo>
                      <a:pt x="1609" y="22"/>
                    </a:lnTo>
                    <a:lnTo>
                      <a:pt x="1516" y="39"/>
                    </a:lnTo>
                    <a:lnTo>
                      <a:pt x="1425" y="60"/>
                    </a:lnTo>
                    <a:lnTo>
                      <a:pt x="1334" y="86"/>
                    </a:lnTo>
                    <a:lnTo>
                      <a:pt x="1246" y="116"/>
                    </a:lnTo>
                    <a:lnTo>
                      <a:pt x="1160" y="149"/>
                    </a:lnTo>
                    <a:lnTo>
                      <a:pt x="1076" y="188"/>
                    </a:lnTo>
                    <a:lnTo>
                      <a:pt x="994" y="230"/>
                    </a:lnTo>
                    <a:lnTo>
                      <a:pt x="915" y="276"/>
                    </a:lnTo>
                    <a:lnTo>
                      <a:pt x="838" y="325"/>
                    </a:lnTo>
                    <a:lnTo>
                      <a:pt x="763" y="378"/>
                    </a:lnTo>
                    <a:lnTo>
                      <a:pt x="692" y="435"/>
                    </a:lnTo>
                    <a:lnTo>
                      <a:pt x="623" y="494"/>
                    </a:lnTo>
                    <a:lnTo>
                      <a:pt x="557" y="557"/>
                    </a:lnTo>
                    <a:lnTo>
                      <a:pt x="494" y="624"/>
                    </a:lnTo>
                    <a:lnTo>
                      <a:pt x="434" y="692"/>
                    </a:lnTo>
                    <a:lnTo>
                      <a:pt x="378" y="764"/>
                    </a:lnTo>
                    <a:lnTo>
                      <a:pt x="325" y="838"/>
                    </a:lnTo>
                    <a:lnTo>
                      <a:pt x="276" y="916"/>
                    </a:lnTo>
                    <a:lnTo>
                      <a:pt x="230" y="994"/>
                    </a:lnTo>
                    <a:lnTo>
                      <a:pt x="188" y="1076"/>
                    </a:lnTo>
                    <a:lnTo>
                      <a:pt x="150" y="1161"/>
                    </a:lnTo>
                    <a:lnTo>
                      <a:pt x="116"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6" y="2550"/>
                    </a:lnTo>
                    <a:lnTo>
                      <a:pt x="150" y="2636"/>
                    </a:lnTo>
                    <a:lnTo>
                      <a:pt x="188" y="2720"/>
                    </a:lnTo>
                    <a:lnTo>
                      <a:pt x="230" y="2801"/>
                    </a:lnTo>
                    <a:lnTo>
                      <a:pt x="276" y="2881"/>
                    </a:lnTo>
                    <a:lnTo>
                      <a:pt x="325" y="2957"/>
                    </a:lnTo>
                    <a:lnTo>
                      <a:pt x="378" y="3032"/>
                    </a:lnTo>
                    <a:lnTo>
                      <a:pt x="434" y="3103"/>
                    </a:lnTo>
                    <a:lnTo>
                      <a:pt x="494" y="3173"/>
                    </a:lnTo>
                    <a:lnTo>
                      <a:pt x="557" y="3238"/>
                    </a:lnTo>
                    <a:lnTo>
                      <a:pt x="623" y="3302"/>
                    </a:lnTo>
                    <a:lnTo>
                      <a:pt x="692" y="3362"/>
                    </a:lnTo>
                    <a:lnTo>
                      <a:pt x="763" y="3417"/>
                    </a:lnTo>
                    <a:lnTo>
                      <a:pt x="838" y="3471"/>
                    </a:lnTo>
                    <a:lnTo>
                      <a:pt x="915" y="3520"/>
                    </a:lnTo>
                    <a:lnTo>
                      <a:pt x="994" y="3565"/>
                    </a:lnTo>
                    <a:lnTo>
                      <a:pt x="1076" y="3608"/>
                    </a:lnTo>
                    <a:lnTo>
                      <a:pt x="1160" y="3646"/>
                    </a:lnTo>
                    <a:lnTo>
                      <a:pt x="1246" y="3680"/>
                    </a:lnTo>
                    <a:lnTo>
                      <a:pt x="1334" y="3710"/>
                    </a:lnTo>
                    <a:lnTo>
                      <a:pt x="1425" y="3735"/>
                    </a:lnTo>
                    <a:lnTo>
                      <a:pt x="1516" y="3757"/>
                    </a:lnTo>
                    <a:lnTo>
                      <a:pt x="1609" y="3774"/>
                    </a:lnTo>
                    <a:lnTo>
                      <a:pt x="1704" y="3786"/>
                    </a:lnTo>
                    <a:lnTo>
                      <a:pt x="1801" y="3793"/>
                    </a:lnTo>
                    <a:lnTo>
                      <a:pt x="1898"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Text Box 58"/>
              <p:cNvSpPr/>
              <p:nvPr/>
            </p:nvSpPr>
            <p:spPr>
              <a:xfrm>
                <a:off x="1879200" y="5333040"/>
                <a:ext cx="147240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Улучшение процессов</a:t>
                </a:r>
                <a:endParaRPr b="0" lang="en-US" sz="1200" spc="-1" strike="noStrike">
                  <a:solidFill>
                    <a:srgbClr val="000000"/>
                  </a:solidFill>
                  <a:latin typeface="Arial"/>
                </a:endParaRPr>
              </a:p>
            </p:txBody>
          </p:sp>
        </p:grpSp>
        <p:grpSp>
          <p:nvGrpSpPr>
            <p:cNvPr id="196" name="Group 151"/>
            <p:cNvGrpSpPr/>
            <p:nvPr/>
          </p:nvGrpSpPr>
          <p:grpSpPr>
            <a:xfrm>
              <a:off x="3821400" y="4966920"/>
              <a:ext cx="1476360" cy="1140120"/>
              <a:chOff x="3821400" y="4966920"/>
              <a:chExt cx="1476360" cy="1140120"/>
            </a:xfrm>
          </p:grpSpPr>
          <p:sp>
            <p:nvSpPr>
              <p:cNvPr id="197" name="Freeform 34"/>
              <p:cNvSpPr/>
              <p:nvPr/>
            </p:nvSpPr>
            <p:spPr>
              <a:xfrm>
                <a:off x="3879360" y="4966920"/>
                <a:ext cx="1372680" cy="1140120"/>
              </a:xfrm>
              <a:custGeom>
                <a:avLst/>
                <a:gdLst>
                  <a:gd name="textAreaLeft" fmla="*/ 0 w 1372680"/>
                  <a:gd name="textAreaRight" fmla="*/ 1372680 w 1372680"/>
                  <a:gd name="textAreaTop" fmla="*/ 0 h 1140120"/>
                  <a:gd name="textAreaBottom" fmla="*/ 1140480 h 1140120"/>
                </a:gdLst>
                <a:ahLst/>
                <a:rect l="textAreaLeft" t="textAreaTop" r="textAreaRight" b="textAreaBottom"/>
                <a:pathLst>
                  <a:path w="3795" h="3795">
                    <a:moveTo>
                      <a:pt x="1897" y="3795"/>
                    </a:moveTo>
                    <a:lnTo>
                      <a:pt x="1994" y="3793"/>
                    </a:lnTo>
                    <a:lnTo>
                      <a:pt x="2090" y="3786"/>
                    </a:lnTo>
                    <a:lnTo>
                      <a:pt x="2185" y="3774"/>
                    </a:lnTo>
                    <a:lnTo>
                      <a:pt x="2279" y="3757"/>
                    </a:lnTo>
                    <a:lnTo>
                      <a:pt x="2370" y="3735"/>
                    </a:lnTo>
                    <a:lnTo>
                      <a:pt x="2460" y="3710"/>
                    </a:lnTo>
                    <a:lnTo>
                      <a:pt x="2548" y="3680"/>
                    </a:lnTo>
                    <a:lnTo>
                      <a:pt x="2634" y="3646"/>
                    </a:lnTo>
                    <a:lnTo>
                      <a:pt x="2718" y="3608"/>
                    </a:lnTo>
                    <a:lnTo>
                      <a:pt x="2800" y="3565"/>
                    </a:lnTo>
                    <a:lnTo>
                      <a:pt x="2879" y="3520"/>
                    </a:lnTo>
                    <a:lnTo>
                      <a:pt x="2956" y="3471"/>
                    </a:lnTo>
                    <a:lnTo>
                      <a:pt x="3031" y="3417"/>
                    </a:lnTo>
                    <a:lnTo>
                      <a:pt x="3103" y="3362"/>
                    </a:lnTo>
                    <a:lnTo>
                      <a:pt x="3171" y="3302"/>
                    </a:lnTo>
                    <a:lnTo>
                      <a:pt x="3238" y="3238"/>
                    </a:lnTo>
                    <a:lnTo>
                      <a:pt x="3300" y="3173"/>
                    </a:lnTo>
                    <a:lnTo>
                      <a:pt x="3360" y="3103"/>
                    </a:lnTo>
                    <a:lnTo>
                      <a:pt x="3416" y="3032"/>
                    </a:lnTo>
                    <a:lnTo>
                      <a:pt x="3470" y="2957"/>
                    </a:lnTo>
                    <a:lnTo>
                      <a:pt x="3519" y="2881"/>
                    </a:lnTo>
                    <a:lnTo>
                      <a:pt x="3565" y="2801"/>
                    </a:lnTo>
                    <a:lnTo>
                      <a:pt x="3606" y="2720"/>
                    </a:lnTo>
                    <a:lnTo>
                      <a:pt x="3644" y="2636"/>
                    </a:lnTo>
                    <a:lnTo>
                      <a:pt x="3679" y="2550"/>
                    </a:lnTo>
                    <a:lnTo>
                      <a:pt x="3708" y="2461"/>
                    </a:lnTo>
                    <a:lnTo>
                      <a:pt x="3735" y="2371"/>
                    </a:lnTo>
                    <a:lnTo>
                      <a:pt x="3755" y="2279"/>
                    </a:lnTo>
                    <a:lnTo>
                      <a:pt x="3772" y="2187"/>
                    </a:lnTo>
                    <a:lnTo>
                      <a:pt x="3785" y="2092"/>
                    </a:lnTo>
                    <a:lnTo>
                      <a:pt x="3791" y="1995"/>
                    </a:lnTo>
                    <a:lnTo>
                      <a:pt x="3795" y="1898"/>
                    </a:lnTo>
                    <a:lnTo>
                      <a:pt x="3791" y="1801"/>
                    </a:lnTo>
                    <a:lnTo>
                      <a:pt x="3785" y="1705"/>
                    </a:lnTo>
                    <a:lnTo>
                      <a:pt x="3772" y="1610"/>
                    </a:lnTo>
                    <a:lnTo>
                      <a:pt x="3755" y="1516"/>
                    </a:lnTo>
                    <a:lnTo>
                      <a:pt x="3735" y="1425"/>
                    </a:lnTo>
                    <a:lnTo>
                      <a:pt x="3708" y="1334"/>
                    </a:lnTo>
                    <a:lnTo>
                      <a:pt x="3679" y="1247"/>
                    </a:lnTo>
                    <a:lnTo>
                      <a:pt x="3644" y="1161"/>
                    </a:lnTo>
                    <a:lnTo>
                      <a:pt x="3606" y="1076"/>
                    </a:lnTo>
                    <a:lnTo>
                      <a:pt x="3565" y="994"/>
                    </a:lnTo>
                    <a:lnTo>
                      <a:pt x="3519" y="916"/>
                    </a:lnTo>
                    <a:lnTo>
                      <a:pt x="3470" y="838"/>
                    </a:lnTo>
                    <a:lnTo>
                      <a:pt x="3416" y="764"/>
                    </a:lnTo>
                    <a:lnTo>
                      <a:pt x="3360" y="692"/>
                    </a:lnTo>
                    <a:lnTo>
                      <a:pt x="3300" y="624"/>
                    </a:lnTo>
                    <a:lnTo>
                      <a:pt x="3238" y="557"/>
                    </a:lnTo>
                    <a:lnTo>
                      <a:pt x="3171" y="494"/>
                    </a:lnTo>
                    <a:lnTo>
                      <a:pt x="3103" y="435"/>
                    </a:lnTo>
                    <a:lnTo>
                      <a:pt x="3031" y="378"/>
                    </a:lnTo>
                    <a:lnTo>
                      <a:pt x="2956" y="325"/>
                    </a:lnTo>
                    <a:lnTo>
                      <a:pt x="2879" y="276"/>
                    </a:lnTo>
                    <a:lnTo>
                      <a:pt x="2800" y="230"/>
                    </a:lnTo>
                    <a:lnTo>
                      <a:pt x="2718" y="188"/>
                    </a:lnTo>
                    <a:lnTo>
                      <a:pt x="2634" y="149"/>
                    </a:lnTo>
                    <a:lnTo>
                      <a:pt x="2548" y="116"/>
                    </a:lnTo>
                    <a:lnTo>
                      <a:pt x="2460" y="86"/>
                    </a:lnTo>
                    <a:lnTo>
                      <a:pt x="2370" y="60"/>
                    </a:lnTo>
                    <a:lnTo>
                      <a:pt x="2279" y="39"/>
                    </a:lnTo>
                    <a:lnTo>
                      <a:pt x="2185" y="22"/>
                    </a:lnTo>
                    <a:lnTo>
                      <a:pt x="2090" y="10"/>
                    </a:lnTo>
                    <a:lnTo>
                      <a:pt x="1994" y="2"/>
                    </a:lnTo>
                    <a:lnTo>
                      <a:pt x="1897" y="0"/>
                    </a:lnTo>
                    <a:lnTo>
                      <a:pt x="1799" y="2"/>
                    </a:lnTo>
                    <a:lnTo>
                      <a:pt x="1703" y="10"/>
                    </a:lnTo>
                    <a:lnTo>
                      <a:pt x="1608" y="22"/>
                    </a:lnTo>
                    <a:lnTo>
                      <a:pt x="1516" y="39"/>
                    </a:lnTo>
                    <a:lnTo>
                      <a:pt x="1423" y="60"/>
                    </a:lnTo>
                    <a:lnTo>
                      <a:pt x="1334" y="86"/>
                    </a:lnTo>
                    <a:lnTo>
                      <a:pt x="1245" y="116"/>
                    </a:lnTo>
                    <a:lnTo>
                      <a:pt x="1159" y="149"/>
                    </a:lnTo>
                    <a:lnTo>
                      <a:pt x="1075" y="188"/>
                    </a:lnTo>
                    <a:lnTo>
                      <a:pt x="994" y="230"/>
                    </a:lnTo>
                    <a:lnTo>
                      <a:pt x="914" y="276"/>
                    </a:lnTo>
                    <a:lnTo>
                      <a:pt x="837" y="325"/>
                    </a:lnTo>
                    <a:lnTo>
                      <a:pt x="763" y="378"/>
                    </a:lnTo>
                    <a:lnTo>
                      <a:pt x="691" y="435"/>
                    </a:lnTo>
                    <a:lnTo>
                      <a:pt x="622" y="494"/>
                    </a:lnTo>
                    <a:lnTo>
                      <a:pt x="557" y="557"/>
                    </a:lnTo>
                    <a:lnTo>
                      <a:pt x="494" y="624"/>
                    </a:lnTo>
                    <a:lnTo>
                      <a:pt x="434" y="692"/>
                    </a:lnTo>
                    <a:lnTo>
                      <a:pt x="377" y="764"/>
                    </a:lnTo>
                    <a:lnTo>
                      <a:pt x="325" y="838"/>
                    </a:lnTo>
                    <a:lnTo>
                      <a:pt x="274" y="916"/>
                    </a:lnTo>
                    <a:lnTo>
                      <a:pt x="229" y="994"/>
                    </a:lnTo>
                    <a:lnTo>
                      <a:pt x="187" y="1076"/>
                    </a:lnTo>
                    <a:lnTo>
                      <a:pt x="149" y="1161"/>
                    </a:lnTo>
                    <a:lnTo>
                      <a:pt x="115" y="1247"/>
                    </a:lnTo>
                    <a:lnTo>
                      <a:pt x="85" y="1334"/>
                    </a:lnTo>
                    <a:lnTo>
                      <a:pt x="60" y="1425"/>
                    </a:lnTo>
                    <a:lnTo>
                      <a:pt x="38" y="1516"/>
                    </a:lnTo>
                    <a:lnTo>
                      <a:pt x="22" y="1610"/>
                    </a:lnTo>
                    <a:lnTo>
                      <a:pt x="10" y="1705"/>
                    </a:lnTo>
                    <a:lnTo>
                      <a:pt x="2" y="1801"/>
                    </a:lnTo>
                    <a:lnTo>
                      <a:pt x="0" y="1898"/>
                    </a:lnTo>
                    <a:lnTo>
                      <a:pt x="2" y="1995"/>
                    </a:lnTo>
                    <a:lnTo>
                      <a:pt x="10" y="2092"/>
                    </a:lnTo>
                    <a:lnTo>
                      <a:pt x="22" y="2187"/>
                    </a:lnTo>
                    <a:lnTo>
                      <a:pt x="38" y="2279"/>
                    </a:lnTo>
                    <a:lnTo>
                      <a:pt x="60" y="2371"/>
                    </a:lnTo>
                    <a:lnTo>
                      <a:pt x="85" y="2461"/>
                    </a:lnTo>
                    <a:lnTo>
                      <a:pt x="115" y="2550"/>
                    </a:lnTo>
                    <a:lnTo>
                      <a:pt x="149" y="2636"/>
                    </a:lnTo>
                    <a:lnTo>
                      <a:pt x="187" y="2720"/>
                    </a:lnTo>
                    <a:lnTo>
                      <a:pt x="229" y="2801"/>
                    </a:lnTo>
                    <a:lnTo>
                      <a:pt x="274" y="2881"/>
                    </a:lnTo>
                    <a:lnTo>
                      <a:pt x="325" y="2957"/>
                    </a:lnTo>
                    <a:lnTo>
                      <a:pt x="377" y="3032"/>
                    </a:lnTo>
                    <a:lnTo>
                      <a:pt x="434" y="3103"/>
                    </a:lnTo>
                    <a:lnTo>
                      <a:pt x="494" y="3173"/>
                    </a:lnTo>
                    <a:lnTo>
                      <a:pt x="557" y="3238"/>
                    </a:lnTo>
                    <a:lnTo>
                      <a:pt x="622" y="3302"/>
                    </a:lnTo>
                    <a:lnTo>
                      <a:pt x="691" y="3362"/>
                    </a:lnTo>
                    <a:lnTo>
                      <a:pt x="763" y="3417"/>
                    </a:lnTo>
                    <a:lnTo>
                      <a:pt x="837" y="3471"/>
                    </a:lnTo>
                    <a:lnTo>
                      <a:pt x="914" y="3520"/>
                    </a:lnTo>
                    <a:lnTo>
                      <a:pt x="994" y="3565"/>
                    </a:lnTo>
                    <a:lnTo>
                      <a:pt x="1075" y="3608"/>
                    </a:lnTo>
                    <a:lnTo>
                      <a:pt x="1159" y="3646"/>
                    </a:lnTo>
                    <a:lnTo>
                      <a:pt x="1245" y="3680"/>
                    </a:lnTo>
                    <a:lnTo>
                      <a:pt x="1334" y="3710"/>
                    </a:lnTo>
                    <a:lnTo>
                      <a:pt x="1423" y="3735"/>
                    </a:lnTo>
                    <a:lnTo>
                      <a:pt x="1516" y="3757"/>
                    </a:lnTo>
                    <a:lnTo>
                      <a:pt x="1608" y="3774"/>
                    </a:lnTo>
                    <a:lnTo>
                      <a:pt x="1703" y="3786"/>
                    </a:lnTo>
                    <a:lnTo>
                      <a:pt x="1799"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61"/>
              <p:cNvSpPr/>
              <p:nvPr/>
            </p:nvSpPr>
            <p:spPr>
              <a:xfrm>
                <a:off x="3821400" y="5333040"/>
                <a:ext cx="1476360" cy="459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Обслуживание клиентов</a:t>
                </a:r>
                <a:endParaRPr b="0" lang="en-US" sz="1200" spc="-1" strike="noStrike">
                  <a:solidFill>
                    <a:srgbClr val="000000"/>
                  </a:solidFill>
                  <a:latin typeface="Arial"/>
                </a:endParaRPr>
              </a:p>
            </p:txBody>
          </p:sp>
        </p:grpSp>
        <p:grpSp>
          <p:nvGrpSpPr>
            <p:cNvPr id="199" name="Group 154"/>
            <p:cNvGrpSpPr/>
            <p:nvPr/>
          </p:nvGrpSpPr>
          <p:grpSpPr>
            <a:xfrm>
              <a:off x="5759640" y="5032080"/>
              <a:ext cx="1476360" cy="1139760"/>
              <a:chOff x="5759640" y="5032080"/>
              <a:chExt cx="1476360" cy="1139760"/>
            </a:xfrm>
          </p:grpSpPr>
          <p:sp>
            <p:nvSpPr>
              <p:cNvPr id="200" name="Freeform 63"/>
              <p:cNvSpPr/>
              <p:nvPr/>
            </p:nvSpPr>
            <p:spPr>
              <a:xfrm>
                <a:off x="5774400" y="5032080"/>
                <a:ext cx="1374480" cy="1139760"/>
              </a:xfrm>
              <a:custGeom>
                <a:avLst/>
                <a:gdLst>
                  <a:gd name="textAreaLeft" fmla="*/ 0 w 1374480"/>
                  <a:gd name="textAreaRight" fmla="*/ 1374840 w 1374480"/>
                  <a:gd name="textAreaTop" fmla="*/ 0 h 1139760"/>
                  <a:gd name="textAreaBottom" fmla="*/ 1140120 h 1139760"/>
                </a:gdLst>
                <a:ahLst/>
                <a:rect l="textAreaLeft" t="textAreaTop" r="textAreaRight" b="textAreaBottom"/>
                <a:pathLst>
                  <a:path w="3795" h="3795">
                    <a:moveTo>
                      <a:pt x="1897" y="3795"/>
                    </a:moveTo>
                    <a:lnTo>
                      <a:pt x="1995" y="3793"/>
                    </a:lnTo>
                    <a:lnTo>
                      <a:pt x="2091" y="3786"/>
                    </a:lnTo>
                    <a:lnTo>
                      <a:pt x="2186" y="3774"/>
                    </a:lnTo>
                    <a:lnTo>
                      <a:pt x="2279" y="3757"/>
                    </a:lnTo>
                    <a:lnTo>
                      <a:pt x="2371" y="3735"/>
                    </a:lnTo>
                    <a:lnTo>
                      <a:pt x="2461" y="3710"/>
                    </a:lnTo>
                    <a:lnTo>
                      <a:pt x="2549" y="3680"/>
                    </a:lnTo>
                    <a:lnTo>
                      <a:pt x="2635" y="3646"/>
                    </a:lnTo>
                    <a:lnTo>
                      <a:pt x="2719" y="3608"/>
                    </a:lnTo>
                    <a:lnTo>
                      <a:pt x="2801" y="3565"/>
                    </a:lnTo>
                    <a:lnTo>
                      <a:pt x="2880" y="3520"/>
                    </a:lnTo>
                    <a:lnTo>
                      <a:pt x="2958" y="3471"/>
                    </a:lnTo>
                    <a:lnTo>
                      <a:pt x="3032" y="3417"/>
                    </a:lnTo>
                    <a:lnTo>
                      <a:pt x="3104" y="3362"/>
                    </a:lnTo>
                    <a:lnTo>
                      <a:pt x="3172" y="3302"/>
                    </a:lnTo>
                    <a:lnTo>
                      <a:pt x="3238" y="3238"/>
                    </a:lnTo>
                    <a:lnTo>
                      <a:pt x="3301" y="3173"/>
                    </a:lnTo>
                    <a:lnTo>
                      <a:pt x="3361" y="3103"/>
                    </a:lnTo>
                    <a:lnTo>
                      <a:pt x="3418" y="3032"/>
                    </a:lnTo>
                    <a:lnTo>
                      <a:pt x="3470" y="2957"/>
                    </a:lnTo>
                    <a:lnTo>
                      <a:pt x="3520" y="2881"/>
                    </a:lnTo>
                    <a:lnTo>
                      <a:pt x="3566" y="2801"/>
                    </a:lnTo>
                    <a:lnTo>
                      <a:pt x="3607" y="2720"/>
                    </a:lnTo>
                    <a:lnTo>
                      <a:pt x="3645" y="2636"/>
                    </a:lnTo>
                    <a:lnTo>
                      <a:pt x="3679" y="2550"/>
                    </a:lnTo>
                    <a:lnTo>
                      <a:pt x="3710" y="2461"/>
                    </a:lnTo>
                    <a:lnTo>
                      <a:pt x="3735" y="2371"/>
                    </a:lnTo>
                    <a:lnTo>
                      <a:pt x="3756" y="2279"/>
                    </a:lnTo>
                    <a:lnTo>
                      <a:pt x="3773" y="2187"/>
                    </a:lnTo>
                    <a:lnTo>
                      <a:pt x="3785" y="2092"/>
                    </a:lnTo>
                    <a:lnTo>
                      <a:pt x="3792" y="1995"/>
                    </a:lnTo>
                    <a:lnTo>
                      <a:pt x="3795" y="1898"/>
                    </a:lnTo>
                    <a:lnTo>
                      <a:pt x="3792" y="1801"/>
                    </a:lnTo>
                    <a:lnTo>
                      <a:pt x="3785" y="1705"/>
                    </a:lnTo>
                    <a:lnTo>
                      <a:pt x="3773" y="1610"/>
                    </a:lnTo>
                    <a:lnTo>
                      <a:pt x="3756" y="1516"/>
                    </a:lnTo>
                    <a:lnTo>
                      <a:pt x="3735" y="1425"/>
                    </a:lnTo>
                    <a:lnTo>
                      <a:pt x="3710" y="1334"/>
                    </a:lnTo>
                    <a:lnTo>
                      <a:pt x="3679" y="1247"/>
                    </a:lnTo>
                    <a:lnTo>
                      <a:pt x="3645" y="1161"/>
                    </a:lnTo>
                    <a:lnTo>
                      <a:pt x="3607" y="1076"/>
                    </a:lnTo>
                    <a:lnTo>
                      <a:pt x="3566" y="994"/>
                    </a:lnTo>
                    <a:lnTo>
                      <a:pt x="3520" y="916"/>
                    </a:lnTo>
                    <a:lnTo>
                      <a:pt x="3470" y="838"/>
                    </a:lnTo>
                    <a:lnTo>
                      <a:pt x="3418" y="764"/>
                    </a:lnTo>
                    <a:lnTo>
                      <a:pt x="3361" y="692"/>
                    </a:lnTo>
                    <a:lnTo>
                      <a:pt x="3301" y="624"/>
                    </a:lnTo>
                    <a:lnTo>
                      <a:pt x="3238" y="557"/>
                    </a:lnTo>
                    <a:lnTo>
                      <a:pt x="3172" y="494"/>
                    </a:lnTo>
                    <a:lnTo>
                      <a:pt x="3104" y="435"/>
                    </a:lnTo>
                    <a:lnTo>
                      <a:pt x="3032" y="378"/>
                    </a:lnTo>
                    <a:lnTo>
                      <a:pt x="2958" y="325"/>
                    </a:lnTo>
                    <a:lnTo>
                      <a:pt x="2880" y="276"/>
                    </a:lnTo>
                    <a:lnTo>
                      <a:pt x="2801" y="230"/>
                    </a:lnTo>
                    <a:lnTo>
                      <a:pt x="2719" y="188"/>
                    </a:lnTo>
                    <a:lnTo>
                      <a:pt x="2635" y="149"/>
                    </a:lnTo>
                    <a:lnTo>
                      <a:pt x="2549" y="116"/>
                    </a:lnTo>
                    <a:lnTo>
                      <a:pt x="2461" y="86"/>
                    </a:lnTo>
                    <a:lnTo>
                      <a:pt x="2371" y="60"/>
                    </a:lnTo>
                    <a:lnTo>
                      <a:pt x="2279" y="39"/>
                    </a:lnTo>
                    <a:lnTo>
                      <a:pt x="2186" y="22"/>
                    </a:lnTo>
                    <a:lnTo>
                      <a:pt x="2091" y="10"/>
                    </a:lnTo>
                    <a:lnTo>
                      <a:pt x="1995" y="2"/>
                    </a:lnTo>
                    <a:lnTo>
                      <a:pt x="1897" y="0"/>
                    </a:lnTo>
                    <a:lnTo>
                      <a:pt x="1800" y="2"/>
                    </a:lnTo>
                    <a:lnTo>
                      <a:pt x="1704" y="10"/>
                    </a:lnTo>
                    <a:lnTo>
                      <a:pt x="1610" y="22"/>
                    </a:lnTo>
                    <a:lnTo>
                      <a:pt x="1516" y="39"/>
                    </a:lnTo>
                    <a:lnTo>
                      <a:pt x="1424" y="60"/>
                    </a:lnTo>
                    <a:lnTo>
                      <a:pt x="1335" y="86"/>
                    </a:lnTo>
                    <a:lnTo>
                      <a:pt x="1247" y="116"/>
                    </a:lnTo>
                    <a:lnTo>
                      <a:pt x="1161" y="149"/>
                    </a:lnTo>
                    <a:lnTo>
                      <a:pt x="1077" y="188"/>
                    </a:lnTo>
                    <a:lnTo>
                      <a:pt x="995" y="230"/>
                    </a:lnTo>
                    <a:lnTo>
                      <a:pt x="915" y="276"/>
                    </a:lnTo>
                    <a:lnTo>
                      <a:pt x="838" y="325"/>
                    </a:lnTo>
                    <a:lnTo>
                      <a:pt x="764" y="378"/>
                    </a:lnTo>
                    <a:lnTo>
                      <a:pt x="692" y="435"/>
                    </a:lnTo>
                    <a:lnTo>
                      <a:pt x="623" y="494"/>
                    </a:lnTo>
                    <a:lnTo>
                      <a:pt x="557" y="557"/>
                    </a:lnTo>
                    <a:lnTo>
                      <a:pt x="495" y="624"/>
                    </a:lnTo>
                    <a:lnTo>
                      <a:pt x="435" y="692"/>
                    </a:lnTo>
                    <a:lnTo>
                      <a:pt x="378" y="764"/>
                    </a:lnTo>
                    <a:lnTo>
                      <a:pt x="325" y="838"/>
                    </a:lnTo>
                    <a:lnTo>
                      <a:pt x="276" y="916"/>
                    </a:lnTo>
                    <a:lnTo>
                      <a:pt x="230" y="994"/>
                    </a:lnTo>
                    <a:lnTo>
                      <a:pt x="187" y="1076"/>
                    </a:lnTo>
                    <a:lnTo>
                      <a:pt x="150" y="1161"/>
                    </a:lnTo>
                    <a:lnTo>
                      <a:pt x="115" y="1247"/>
                    </a:lnTo>
                    <a:lnTo>
                      <a:pt x="86" y="1334"/>
                    </a:lnTo>
                    <a:lnTo>
                      <a:pt x="60" y="1425"/>
                    </a:lnTo>
                    <a:lnTo>
                      <a:pt x="39" y="1516"/>
                    </a:lnTo>
                    <a:lnTo>
                      <a:pt x="23" y="1610"/>
                    </a:lnTo>
                    <a:lnTo>
                      <a:pt x="10" y="1705"/>
                    </a:lnTo>
                    <a:lnTo>
                      <a:pt x="3" y="1801"/>
                    </a:lnTo>
                    <a:lnTo>
                      <a:pt x="0" y="1898"/>
                    </a:lnTo>
                    <a:lnTo>
                      <a:pt x="3" y="1995"/>
                    </a:lnTo>
                    <a:lnTo>
                      <a:pt x="10" y="2092"/>
                    </a:lnTo>
                    <a:lnTo>
                      <a:pt x="23" y="2187"/>
                    </a:lnTo>
                    <a:lnTo>
                      <a:pt x="39" y="2279"/>
                    </a:lnTo>
                    <a:lnTo>
                      <a:pt x="60" y="2371"/>
                    </a:lnTo>
                    <a:lnTo>
                      <a:pt x="86" y="2461"/>
                    </a:lnTo>
                    <a:lnTo>
                      <a:pt x="115" y="2550"/>
                    </a:lnTo>
                    <a:lnTo>
                      <a:pt x="150" y="2636"/>
                    </a:lnTo>
                    <a:lnTo>
                      <a:pt x="187" y="2720"/>
                    </a:lnTo>
                    <a:lnTo>
                      <a:pt x="230" y="2801"/>
                    </a:lnTo>
                    <a:lnTo>
                      <a:pt x="276" y="2881"/>
                    </a:lnTo>
                    <a:lnTo>
                      <a:pt x="325" y="2957"/>
                    </a:lnTo>
                    <a:lnTo>
                      <a:pt x="378" y="3032"/>
                    </a:lnTo>
                    <a:lnTo>
                      <a:pt x="435" y="3103"/>
                    </a:lnTo>
                    <a:lnTo>
                      <a:pt x="495" y="3173"/>
                    </a:lnTo>
                    <a:lnTo>
                      <a:pt x="557" y="3238"/>
                    </a:lnTo>
                    <a:lnTo>
                      <a:pt x="623" y="3302"/>
                    </a:lnTo>
                    <a:lnTo>
                      <a:pt x="692" y="3362"/>
                    </a:lnTo>
                    <a:lnTo>
                      <a:pt x="764" y="3417"/>
                    </a:lnTo>
                    <a:lnTo>
                      <a:pt x="838" y="3471"/>
                    </a:lnTo>
                    <a:lnTo>
                      <a:pt x="915" y="3520"/>
                    </a:lnTo>
                    <a:lnTo>
                      <a:pt x="995" y="3565"/>
                    </a:lnTo>
                    <a:lnTo>
                      <a:pt x="1077" y="3608"/>
                    </a:lnTo>
                    <a:lnTo>
                      <a:pt x="1161" y="3646"/>
                    </a:lnTo>
                    <a:lnTo>
                      <a:pt x="1247" y="3680"/>
                    </a:lnTo>
                    <a:lnTo>
                      <a:pt x="1335" y="3710"/>
                    </a:lnTo>
                    <a:lnTo>
                      <a:pt x="1424" y="3735"/>
                    </a:lnTo>
                    <a:lnTo>
                      <a:pt x="1516" y="3757"/>
                    </a:lnTo>
                    <a:lnTo>
                      <a:pt x="1610" y="3774"/>
                    </a:lnTo>
                    <a:lnTo>
                      <a:pt x="1704" y="3786"/>
                    </a:lnTo>
                    <a:lnTo>
                      <a:pt x="1800" y="3793"/>
                    </a:lnTo>
                    <a:lnTo>
                      <a:pt x="1897" y="3795"/>
                    </a:lnTo>
                    <a:close/>
                  </a:path>
                </a:pathLst>
              </a:custGeom>
              <a:solidFill>
                <a:srgbClr val="0000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Text Box 64"/>
              <p:cNvSpPr/>
              <p:nvPr/>
            </p:nvSpPr>
            <p:spPr>
              <a:xfrm>
                <a:off x="5759640" y="5234400"/>
                <a:ext cx="1476360" cy="641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ffffff"/>
                    </a:solidFill>
                    <a:latin typeface="Arial"/>
                  </a:rPr>
                  <a:t>Помещения и инфраструктура, безопасность</a:t>
                </a:r>
                <a:endParaRPr b="0" lang="en-US" sz="1200" spc="-1" strike="noStrike">
                  <a:solidFill>
                    <a:srgbClr val="000000"/>
                  </a:solidFill>
                  <a:latin typeface="Arial"/>
                </a:endParaRPr>
              </a:p>
            </p:txBody>
          </p:sp>
        </p:grpSp>
      </p:grpSp>
      <p:sp>
        <p:nvSpPr>
          <p:cNvPr id="202" name="Footer Placeholder 2"/>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03" name="Slide Number Placeholder 3"/>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B7137-1F3E-4CAE-9A9A-B505CEBCF53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9"/>
          <p:cNvSpPr/>
          <p:nvPr/>
        </p:nvSpPr>
        <p:spPr>
          <a:xfrm>
            <a:off x="914400" y="4038480"/>
            <a:ext cx="7772400" cy="21337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1"/>
          <p:cNvSpPr>
            <a:spLocks noGrp="1"/>
          </p:cNvSpPr>
          <p:nvPr>
            <p:ph type="title"/>
          </p:nvPr>
        </p:nvSpPr>
        <p:spPr>
          <a:xfrm>
            <a:off x="456840" y="380520"/>
            <a:ext cx="8077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7d"/>
                </a:solidFill>
                <a:latin typeface="Verdana"/>
              </a:rPr>
              <a:t>Персонал лаборатории</a:t>
            </a:r>
            <a:endParaRPr b="0" lang="en-US" sz="3200" spc="-1" strike="noStrike">
              <a:solidFill>
                <a:srgbClr val="00007d"/>
              </a:solidFill>
              <a:latin typeface="Verdana"/>
            </a:endParaRPr>
          </a:p>
        </p:txBody>
      </p:sp>
      <p:sp>
        <p:nvSpPr>
          <p:cNvPr id="206" name="PlaceHolder 2"/>
          <p:cNvSpPr>
            <a:spLocks noGrp="1"/>
          </p:cNvSpPr>
          <p:nvPr>
            <p:ph/>
          </p:nvPr>
        </p:nvSpPr>
        <p:spPr>
          <a:xfrm>
            <a:off x="457200" y="1224000"/>
            <a:ext cx="8610480" cy="2357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лавный актив лаборатории</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важное звено системы качества</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артнер охраны здоровья населения</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квалифицированные специалисты</a:t>
            </a:r>
            <a:endParaRPr b="0" lang="en-US" sz="3200" spc="-1" strike="noStrike">
              <a:solidFill>
                <a:srgbClr val="000000"/>
              </a:solidFill>
              <a:latin typeface="Verdana"/>
            </a:endParaRPr>
          </a:p>
        </p:txBody>
      </p:sp>
      <p:pic>
        <p:nvPicPr>
          <p:cNvPr id="207" name="Picture 5" descr=""/>
          <p:cNvPicPr/>
          <p:nvPr/>
        </p:nvPicPr>
        <p:blipFill>
          <a:blip r:embed="rId1"/>
          <a:stretch/>
        </p:blipFill>
        <p:spPr>
          <a:xfrm>
            <a:off x="4038480" y="3886200"/>
            <a:ext cx="1828800" cy="2438280"/>
          </a:xfrm>
          <a:prstGeom prst="rect">
            <a:avLst/>
          </a:prstGeom>
          <a:ln w="0">
            <a:noFill/>
          </a:ln>
        </p:spPr>
      </p:pic>
      <p:pic>
        <p:nvPicPr>
          <p:cNvPr id="208" name="Picture 7" descr="Equipment_3"/>
          <p:cNvPicPr/>
          <p:nvPr/>
        </p:nvPicPr>
        <p:blipFill>
          <a:blip r:embed="rId2"/>
          <a:stretch/>
        </p:blipFill>
        <p:spPr>
          <a:xfrm>
            <a:off x="6172200" y="3962520"/>
            <a:ext cx="1719360" cy="2361960"/>
          </a:xfrm>
          <a:prstGeom prst="rect">
            <a:avLst/>
          </a:prstGeom>
          <a:ln w="0">
            <a:noFill/>
          </a:ln>
        </p:spPr>
      </p:pic>
      <p:pic>
        <p:nvPicPr>
          <p:cNvPr id="209" name="Picture 8" descr="pipetting"/>
          <p:cNvPicPr/>
          <p:nvPr/>
        </p:nvPicPr>
        <p:blipFill>
          <a:blip r:embed="rId3"/>
          <a:stretch/>
        </p:blipFill>
        <p:spPr>
          <a:xfrm>
            <a:off x="2362320" y="3962520"/>
            <a:ext cx="1460520" cy="2361960"/>
          </a:xfrm>
          <a:prstGeom prst="rect">
            <a:avLst/>
          </a:prstGeom>
          <a:ln w="0">
            <a:noFill/>
          </a:ln>
        </p:spPr>
      </p:pic>
      <p:sp>
        <p:nvSpPr>
          <p:cNvPr id="210" name="Slide Number Placeholder 6"/>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59388-E887-46CF-A464-C5C83EDCCB1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1" name="Footer Placeholder 7"/>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
        <p:nvSpPr>
          <p:cNvPr id="213" name="Slide Number Placeholder 2"/>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AAF36-812C-42BA-871E-8B2C6B882B1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4" name="Slide Number Placeholder 2"/>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87901-1BE6-44BE-85AC-2E7027EAD749}" type="slidenum">
              <a:rPr b="0" lang="en-US" sz="1400" spc="-1" strike="noStrike">
                <a:solidFill>
                  <a:srgbClr val="ffffcc"/>
                </a:solidFill>
                <a:latin typeface="Arial"/>
              </a:rPr>
              <a:t>&lt;number&gt;</a:t>
            </a:fld>
            <a:endParaRPr b="0" lang="en-US" sz="1400" spc="-1" strike="noStrike">
              <a:solidFill>
                <a:srgbClr val="000000"/>
              </a:solidFill>
              <a:latin typeface="Arial"/>
            </a:endParaRPr>
          </a:p>
        </p:txBody>
      </p:sp>
      <p:grpSp>
        <p:nvGrpSpPr>
          <p:cNvPr id="215" name="Group 19"/>
          <p:cNvGrpSpPr/>
          <p:nvPr/>
        </p:nvGrpSpPr>
        <p:grpSpPr>
          <a:xfrm>
            <a:off x="304920" y="457200"/>
            <a:ext cx="8686800" cy="5732280"/>
            <a:chOff x="304920" y="457200"/>
            <a:chExt cx="8686800" cy="5732280"/>
          </a:xfrm>
        </p:grpSpPr>
        <p:sp>
          <p:nvSpPr>
            <p:cNvPr id="216" name="Line 17"/>
            <p:cNvSpPr/>
            <p:nvPr/>
          </p:nvSpPr>
          <p:spPr>
            <a:xfrm flipH="1" flipV="1">
              <a:off x="3364560" y="1850400"/>
              <a:ext cx="801720" cy="1067760"/>
            </a:xfrm>
            <a:custGeom>
              <a:avLst/>
              <a:gdLst/>
              <a:ahLst/>
              <a:rect l="l" t="t" r="r" b="b"/>
              <a:pathLst>
                <a:path w="801806" h="1067937">
                  <a:moveTo>
                    <a:pt x="0" y="0"/>
                  </a:moveTo>
                  <a:cubicBezTo>
                    <a:pt x="76200" y="228600"/>
                    <a:pt x="725606" y="839337"/>
                    <a:pt x="801806" y="1067937"/>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7" name="_s1030"/>
            <p:cNvSpPr/>
            <p:nvPr/>
          </p:nvSpPr>
          <p:spPr>
            <a:xfrm flipH="1">
              <a:off x="2819160" y="3505320"/>
              <a:ext cx="973080" cy="38088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nvGrpSpPr>
            <p:cNvPr id="218" name="Diagram 2"/>
            <p:cNvGrpSpPr/>
            <p:nvPr/>
          </p:nvGrpSpPr>
          <p:grpSpPr>
            <a:xfrm>
              <a:off x="304920" y="1582560"/>
              <a:ext cx="8686800" cy="4606920"/>
              <a:chOff x="304920" y="1582560"/>
              <a:chExt cx="8686800" cy="4606920"/>
            </a:xfrm>
          </p:grpSpPr>
          <p:sp>
            <p:nvSpPr>
              <p:cNvPr id="219" name="_s1028"/>
              <p:cNvSpPr/>
              <p:nvPr/>
            </p:nvSpPr>
            <p:spPr>
              <a:xfrm flipH="1" flipV="1">
                <a:off x="3028680" y="2736360"/>
                <a:ext cx="763560" cy="345960"/>
              </a:xfrm>
              <a:prstGeom prst="line">
                <a:avLst/>
              </a:prstGeom>
              <a:ln w="38160">
                <a:solidFill>
                  <a:srgbClr val="ffffcc"/>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0" name="_s1029"/>
              <p:cNvSpPr/>
              <p:nvPr/>
            </p:nvSpPr>
            <p:spPr>
              <a:xfrm>
                <a:off x="304920" y="2188800"/>
                <a:ext cx="2743200" cy="11638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a:rPr>
                  <a:t>Аттестация</a:t>
                </a:r>
                <a:endParaRPr b="0" lang="en-US" sz="2400" spc="-1" strike="noStrike">
                  <a:solidFill>
                    <a:srgbClr val="000000"/>
                  </a:solidFill>
                  <a:latin typeface="Arial"/>
                </a:endParaRPr>
              </a:p>
            </p:txBody>
          </p:sp>
          <p:sp>
            <p:nvSpPr>
              <p:cNvPr id="221" name="_s1030"/>
              <p:cNvSpPr/>
              <p:nvPr/>
            </p:nvSpPr>
            <p:spPr>
              <a:xfrm flipH="1">
                <a:off x="3414960" y="3765240"/>
                <a:ext cx="905040" cy="1233720"/>
              </a:xfrm>
              <a:custGeom>
                <a:avLst/>
                <a:gdLst/>
                <a:ahLst/>
                <a:rect l="l" t="t" r="r" b="b"/>
                <a:pathLst>
                  <a:path w="906021" h="1234152">
                    <a:moveTo>
                      <a:pt x="0" y="0"/>
                    </a:moveTo>
                    <a:cubicBezTo>
                      <a:pt x="151871" y="279400"/>
                      <a:pt x="754150" y="954752"/>
                      <a:pt x="906021" y="12341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031"/>
              <p:cNvSpPr/>
              <p:nvPr/>
            </p:nvSpPr>
            <p:spPr>
              <a:xfrm>
                <a:off x="304920" y="3560400"/>
                <a:ext cx="2822760" cy="131616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Продолжение образования</a:t>
                </a:r>
                <a:endParaRPr b="0" lang="en-US" sz="2300" spc="-1" strike="noStrike">
                  <a:solidFill>
                    <a:srgbClr val="000000"/>
                  </a:solidFill>
                  <a:latin typeface="Arial"/>
                </a:endParaRPr>
              </a:p>
            </p:txBody>
          </p:sp>
          <p:sp>
            <p:nvSpPr>
              <p:cNvPr id="223" name="_s1032"/>
              <p:cNvSpPr/>
              <p:nvPr/>
            </p:nvSpPr>
            <p:spPr>
              <a:xfrm>
                <a:off x="5867640" y="3504960"/>
                <a:ext cx="990720" cy="76212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1033"/>
              <p:cNvSpPr/>
              <p:nvPr/>
            </p:nvSpPr>
            <p:spPr>
              <a:xfrm>
                <a:off x="1447920" y="4876560"/>
                <a:ext cx="3429000" cy="13129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ценка компетенции</a:t>
                </a:r>
                <a:endParaRPr b="0" lang="en-US" sz="2300" spc="-1" strike="noStrike">
                  <a:solidFill>
                    <a:srgbClr val="000000"/>
                  </a:solidFill>
                  <a:latin typeface="Arial"/>
                </a:endParaRPr>
              </a:p>
            </p:txBody>
          </p:sp>
          <p:sp>
            <p:nvSpPr>
              <p:cNvPr id="225" name="_s1034"/>
              <p:cNvSpPr/>
              <p:nvPr/>
            </p:nvSpPr>
            <p:spPr>
              <a:xfrm>
                <a:off x="5224680" y="3823920"/>
                <a:ext cx="566640" cy="1128960"/>
              </a:xfrm>
              <a:custGeom>
                <a:avLst/>
                <a:gdLst/>
                <a:ahLst/>
                <a:rect l="l" t="t" r="r" b="b"/>
                <a:pathLst>
                  <a:path w="566382" h="1129352">
                    <a:moveTo>
                      <a:pt x="0" y="0"/>
                    </a:moveTo>
                    <a:cubicBezTo>
                      <a:pt x="152400" y="381000"/>
                      <a:pt x="413982" y="748352"/>
                      <a:pt x="566382" y="1129352"/>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1035"/>
              <p:cNvSpPr/>
              <p:nvPr/>
            </p:nvSpPr>
            <p:spPr>
              <a:xfrm>
                <a:off x="5105520" y="4800240"/>
                <a:ext cx="2433600" cy="123984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Обучение</a:t>
                </a:r>
                <a:endParaRPr b="0" lang="en-US" sz="2300" spc="-1" strike="noStrike">
                  <a:solidFill>
                    <a:srgbClr val="000000"/>
                  </a:solidFill>
                  <a:latin typeface="Arial"/>
                </a:endParaRPr>
              </a:p>
            </p:txBody>
          </p:sp>
          <p:sp>
            <p:nvSpPr>
              <p:cNvPr id="227" name="_s1036"/>
              <p:cNvSpPr/>
              <p:nvPr/>
            </p:nvSpPr>
            <p:spPr>
              <a:xfrm flipV="1">
                <a:off x="5720040" y="2832840"/>
                <a:ext cx="804960" cy="291960"/>
              </a:xfrm>
              <a:custGeom>
                <a:avLst/>
                <a:gdLst/>
                <a:ahLst/>
                <a:rect l="l" t="t" r="r" b="b"/>
                <a:pathLst>
                  <a:path w="804277" h="292848">
                    <a:moveTo>
                      <a:pt x="0" y="0"/>
                    </a:moveTo>
                    <a:cubicBezTo>
                      <a:pt x="309033" y="115888"/>
                      <a:pt x="495244" y="176960"/>
                      <a:pt x="804277" y="292848"/>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1037"/>
              <p:cNvSpPr/>
              <p:nvPr/>
            </p:nvSpPr>
            <p:spPr>
              <a:xfrm>
                <a:off x="6096240" y="3581280"/>
                <a:ext cx="27496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Инструктаж</a:t>
                </a:r>
                <a:endParaRPr b="0" lang="en-US" sz="2300" spc="-1" strike="noStrike">
                  <a:solidFill>
                    <a:srgbClr val="000000"/>
                  </a:solidFill>
                  <a:latin typeface="Arial"/>
                </a:endParaRPr>
              </a:p>
            </p:txBody>
          </p:sp>
          <p:sp>
            <p:nvSpPr>
              <p:cNvPr id="229" name="_s1038"/>
              <p:cNvSpPr/>
              <p:nvPr/>
            </p:nvSpPr>
            <p:spPr>
              <a:xfrm flipV="1">
                <a:off x="4800960" y="1582560"/>
                <a:ext cx="893520" cy="1084320"/>
              </a:xfrm>
              <a:custGeom>
                <a:avLst/>
                <a:gdLst/>
                <a:ahLst/>
                <a:rect l="l" t="t" r="r" b="b"/>
                <a:pathLst>
                  <a:path w="893928" h="1083859">
                    <a:moveTo>
                      <a:pt x="0" y="0"/>
                    </a:moveTo>
                    <a:cubicBezTo>
                      <a:pt x="152400" y="279400"/>
                      <a:pt x="741528" y="804459"/>
                      <a:pt x="893928" y="1083859"/>
                    </a:cubicBezTo>
                  </a:path>
                </a:pathLst>
              </a:custGeom>
              <a:noFill/>
              <a:ln w="57240">
                <a:solidFill>
                  <a:srgbClr val="000099"/>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1039"/>
              <p:cNvSpPr/>
              <p:nvPr/>
            </p:nvSpPr>
            <p:spPr>
              <a:xfrm>
                <a:off x="6013800" y="1904760"/>
                <a:ext cx="2977920" cy="131760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Должностные инструкции</a:t>
                </a:r>
                <a:endParaRPr b="0" lang="en-US" sz="2300" spc="-1" strike="noStrike">
                  <a:solidFill>
                    <a:srgbClr val="000000"/>
                  </a:solidFill>
                  <a:latin typeface="Arial"/>
                </a:endParaRPr>
              </a:p>
            </p:txBody>
          </p:sp>
          <p:sp>
            <p:nvSpPr>
              <p:cNvPr id="231" name="_s1040"/>
              <p:cNvSpPr/>
              <p:nvPr/>
            </p:nvSpPr>
            <p:spPr>
              <a:xfrm>
                <a:off x="3048120" y="2666880"/>
                <a:ext cx="3314880" cy="1385640"/>
              </a:xfrm>
              <a:prstGeom prst="ellipse">
                <a:avLst/>
              </a:prstGeom>
              <a:solidFill>
                <a:srgbClr val="000099"/>
              </a:solidFill>
              <a:ln w="57240">
                <a:solidFill>
                  <a:srgbClr val="ffff00"/>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cc"/>
                    </a:solidFill>
                    <a:latin typeface="Arial"/>
                  </a:rPr>
                  <a:t>Управление персоналом</a:t>
                </a:r>
                <a:endParaRPr b="0" lang="en-US" sz="2800" spc="-1" strike="noStrike">
                  <a:solidFill>
                    <a:srgbClr val="000000"/>
                  </a:solidFill>
                  <a:latin typeface="Arial"/>
                </a:endParaRPr>
              </a:p>
            </p:txBody>
          </p:sp>
          <p:sp>
            <p:nvSpPr>
              <p:cNvPr id="232" name="Line 17"/>
              <p:cNvSpPr/>
              <p:nvPr/>
            </p:nvSpPr>
            <p:spPr>
              <a:xfrm flipH="1" flipV="1">
                <a:off x="2819160" y="2814120"/>
                <a:ext cx="546120" cy="268200"/>
              </a:xfrm>
              <a:prstGeom prst="line">
                <a:avLst/>
              </a:prstGeom>
              <a:ln w="5724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3" name="Line 18"/>
              <p:cNvSpPr/>
              <p:nvPr/>
            </p:nvSpPr>
            <p:spPr>
              <a:xfrm>
                <a:off x="5943960" y="3377880"/>
                <a:ext cx="228600" cy="76320"/>
              </a:xfrm>
              <a:prstGeom prst="line">
                <a:avLst/>
              </a:prstGeom>
              <a:ln w="38160">
                <a:solidFill>
                  <a:srgbClr val="0000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grpSp>
        <p:sp>
          <p:nvSpPr>
            <p:cNvPr id="234" name="Oval 38"/>
            <p:cNvSpPr/>
            <p:nvPr/>
          </p:nvSpPr>
          <p:spPr>
            <a:xfrm>
              <a:off x="1365120" y="457200"/>
              <a:ext cx="3130560" cy="167652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Число сотрудников соответствует рабочей нагрузке</a:t>
              </a:r>
              <a:endParaRPr b="0" lang="en-US" sz="2300" spc="-1" strike="noStrike">
                <a:solidFill>
                  <a:srgbClr val="000000"/>
                </a:solidFill>
                <a:latin typeface="Arial"/>
              </a:endParaRPr>
            </a:p>
          </p:txBody>
        </p:sp>
        <p:sp>
          <p:nvSpPr>
            <p:cNvPr id="235" name="_s1037"/>
            <p:cNvSpPr/>
            <p:nvPr/>
          </p:nvSpPr>
          <p:spPr>
            <a:xfrm>
              <a:off x="4800600" y="666720"/>
              <a:ext cx="3124080" cy="1162080"/>
            </a:xfrm>
            <a:prstGeom prst="ellipse">
              <a:avLst/>
            </a:prstGeom>
            <a:solidFill>
              <a:srgbClr val="000099"/>
            </a:solidFill>
            <a:ln w="38160">
              <a:solidFill>
                <a:srgbClr val="000099"/>
              </a:solidFill>
              <a:miter/>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300" spc="-1" strike="noStrike">
                  <a:solidFill>
                    <a:srgbClr val="ffff00"/>
                  </a:solidFill>
                  <a:latin typeface="Arial"/>
                </a:rPr>
                <a:t>Квалификация</a:t>
              </a:r>
              <a:endParaRPr b="0" lang="en-US" sz="23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7d"/>
                </a:solidFill>
                <a:latin typeface="Verdana"/>
              </a:rPr>
              <a:t>Мотивация сотрудников </a:t>
            </a:r>
            <a:r>
              <a:rPr b="0" lang="ru-RU" sz="3600" spc="-1" strike="noStrike">
                <a:solidFill>
                  <a:srgbClr val="00007d"/>
                </a:solidFill>
                <a:latin typeface="Verdana"/>
              </a:rPr>
              <a:t>повышает их интерес к работе</a:t>
            </a:r>
            <a:endParaRPr b="0" lang="en-US" sz="3600" spc="-1" strike="noStrike">
              <a:solidFill>
                <a:srgbClr val="00007d"/>
              </a:solidFill>
              <a:latin typeface="Verdana"/>
            </a:endParaRPr>
          </a:p>
        </p:txBody>
      </p:sp>
      <p:sp>
        <p:nvSpPr>
          <p:cNvPr id="237" name="Text Box 3"/>
          <p:cNvSpPr/>
          <p:nvPr/>
        </p:nvSpPr>
        <p:spPr>
          <a:xfrm>
            <a:off x="388800" y="1695600"/>
            <a:ext cx="4259520" cy="43578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охвала</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изнание</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премии</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льг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Verdana"/>
              </a:rPr>
              <a:t>гибкий график работы</a:t>
            </a:r>
            <a:endParaRPr b="0" lang="en-US" sz="3200" spc="-1" strike="noStrike">
              <a:solidFill>
                <a:srgbClr val="000000"/>
              </a:solidFill>
              <a:latin typeface="Arial"/>
            </a:endParaRPr>
          </a:p>
          <a:p>
            <a:pPr marL="355680" indent="-355680">
              <a:lnSpc>
                <a:spcPct val="125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Arial"/>
            </a:endParaRPr>
          </a:p>
        </p:txBody>
      </p:sp>
      <p:sp>
        <p:nvSpPr>
          <p:cNvPr id="238" name="Text Box 4"/>
          <p:cNvSpPr/>
          <p:nvPr/>
        </p:nvSpPr>
        <p:spPr>
          <a:xfrm>
            <a:off x="6691320" y="2695680"/>
            <a:ext cx="22096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9" name="Picture 5" descr="MPj04011210000[1]"/>
          <p:cNvPicPr/>
          <p:nvPr/>
        </p:nvPicPr>
        <p:blipFill>
          <a:blip r:embed="rId1"/>
          <a:stretch/>
        </p:blipFill>
        <p:spPr>
          <a:xfrm>
            <a:off x="4237200" y="1752480"/>
            <a:ext cx="2620800" cy="3276720"/>
          </a:xfrm>
          <a:prstGeom prst="rect">
            <a:avLst/>
          </a:prstGeom>
          <a:ln w="38160">
            <a:solidFill>
              <a:srgbClr val="000000"/>
            </a:solidFill>
            <a:miter/>
          </a:ln>
        </p:spPr>
      </p:pic>
      <p:pic>
        <p:nvPicPr>
          <p:cNvPr id="240" name="Picture 6" descr="bag_of_money"/>
          <p:cNvPicPr/>
          <p:nvPr/>
        </p:nvPicPr>
        <p:blipFill>
          <a:blip r:embed="rId2"/>
          <a:stretch/>
        </p:blipFill>
        <p:spPr>
          <a:xfrm>
            <a:off x="6858000" y="1538280"/>
            <a:ext cx="2071800" cy="2652840"/>
          </a:xfrm>
          <a:prstGeom prst="rect">
            <a:avLst/>
          </a:prstGeom>
          <a:ln w="0">
            <a:noFill/>
          </a:ln>
        </p:spPr>
      </p:pic>
      <p:pic>
        <p:nvPicPr>
          <p:cNvPr id="241" name="Picture 7" descr="j0383264"/>
          <p:cNvPicPr/>
          <p:nvPr/>
        </p:nvPicPr>
        <p:blipFill>
          <a:blip r:embed="rId3"/>
          <a:stretch/>
        </p:blipFill>
        <p:spPr>
          <a:xfrm>
            <a:off x="3726000" y="3000240"/>
            <a:ext cx="3665520" cy="3476880"/>
          </a:xfrm>
          <a:prstGeom prst="rect">
            <a:avLst/>
          </a:prstGeom>
          <a:ln w="0">
            <a:noFill/>
          </a:ln>
        </p:spPr>
      </p:pic>
      <p:pic>
        <p:nvPicPr>
          <p:cNvPr id="242" name="Picture 8" descr="j0301376"/>
          <p:cNvPicPr/>
          <p:nvPr/>
        </p:nvPicPr>
        <p:blipFill>
          <a:blip r:embed="rId4"/>
          <a:stretch/>
        </p:blipFill>
        <p:spPr>
          <a:xfrm>
            <a:off x="6553080" y="3784680"/>
            <a:ext cx="2338560" cy="2235240"/>
          </a:xfrm>
          <a:prstGeom prst="rect">
            <a:avLst/>
          </a:prstGeom>
          <a:ln w="0">
            <a:noFill/>
          </a:ln>
        </p:spPr>
      </p:pic>
      <p:sp>
        <p:nvSpPr>
          <p:cNvPr id="243" name="Slide Number Placeholder 8"/>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37F0-B387-44BF-A8A6-A734DE97B125}"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4" name="Footer Placeholder 9"/>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30492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7d"/>
                </a:solidFill>
                <a:latin typeface="Verdana"/>
              </a:rPr>
              <a:t>Должностные инструкции</a:t>
            </a:r>
            <a:endParaRPr b="0" lang="en-US" sz="3600" spc="-1" strike="noStrike">
              <a:solidFill>
                <a:srgbClr val="00007d"/>
              </a:solidFill>
              <a:latin typeface="Verdana"/>
            </a:endParaRPr>
          </a:p>
        </p:txBody>
      </p:sp>
      <p:sp>
        <p:nvSpPr>
          <p:cNvPr id="246" name="Text Box 3"/>
          <p:cNvSpPr/>
          <p:nvPr/>
        </p:nvSpPr>
        <p:spPr>
          <a:xfrm>
            <a:off x="609480" y="1328760"/>
            <a:ext cx="7925040" cy="4691160"/>
          </a:xfrm>
          <a:prstGeom prst="rect">
            <a:avLst/>
          </a:prstGeom>
          <a:solidFill>
            <a:srgbClr val="000099"/>
          </a:solidFill>
          <a:ln w="0">
            <a:noFill/>
          </a:ln>
        </p:spPr>
        <p:style>
          <a:lnRef idx="0"/>
          <a:fillRef idx="0"/>
          <a:effectRef idx="0"/>
          <a:fontRef idx="minor"/>
        </p:style>
        <p:txBody>
          <a:bodyPr lIns="90000" rIns="90000" tIns="46800" bIns="46800" anchor="ctr">
            <a:noAutofit/>
          </a:bodyPr>
          <a:p>
            <a:pPr marL="177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Verdana"/>
              </a:rPr>
              <a:t>«Руководство лабораторий должно иметь должностные  инструкции, которые определяют квалификацию и обязанности для каждого сотрудника</a:t>
            </a:r>
            <a:r>
              <a:rPr b="1" lang="en-US" sz="3200" spc="-1" strike="noStrike">
                <a:solidFill>
                  <a:srgbClr val="ffff00"/>
                </a:solidFill>
                <a:latin typeface="Verdana"/>
              </a:rPr>
              <a:t>.”</a:t>
            </a:r>
            <a:endParaRPr b="0" lang="en-US" sz="3200" spc="-1" strike="noStrike">
              <a:solidFill>
                <a:srgbClr val="000000"/>
              </a:solidFill>
              <a:latin typeface="Arial"/>
            </a:endParaRPr>
          </a:p>
          <a:p>
            <a:pPr marL="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 </a:t>
            </a:r>
            <a:br>
              <a:rPr sz="3200"/>
            </a:br>
            <a:r>
              <a:rPr b="1" lang="en-US" sz="2800" spc="-1" strike="noStrike">
                <a:solidFill>
                  <a:srgbClr val="ffff00"/>
                </a:solidFill>
                <a:latin typeface="Verdana"/>
              </a:rPr>
              <a:t>                              </a:t>
            </a:r>
            <a:r>
              <a:rPr b="1" lang="ru-RU" sz="2800" spc="-1" strike="noStrike">
                <a:solidFill>
                  <a:srgbClr val="ffff00"/>
                </a:solidFill>
                <a:latin typeface="Verdana"/>
              </a:rPr>
              <a:t>ИСО</a:t>
            </a:r>
            <a:r>
              <a:rPr b="1" lang="en-US" sz="2800" spc="-1" strike="noStrike">
                <a:solidFill>
                  <a:srgbClr val="ffff00"/>
                </a:solidFill>
                <a:latin typeface="Verdana"/>
              </a:rPr>
              <a:t> 15189:2007</a:t>
            </a:r>
            <a:endParaRPr b="0" lang="en-US" sz="2800" spc="-1" strike="noStrike">
              <a:solidFill>
                <a:srgbClr val="000000"/>
              </a:solidFill>
              <a:latin typeface="Arial"/>
            </a:endParaRPr>
          </a:p>
        </p:txBody>
      </p:sp>
      <p:sp>
        <p:nvSpPr>
          <p:cNvPr id="247" name="Text Box 4"/>
          <p:cNvSpPr/>
          <p:nvPr/>
        </p:nvSpPr>
        <p:spPr>
          <a:xfrm>
            <a:off x="5257800" y="4191120"/>
            <a:ext cx="1523880" cy="3664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Slide Number Placeholder 4"/>
          <p:cNvSpPr/>
          <p:nvPr/>
        </p:nvSpPr>
        <p:spPr>
          <a:xfrm>
            <a:off x="7924680" y="6404400"/>
            <a:ext cx="838440" cy="3013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98D53-2B14-4B9D-86CD-BBCC666DCF5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9" name="Footer Placeholder 5"/>
          <p:cNvSpPr/>
          <p:nvPr/>
        </p:nvSpPr>
        <p:spPr>
          <a:xfrm>
            <a:off x="457200" y="6429240"/>
            <a:ext cx="2895480" cy="276480"/>
          </a:xfrm>
          <a:prstGeom prst="rect">
            <a:avLst/>
          </a:prstGeom>
          <a:noFill/>
          <a:ln w="0">
            <a:noFill/>
          </a:ln>
        </p:spPr>
        <p:style>
          <a:lnRef idx="0"/>
          <a:fillRef idx="0"/>
          <a:effectRef idx="0"/>
          <a:fontRef idx="minor"/>
        </p:style>
        <p:txBody>
          <a:bodyPr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Arial"/>
              </a:rPr>
              <a:t>Персонал – Тема 12</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Olga</cp:lastModifiedBy>
  <dcterms:modified xsi:type="dcterms:W3CDTF">2013-05-17T12:44:22Z</dcterms:modified>
  <cp:revision>331</cp:revision>
  <dc:subject/>
  <dc:title>Slide 1</dc:title>
</cp:coreProperties>
</file>